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120-363D-4793-A2CC-A6A031EA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553-92D3-4ABC-A51A-5532C3C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731-C376-40A3-8343-1A76303A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359-BFAD-423A-9D41-83D507DC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A68-422A-4EC6-BB04-FC7AC1E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049-B678-455F-B9E4-ED5955C0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892-7DEF-4360-8758-E119ED0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D4C-7DBD-415A-A91D-80DF932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DA8-F2E1-47A1-A8FD-4F2794D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5A6-FECA-4357-9B1A-C677035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3B4-1618-4183-9D97-D620808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326-A4E2-49E8-8E00-D270AFA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BC4C-C5CB-4AB8-80EF-7E9D1850A7E7}" type="slidenum">
              <a:rPr b="0" lang="es-MX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2997000"/>
            <a:ext cx="82296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PROGRAMA PRESUPUESTAL 0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REDUCCIÓN DE LA VULNERABILIDAD Y ATENCIÓN DE EMERGENCIAS Y DESAS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CuadroTexto"/>
          <p:cNvSpPr/>
          <p:nvPr/>
        </p:nvSpPr>
        <p:spPr>
          <a:xfrm>
            <a:off x="133200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OGDN-MI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4 Imagen" descr="OGDN"/>
          <p:cNvPicPr/>
          <p:nvPr/>
        </p:nvPicPr>
        <p:blipFill>
          <a:blip r:embed="rId1"/>
          <a:srcRect l="0" t="0" r="45218" b="-2829"/>
          <a:stretch/>
        </p:blipFill>
        <p:spPr>
          <a:xfrm>
            <a:off x="6099120" y="166680"/>
            <a:ext cx="287964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ibenites\Desktop\Imagenes para Expos\images3F62M8ZP.jpg"/>
          <p:cNvPicPr/>
          <p:nvPr/>
        </p:nvPicPr>
        <p:blipFill>
          <a:blip r:embed="rId2"/>
          <a:stretch/>
        </p:blipFill>
        <p:spPr>
          <a:xfrm>
            <a:off x="2340000" y="1125360"/>
            <a:ext cx="1871640" cy="181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encrypted-tbn0.gstatic.com/images?q=tbn:ANd9GcRDDg4rFsnVf4SyE1JEffYCv9pfrAH5eEjIOlDJqbtJoGOKWWV4Ig"/>
          <p:cNvPicPr/>
          <p:nvPr/>
        </p:nvPicPr>
        <p:blipFill>
          <a:blip r:embed="rId3"/>
          <a:stretch/>
        </p:blipFill>
        <p:spPr>
          <a:xfrm>
            <a:off x="468360" y="112536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ibenites\Desktop\Imagenes para Expos\images04P16510.jpg"/>
          <p:cNvPicPr/>
          <p:nvPr/>
        </p:nvPicPr>
        <p:blipFill>
          <a:blip r:embed="rId4"/>
          <a:stretch/>
        </p:blipFill>
        <p:spPr>
          <a:xfrm>
            <a:off x="6227640" y="1125360"/>
            <a:ext cx="2016360" cy="177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ibenites\Desktop\Imagenes para Expos\imagesMMMYAJ3A.jpg"/>
          <p:cNvPicPr/>
          <p:nvPr/>
        </p:nvPicPr>
        <p:blipFill>
          <a:blip r:embed="rId5"/>
          <a:stretch/>
        </p:blipFill>
        <p:spPr>
          <a:xfrm>
            <a:off x="4211640" y="1125360"/>
            <a:ext cx="2089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2 Marcador de contenido"/>
          <p:cNvSpPr/>
          <p:nvPr/>
        </p:nvSpPr>
        <p:spPr>
          <a:xfrm>
            <a:off x="209520" y="189000"/>
            <a:ext cx="875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PACIDAD DE EXPANSIÓN ASISTE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N EES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Marcador de contenido"/>
          <p:cNvSpPr/>
          <p:nvPr/>
        </p:nvSpPr>
        <p:spPr>
          <a:xfrm>
            <a:off x="324000" y="3573360"/>
            <a:ext cx="540036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Meta Física:  E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Genérica y Especific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3.199.199   Carp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.3. 2  4. 1  1,   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Mejoramiento y Acondicionamiento  de los ambientes con modulo prefabri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.6.12.13      Módulo Prefabricado (drywall-yeso, fibrocemento-superbooard,  aluminio y acero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on poliuretano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.6.32.41     Camilla de Metal Pleg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3.18.21       Material, insumos, instrumental y accesorios médicos, quirúrgicos, odontológicos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de Laboratorio. odontológicos y de laborator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9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016000" cy="15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2" descr="C:\Users\ivon\Desktop\Imagenes OGDN\images.jpg"/>
          <p:cNvPicPr/>
          <p:nvPr/>
        </p:nvPicPr>
        <p:blipFill>
          <a:blip r:embed="rId2"/>
          <a:stretch/>
        </p:blipFill>
        <p:spPr>
          <a:xfrm>
            <a:off x="6012000" y="4221000"/>
            <a:ext cx="298764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6" name=""/>
          <p:cNvGraphicFramePr/>
          <p:nvPr/>
        </p:nvGraphicFramePr>
        <p:xfrm>
          <a:off x="324000" y="1844640"/>
          <a:ext cx="5400360" cy="1600200"/>
        </p:xfrm>
        <a:graphic>
          <a:graphicData uri="http://schemas.openxmlformats.org/drawingml/2006/table">
            <a:tbl>
              <a:tblPr/>
              <a:tblGrid>
                <a:gridCol w="4392360"/>
                <a:gridCol w="1008000"/>
              </a:tblGrid>
              <a:tr h="43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TDR y Expedientes  para  la implementación de 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ción de aéreas de expansión asistencial en el E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ción de las aéreas de expansión asistencial en el E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24000" y="1268280"/>
          <a:ext cx="5400360" cy="432000"/>
        </p:xfrm>
        <a:graphic>
          <a:graphicData uri="http://schemas.openxmlformats.org/drawingml/2006/table">
            <a:tbl>
              <a:tblPr/>
              <a:tblGrid>
                <a:gridCol w="4392360"/>
                <a:gridCol w="1008000"/>
              </a:tblGrid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ea de la Activ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6" descr="OGA"/>
          <p:cNvPicPr/>
          <p:nvPr/>
        </p:nvPicPr>
        <p:blipFill>
          <a:blip r:embed="rId3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>
            <a:off x="250920" y="189000"/>
            <a:ext cx="8780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2.  OFERTA COMPLEMENTARIA ORGAN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FRENTE A EMERGENCIAS Y DESA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Marcador de contenido"/>
          <p:cNvSpPr/>
          <p:nvPr/>
        </p:nvSpPr>
        <p:spPr>
          <a:xfrm>
            <a:off x="324000" y="4508640"/>
            <a:ext cx="611964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Meta Física:  Aten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Genérica y Especifica de Gasto que contribuye al cumplimiento de la  meta Física : </a:t>
            </a:r>
            <a:r>
              <a:rPr b="1" lang="es-ES" sz="1100" spc="-1" strike="noStrike">
                <a:solidFill>
                  <a:srgbClr val="ff0000"/>
                </a:solidFill>
                <a:latin typeface="Calibri"/>
              </a:rPr>
              <a:t>ADICIONAL 2015 SEGÚN RANQU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3.199.199   Carpas de Lona pesad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.6.32.41      Camilla de Metal Pleg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3.18.21        Material, insumos, instrumental y accesorios médicos, quirúrgicos, odontológicos y de Lab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3.28.11        CAS  y  Contribuciones a EsSalud de C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2.6. 3 1. 11   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Vehícul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4 Imagen" descr="IMG_4178.jpg"/>
          <p:cNvPicPr/>
          <p:nvPr/>
        </p:nvPicPr>
        <p:blipFill>
          <a:blip r:embed="rId1"/>
          <a:stretch/>
        </p:blipFill>
        <p:spPr>
          <a:xfrm>
            <a:off x="6948360" y="5157720"/>
            <a:ext cx="2022480" cy="15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4 CuadroTexto"/>
          <p:cNvSpPr/>
          <p:nvPr/>
        </p:nvSpPr>
        <p:spPr>
          <a:xfrm>
            <a:off x="6948360" y="1125360"/>
            <a:ext cx="2016360" cy="703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OFERTA COMPLEMENTARIA  ORGANIZ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CON CARPAS EN ZONAS INUND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5 Imagen" descr="IMG_4180.jpg"/>
          <p:cNvPicPr/>
          <p:nvPr/>
        </p:nvPicPr>
        <p:blipFill>
          <a:blip r:embed="rId2"/>
          <a:stretch/>
        </p:blipFill>
        <p:spPr>
          <a:xfrm>
            <a:off x="6948360" y="3573360"/>
            <a:ext cx="2016360" cy="15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12" descr="DSC02057"/>
          <p:cNvPicPr/>
          <p:nvPr/>
        </p:nvPicPr>
        <p:blipFill>
          <a:blip r:embed="rId3"/>
          <a:stretch/>
        </p:blipFill>
        <p:spPr>
          <a:xfrm>
            <a:off x="6948360" y="1989000"/>
            <a:ext cx="2016360" cy="15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95" name=""/>
          <p:cNvGraphicFramePr/>
          <p:nvPr/>
        </p:nvGraphicFramePr>
        <p:xfrm>
          <a:off x="324000" y="1916280"/>
          <a:ext cx="6048360" cy="2342880"/>
        </p:xfrm>
        <a:graphic>
          <a:graphicData uri="http://schemas.openxmlformats.org/drawingml/2006/table">
            <a:tbl>
              <a:tblPr/>
              <a:tblGrid>
                <a:gridCol w="4824360"/>
                <a:gridCol w="1224000"/>
              </a:tblGrid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ción de la necesidad de oferta complementaria según nivel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TDR y Expedientes  para Implementación de la activida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quipamiento , mantenimien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ción de salud en la oferta complemen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24000" y="1341360"/>
          <a:ext cx="6048360" cy="432000"/>
        </p:xfrm>
        <a:graphic>
          <a:graphicData uri="http://schemas.openxmlformats.org/drawingml/2006/table">
            <a:tbl>
              <a:tblPr/>
              <a:tblGrid>
                <a:gridCol w="4824360"/>
                <a:gridCol w="1224000"/>
              </a:tblGrid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ea de la Activ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6" descr="OGA"/>
          <p:cNvPicPr/>
          <p:nvPr/>
        </p:nvPicPr>
        <p:blipFill>
          <a:blip r:embed="rId4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pakistan"/>
          <p:cNvPicPr/>
          <p:nvPr/>
        </p:nvPicPr>
        <p:blipFill>
          <a:blip r:embed="rId1"/>
          <a:stretch/>
        </p:blipFill>
        <p:spPr>
          <a:xfrm>
            <a:off x="7380360" y="1484280"/>
            <a:ext cx="151272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2" descr="NAIROBI KENIA ATEN TERR 100898"/>
          <p:cNvPicPr/>
          <p:nvPr/>
        </p:nvPicPr>
        <p:blipFill>
          <a:blip r:embed="rId2"/>
          <a:stretch/>
        </p:blipFill>
        <p:spPr>
          <a:xfrm>
            <a:off x="4500720" y="4292640"/>
            <a:ext cx="17254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AutoShape 5"/>
          <p:cNvSpPr/>
          <p:nvPr/>
        </p:nvSpPr>
        <p:spPr>
          <a:xfrm>
            <a:off x="6804000" y="2060640"/>
            <a:ext cx="500040" cy="503280"/>
          </a:xfrm>
          <a:prstGeom prst="rightArrow">
            <a:avLst>
              <a:gd name="adj1" fmla="val 50000"/>
              <a:gd name="adj2" fmla="val 32176"/>
            </a:avLst>
          </a:prstGeom>
          <a:solidFill>
            <a:srgbClr val="7f7f7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Mecanismo focal, réplicas y área de ruptura. Por H. Tavera, I. Bernal y H. Salas."/>
          <p:cNvPicPr/>
          <p:nvPr/>
        </p:nvPicPr>
        <p:blipFill>
          <a:blip r:embed="rId3"/>
          <a:stretch/>
        </p:blipFill>
        <p:spPr>
          <a:xfrm>
            <a:off x="6875640" y="3716280"/>
            <a:ext cx="199044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 Box 7"/>
          <p:cNvSpPr/>
          <p:nvPr/>
        </p:nvSpPr>
        <p:spPr>
          <a:xfrm>
            <a:off x="0" y="333360"/>
            <a:ext cx="8780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TENCIÓN DE SALUD Y MOVILIZACIÓN DE BRIG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 algn="ctr">
              <a:lnSpc>
                <a:spcPct val="100000"/>
              </a:lnSpc>
              <a:tabLst>
                <a:tab algn="l" pos="0"/>
                <a:tab algn="l" pos="536400"/>
                <a:tab algn="l" pos="179712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RENTE A EMERGENCIAS Y DESAST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6 Marcador de contenido"/>
          <p:cNvSpPr/>
          <p:nvPr/>
        </p:nvSpPr>
        <p:spPr>
          <a:xfrm>
            <a:off x="324000" y="4292640"/>
            <a:ext cx="360036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Meta Física: 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Aten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Genérica y Especifica de Gast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2.3. 11. 11  Alimentos Frí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.3. 21. 22  Viátic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2.3. 12. 13  Vestuar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2.3.21.21    Pasajes y Gastos de Trans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ff0000"/>
                </a:solidFill>
                <a:latin typeface="Arial"/>
              </a:rPr>
              <a:t>ADICIONAL 2014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Arial"/>
              </a:rPr>
              <a:t>2.6.12.13      Módulo Prefabricado (drywall-yeso, fibrocemento-superbooard,  aluminio y acero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es-ES" sz="1100" spc="-1" strike="noStrike">
                <a:solidFill>
                  <a:srgbClr val="ff0000"/>
                </a:solidFill>
                <a:latin typeface="Arial"/>
              </a:rPr>
              <a:t>con poliuretano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0000"/>
                </a:solidFill>
                <a:latin typeface="Arial"/>
              </a:rPr>
              <a:t>2.6.32.41     Camilla de Metal Pleg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484280"/>
          <a:ext cx="4103640" cy="432000"/>
        </p:xfrm>
        <a:graphic>
          <a:graphicData uri="http://schemas.openxmlformats.org/drawingml/2006/table">
            <a:tbl>
              <a:tblPr/>
              <a:tblGrid>
                <a:gridCol w="3024000"/>
                <a:gridCol w="1079640"/>
              </a:tblGrid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ea de la Activ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24000" y="2133720"/>
          <a:ext cx="4103640" cy="1892160"/>
        </p:xfrm>
        <a:graphic>
          <a:graphicData uri="http://schemas.openxmlformats.org/drawingml/2006/table">
            <a:tbl>
              <a:tblPr/>
              <a:tblGrid>
                <a:gridCol w="3024000"/>
                <a:gridCol w="1079640"/>
              </a:tblGrid>
              <a:tr h="57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iento del brigadista (incluy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lizaci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quisición de medicamentos (kit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os auxilios) para la atención de salu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te a emergencias y desast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ción de salud por brig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1" descr="C:\Users\ibenites\Desktop\Imagenes para Expos\Brigadistas-de-la-Red-Lima-Ciudad1.jpg"/>
          <p:cNvPicPr/>
          <p:nvPr/>
        </p:nvPicPr>
        <p:blipFill>
          <a:blip r:embed="rId4"/>
          <a:stretch/>
        </p:blipFill>
        <p:spPr>
          <a:xfrm>
            <a:off x="4932360" y="1484280"/>
            <a:ext cx="1871640" cy="15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6 Flecha curvada hacia arriba"/>
          <p:cNvSpPr/>
          <p:nvPr/>
        </p:nvSpPr>
        <p:spPr>
          <a:xfrm rot="2958000">
            <a:off x="5595120" y="3931200"/>
            <a:ext cx="2186280" cy="1044720"/>
          </a:xfrm>
          <a:custGeom>
            <a:avLst/>
            <a:gdLst>
              <a:gd name="textAreaLeft" fmla="*/ 448560 w 2186280"/>
              <a:gd name="textAreaRight" fmla="*/ 1607040 w 218628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5" hR="21600" stAng="10800000" swAng="-5400000"/>
                <a:lnTo>
                  <a:pt x="11446" y="21600"/>
                </a:lnTo>
                <a:arcTo wR="8865" hR="21600" stAng="5400000" swAng="-3469438"/>
                <a:lnTo>
                  <a:pt x="21319" y="5400"/>
                </a:lnTo>
                <a:lnTo>
                  <a:pt x="19020" y="0"/>
                </a:lnTo>
                <a:lnTo>
                  <a:pt x="16158" y="5400"/>
                </a:lnTo>
                <a:lnTo>
                  <a:pt x="17448" y="5400"/>
                </a:lnTo>
                <a:arcTo wR="8865" hR="21600" stAng="1930562" swAng="3262089"/>
                <a:lnTo>
                  <a:pt x="10155" y="21370"/>
                </a:lnTo>
                <a:arcTo wR="8865" hR="21600" stAng="5607349" swAng="5192651"/>
                <a:close/>
              </a:path>
              <a:path fill="darkenLess" w="21600" h="21600">
                <a:moveTo>
                  <a:pt x="0" y="0"/>
                </a:moveTo>
                <a:arcTo wR="8865" hR="21600" stAng="10800000" swAng="-5400000"/>
                <a:lnTo>
                  <a:pt x="11446" y="21600"/>
                </a:lnTo>
                <a:arcTo wR="8865" hR="21600" stAng="5400000" swAng="207349"/>
                <a:lnTo>
                  <a:pt x="10155" y="21370"/>
                </a:lnTo>
                <a:arcTo wR="8865" hR="21600" stAng="5607349" swAng="5192651"/>
                <a:close/>
              </a:path>
            </a:pathLst>
          </a:cu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OGA"/>
          <p:cNvPicPr/>
          <p:nvPr/>
        </p:nvPicPr>
        <p:blipFill>
          <a:blip r:embed="rId5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3240" y="2572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PRODUCTO 04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Rectángulo redondeado"/>
          <p:cNvSpPr/>
          <p:nvPr/>
        </p:nvSpPr>
        <p:spPr>
          <a:xfrm>
            <a:off x="2050920" y="1773360"/>
            <a:ext cx="4883400" cy="1008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4.-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OBLACION CON PRACTICAS SEGURAS EN SALUD FRENTE A OCURRENCIA DE PELIGROS NA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Rectángulo redondeado"/>
          <p:cNvSpPr/>
          <p:nvPr/>
        </p:nvSpPr>
        <p:spPr>
          <a:xfrm>
            <a:off x="2050920" y="3141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.1.- Capacitación de Comunidades en habilidades para Reducir el Riesgo de daños de salud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2 Rectángulo redondeado"/>
          <p:cNvSpPr/>
          <p:nvPr/>
        </p:nvSpPr>
        <p:spPr>
          <a:xfrm>
            <a:off x="2050920" y="4365720"/>
            <a:ext cx="49690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2.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trenamiento de la Población  en Respuesta y Rehabilitación en salud frente a emergencias y desastre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3240" y="2349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PRODUCTO 05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Rectángulo redondeado"/>
          <p:cNvSpPr/>
          <p:nvPr/>
        </p:nvSpPr>
        <p:spPr>
          <a:xfrm>
            <a:off x="1979640" y="907920"/>
            <a:ext cx="5329080" cy="1008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5.-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NTIDADES PUBLICAS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GESTION DE RIESGO DE DESASTRE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US PROCESOS DE PLANIFICACION Y ADMNISTRACION PARA EL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8 Rectángulo redondeado"/>
          <p:cNvSpPr/>
          <p:nvPr/>
        </p:nvSpPr>
        <p:spPr>
          <a:xfrm>
            <a:off x="1979640" y="2133720"/>
            <a:ext cx="5329080" cy="8636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.1.- 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onitoreo, Supervisión y Evaluación de productos y actividades en G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2 Rectángulo redondeado"/>
          <p:cNvSpPr/>
          <p:nvPr/>
        </p:nvSpPr>
        <p:spPr>
          <a:xfrm>
            <a:off x="1979640" y="3284640"/>
            <a:ext cx="53290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5.2.-Desarrollo de Capacidades y Asistenc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Técnica en G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4 Rectángulo redondeado"/>
          <p:cNvSpPr/>
          <p:nvPr/>
        </p:nvSpPr>
        <p:spPr>
          <a:xfrm>
            <a:off x="1979640" y="4508640"/>
            <a:ext cx="5329080" cy="8650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5.3.- Desarrollo de Instrumentos Estratég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ara la G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971640"/>
            <a:ext cx="91915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CARTERA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3132000" cy="1571400"/>
          </a:xfrm>
          <a:prstGeom prst="rect">
            <a:avLst/>
          </a:prstGeom>
          <a:solidFill>
            <a:srgbClr val="6688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DIPLOMA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635280" y="189000"/>
          <a:ext cx="4537080" cy="6375240"/>
        </p:xfrm>
        <a:graphic>
          <a:graphicData uri="http://schemas.openxmlformats.org/drawingml/2006/table">
            <a:tbl>
              <a:tblPr/>
              <a:tblGrid>
                <a:gridCol w="2090880"/>
                <a:gridCol w="2446200"/>
              </a:tblGrid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R 068. AÑO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ZO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586,61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A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970,96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URIM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697,12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QUI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238,52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CUC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988,34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JA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400,51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857,04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ANCAVE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568,37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ANU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004,02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166,05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740,57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LIBERT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937,90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BAYEQ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624,44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R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244,13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RE DE D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419,59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QUEGU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433,61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551,61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205,40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725,35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MART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079,32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287,54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MB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270,45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AY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708,03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1,659,517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379,116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/. 29,744,23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773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Productos y Actividades PpR 068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2631" r="0" b="0"/>
          <a:stretch/>
        </p:blipFill>
        <p:spPr>
          <a:xfrm>
            <a:off x="357120" y="549360"/>
            <a:ext cx="857736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3 Rectángulo"/>
          <p:cNvSpPr/>
          <p:nvPr/>
        </p:nvSpPr>
        <p:spPr>
          <a:xfrm>
            <a:off x="1116000" y="907920"/>
            <a:ext cx="1584360" cy="59500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4932360" y="907920"/>
            <a:ext cx="2232000" cy="59500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OGA"/>
          <p:cNvPicPr/>
          <p:nvPr/>
        </p:nvPicPr>
        <p:blipFill>
          <a:blip r:embed="rId2"/>
          <a:srcRect l="0" t="0" r="44900" b="-6156"/>
          <a:stretch/>
        </p:blipFill>
        <p:spPr>
          <a:xfrm>
            <a:off x="7397640" y="42840"/>
            <a:ext cx="1692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6 Rectángulo"/>
          <p:cNvSpPr/>
          <p:nvPr/>
        </p:nvSpPr>
        <p:spPr>
          <a:xfrm>
            <a:off x="324000" y="549360"/>
            <a:ext cx="8569080" cy="630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771280" y="4508280"/>
            <a:ext cx="3754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Gracias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s://encrypted-tbn2.gstatic.com/images?q=tbn:ANd9GcTIBUav2K2NV0GcsYuUhBlGouhFLRUDJ9EIAu5xn0NOTr1dN67MTQ"/>
          <p:cNvPicPr/>
          <p:nvPr/>
        </p:nvPicPr>
        <p:blipFill>
          <a:blip r:embed="rId1"/>
          <a:stretch/>
        </p:blipFill>
        <p:spPr>
          <a:xfrm>
            <a:off x="5508720" y="620640"/>
            <a:ext cx="268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6" descr="C:\Users\ibenites\Desktop\Imagenes para Expos\images3F62M8ZP.jpg"/>
          <p:cNvPicPr/>
          <p:nvPr/>
        </p:nvPicPr>
        <p:blipFill>
          <a:blip r:embed="rId2"/>
          <a:stretch/>
        </p:blipFill>
        <p:spPr>
          <a:xfrm>
            <a:off x="5508720" y="2492280"/>
            <a:ext cx="2619360" cy="17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Picture 7" descr="C:\Users\ibenites\Desktop\Imagenes para Expos\1%20Nota%20de%20Prensa.jpg"/>
          <p:cNvPicPr/>
          <p:nvPr/>
        </p:nvPicPr>
        <p:blipFill>
          <a:blip r:embed="rId3"/>
          <a:stretch/>
        </p:blipFill>
        <p:spPr>
          <a:xfrm>
            <a:off x="755640" y="620640"/>
            <a:ext cx="244800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Picture 8" descr="C:\Users\ibenites\Desktop\Imagenes para Expos\images42RPHYHD.jpg"/>
          <p:cNvPicPr/>
          <p:nvPr/>
        </p:nvPicPr>
        <p:blipFill>
          <a:blip r:embed="rId4"/>
          <a:stretch/>
        </p:blipFill>
        <p:spPr>
          <a:xfrm>
            <a:off x="755640" y="2637000"/>
            <a:ext cx="252108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1628280"/>
            <a:ext cx="74678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5 PRODUCTOS </a:t>
            </a:r>
            <a:br>
              <a:rPr sz="6400"/>
            </a:b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14 ACTIVIDADES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284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6 Rectángulo redondeado"/>
          <p:cNvSpPr/>
          <p:nvPr/>
        </p:nvSpPr>
        <p:spPr>
          <a:xfrm>
            <a:off x="2340000" y="1268280"/>
            <a:ext cx="410508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1.- SERVICIOS ESENCIALES SEGUROS ANTE EMERGENCIAS Y DESAS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9 Rectángulo redondeado"/>
          <p:cNvSpPr/>
          <p:nvPr/>
        </p:nvSpPr>
        <p:spPr>
          <a:xfrm>
            <a:off x="2340000" y="2492280"/>
            <a:ext cx="4105080" cy="7192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1.1.-   Análisis de la Vulnerabilidad de los E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 redondeado"/>
          <p:cNvSpPr/>
          <p:nvPr/>
        </p:nvSpPr>
        <p:spPr>
          <a:xfrm>
            <a:off x="2340000" y="3645000"/>
            <a:ext cx="4105080" cy="6490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1.2.-   Seguridad Funcional de los E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1 Rectángulo redondeado"/>
          <p:cNvSpPr/>
          <p:nvPr/>
        </p:nvSpPr>
        <p:spPr>
          <a:xfrm>
            <a:off x="2413080" y="5084640"/>
            <a:ext cx="4032000" cy="8654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1.3. -   Seguridad Estructural  y No Estructural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de los E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Marcador de contenido"/>
          <p:cNvSpPr/>
          <p:nvPr/>
        </p:nvSpPr>
        <p:spPr>
          <a:xfrm>
            <a:off x="0" y="549360"/>
            <a:ext cx="882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3.  SEGURIDAD ESTRUCTURAL Y NO ESTRUCTURAL  DE LOS E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Marcador de contenido"/>
          <p:cNvSpPr/>
          <p:nvPr/>
        </p:nvSpPr>
        <p:spPr>
          <a:xfrm>
            <a:off x="250920" y="5445000"/>
            <a:ext cx="5905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Meta Física:  E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Genérica y Especifica de Gasto que contribuye al cumplimiento de la  meta Física (trazadora)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.3. 2  4. 1  1   Mantenimiento y Reparación, </a:t>
            </a:r>
            <a:r>
              <a:rPr b="0" lang="es-PE" sz="1000" spc="-1" strike="noStrike">
                <a:solidFill>
                  <a:srgbClr val="000000"/>
                </a:solidFill>
                <a:latin typeface="Calibri"/>
              </a:rPr>
              <a:t>Mejoramiento y Acondicionamiento de los amb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.3. 2  4. 1  5    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Mantenimiento preventivo y correctivo de equipos,  de calderos, ai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acondicionado, laboratorio, telecomunicación, radio y equipos bioméd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Equipos de líneas vitales: grupo electrógeno, radio UHF, calder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Users\ibenites\Desktop\Imagenes\imagesCA7ZATCO.jpg"/>
          <p:cNvPicPr/>
          <p:nvPr/>
        </p:nvPicPr>
        <p:blipFill>
          <a:blip r:embed="rId1"/>
          <a:stretch/>
        </p:blipFill>
        <p:spPr>
          <a:xfrm>
            <a:off x="6300720" y="3573360"/>
            <a:ext cx="1295640" cy="14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2" descr="C:\Users\ibenites\Desktop\Imagenes\imagesCA71VBBC.jpg"/>
          <p:cNvPicPr/>
          <p:nvPr/>
        </p:nvPicPr>
        <p:blipFill>
          <a:blip r:embed="rId2"/>
          <a:stretch/>
        </p:blipFill>
        <p:spPr>
          <a:xfrm>
            <a:off x="7740720" y="3573360"/>
            <a:ext cx="1224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3" descr="C:\Users\ibenites\Desktop\Imagenes\imagesCAW8L5TI.jpg"/>
          <p:cNvPicPr/>
          <p:nvPr/>
        </p:nvPicPr>
        <p:blipFill>
          <a:blip r:embed="rId3"/>
          <a:stretch/>
        </p:blipFill>
        <p:spPr>
          <a:xfrm>
            <a:off x="7740720" y="5157720"/>
            <a:ext cx="1224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66" name=""/>
          <p:cNvGraphicFramePr/>
          <p:nvPr/>
        </p:nvGraphicFramePr>
        <p:xfrm>
          <a:off x="250920" y="981000"/>
          <a:ext cx="5905440" cy="287280"/>
        </p:xfrm>
        <a:graphic>
          <a:graphicData uri="http://schemas.openxmlformats.org/drawingml/2006/table">
            <a:tbl>
              <a:tblPr/>
              <a:tblGrid>
                <a:gridCol w="5113080"/>
                <a:gridCol w="79236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ea de la Activ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1341360"/>
          <a:ext cx="5905440" cy="3900600"/>
        </p:xfrm>
        <a:graphic>
          <a:graphicData uri="http://schemas.openxmlformats.org/drawingml/2006/table">
            <a:tbl>
              <a:tblPr/>
              <a:tblGrid>
                <a:gridCol w="5113080"/>
                <a:gridCol w="792360"/>
              </a:tblGrid>
              <a:tr h="1526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elementos estructurales del EE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Mantenimiento y Reforzamiento estructural de los servicios crí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Mantenimiento de muros exteriores y muros interiores  de los E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1526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elementos no estructurales del EE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antenimiento de las líneas vital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antenimiento de los sistemas de calefacción, ventilación, aire acondicionado y/o agu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ente, principalmente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servicios crí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526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mobiliario, equipos de laborator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Reforzamiento (anclaje) de mobiliario, equipos médicos Y de laboratorio utilizados en l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s crít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antenimiento de mobiliario y equipos médicos, de laboratorio y suministros utilizados 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s crítico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zamiento No estructural Arquitect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rotección de pisos  y rampas con material antidesliz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arga o recarga de extint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edidas de seguridad de los componentes envolventes del Edific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Puerta y Ventanas: Laminado y Adquisición de vidrio templ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6" descr="C:\Users\ibenites\Desktop\Imagenes\imagesCAXC31Y2.jpg"/>
          <p:cNvPicPr/>
          <p:nvPr/>
        </p:nvPicPr>
        <p:blipFill>
          <a:blip r:embed="rId4"/>
          <a:stretch/>
        </p:blipFill>
        <p:spPr>
          <a:xfrm>
            <a:off x="6300720" y="5157720"/>
            <a:ext cx="129564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6" descr="OGA"/>
          <p:cNvPicPr/>
          <p:nvPr/>
        </p:nvPicPr>
        <p:blipFill>
          <a:blip r:embed="rId5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2572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PRODUCTO 2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Rectángulo redondeado"/>
          <p:cNvSpPr/>
          <p:nvPr/>
        </p:nvSpPr>
        <p:spPr>
          <a:xfrm>
            <a:off x="1979640" y="836640"/>
            <a:ext cx="4881600" cy="1008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Calibri"/>
              </a:rPr>
              <a:t>2.- POBLACIÓN CON MONITOREO, VIGILANCIA Y CONTROL DE DAÑOS A LA SALUD FRENTE A EMERGENCIAS Y DESAS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Rectángulo redondeado"/>
          <p:cNvSpPr/>
          <p:nvPr/>
        </p:nvSpPr>
        <p:spPr>
          <a:xfrm>
            <a:off x="1908000" y="2060640"/>
            <a:ext cx="5040360" cy="15127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2.1.- Implementación de Centros de Operaciones de Emergencias de salud para el análisis de información y toma de decisiones ante situaciones de emergencias y desas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4 Rectángulo redondeado"/>
          <p:cNvSpPr/>
          <p:nvPr/>
        </p:nvSpPr>
        <p:spPr>
          <a:xfrm>
            <a:off x="1979640" y="3789360"/>
            <a:ext cx="4954680" cy="10796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2.2.-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rganización e implementación de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imulacro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frente a emergencias y desas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6 Rectángulo redondeado"/>
          <p:cNvSpPr/>
          <p:nvPr/>
        </p:nvSpPr>
        <p:spPr>
          <a:xfrm>
            <a:off x="1979640" y="5229360"/>
            <a:ext cx="4965840" cy="115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2.3.- Estudio y Vigilancia de Enfermedades Trazadoras y agentes Etiológicos para la Gestión del Riesgo de Desastr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240" y="2572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000000"/>
                </a:solidFill>
                <a:latin typeface="Calibri"/>
              </a:rPr>
              <a:t>PRODUCTO 03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OGA"/>
          <p:cNvPicPr/>
          <p:nvPr/>
        </p:nvPicPr>
        <p:blipFill>
          <a:blip r:embed="rId1"/>
          <a:srcRect l="0" t="0" r="44900" b="-6156"/>
          <a:stretch/>
        </p:blipFill>
        <p:spPr>
          <a:xfrm>
            <a:off x="7418520" y="44280"/>
            <a:ext cx="1692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Rectángulo redondeado"/>
          <p:cNvSpPr/>
          <p:nvPr/>
        </p:nvSpPr>
        <p:spPr>
          <a:xfrm>
            <a:off x="1908000" y="981000"/>
            <a:ext cx="5256360" cy="1008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3.-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 DE SALUD CON CAPACIDADES COMPLEMENTARIAS PARA LA ATENCION  FRENTE A EMERGENCIAS Y DESAS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Rectángulo redondeado"/>
          <p:cNvSpPr/>
          <p:nvPr/>
        </p:nvSpPr>
        <p:spPr>
          <a:xfrm>
            <a:off x="1908000" y="2276640"/>
            <a:ext cx="5256360" cy="8650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3.1.-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Capacidad de Expansión Asistencial en  EESS Estratég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2 Rectángulo redondeado"/>
          <p:cNvSpPr/>
          <p:nvPr/>
        </p:nvSpPr>
        <p:spPr>
          <a:xfrm>
            <a:off x="1908000" y="3500280"/>
            <a:ext cx="525636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3.2.-Oferta Complementaria Organizad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frente a emergencias y desast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4 Rectángulo redondeado"/>
          <p:cNvSpPr/>
          <p:nvPr/>
        </p:nvSpPr>
        <p:spPr>
          <a:xfrm>
            <a:off x="1908000" y="4653000"/>
            <a:ext cx="5256360" cy="8636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3.3.- Atención de Salud y Moviliz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Brigadas frente a emergencias y desast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41:20Z</dcterms:created>
  <dc:creator>OTPDN</dc:creator>
  <dc:description/>
  <dc:language>en-US</dc:language>
  <cp:lastModifiedBy>www.intercambiosvirtuales.org</cp:lastModifiedBy>
  <dcterms:modified xsi:type="dcterms:W3CDTF">2014-06-20T15:56:21Z</dcterms:modified>
  <cp:revision>674</cp:revision>
  <dc:subject/>
  <dc:title>PPR 068</dc:title>
</cp:coreProperties>
</file>