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A9D1-C6C1-4A42-B9F9-B98FF9077DEB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6B5A-8EB4-4BD2-A43A-B9486993FAA7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EC8-9958-4068-BBB9-8E2FC7020442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1793-D728-4886-A30A-AD03779DA4D3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C9E9-BCAC-431A-86F3-5ED42F6E54B3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02E-CAF9-4B03-9987-AC5B6769E13A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F8EB-3950-40B3-9835-1CD7318359F7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9921-2289-4B18-9465-83BFD3144050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33BC-B2AA-4D80-B6E9-95BBA6DFF528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941-BD4C-455F-8A69-D258ADFF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29C-6A9E-4081-BE80-D018F33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996-7516-4CAB-BF70-87C558D1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678-B0D2-4B74-A119-06E800C2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616-8E82-42F3-8901-4C8FB30F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455-FBF5-4DE6-B4E5-4AA97F94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E84-44CD-4DDB-9810-2F745F3B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80A-4277-4619-94AE-E2F2F6E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6CF-A2FC-4E16-BC3A-1976764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A70-8A8B-40A7-8F25-6502C5A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03E-7A39-4ADD-AEFB-6FDA849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7C3-56F5-4552-9170-53D39473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40E-5B10-467C-A418-43229AA82770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2768760"/>
            <a:ext cx="7048440" cy="19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898989"/>
                </a:solidFill>
                <a:latin typeface="Calibri"/>
              </a:rPr>
              <a:t>PROGRAMA PRESUPUES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898989"/>
                </a:solidFill>
                <a:latin typeface="Calibri"/>
              </a:rPr>
              <a:t>CONTROL Y PREVENCIÓN  EN SALUD ME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140360" y="5445000"/>
            <a:ext cx="3744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Luz Aragonés Alosi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Dirección de Salu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Dirección General de Salud de las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 Imagen" descr="Ministerio de Salud (NUEVO).jpg"/>
          <p:cNvPicPr/>
          <p:nvPr/>
        </p:nvPicPr>
        <p:blipFill>
          <a:blip r:embed="rId1"/>
          <a:stretch/>
        </p:blipFill>
        <p:spPr>
          <a:xfrm>
            <a:off x="179280" y="133200"/>
            <a:ext cx="25210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576000"/>
          </a:xfrm>
          <a:prstGeom prst="rect">
            <a:avLst/>
          </a:prstGeom>
          <a:solidFill>
            <a:srgbClr val="dae7f6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TIVIDAD :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Desarrollo de normas y guías técnicas para el abordaje de trastornos mentales  y problemas  de  psicosocial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137440" cy="122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Consiste en el proceso a seguir para formulación de documentos normativos dirigidos a establecer criterios técnicos y administrativos, que contribuyan a mejorar el proceso de atención a las personas con trastornos mentales y problemas psicosociales. Es desarrollada por profesionales especializados en los niveles nacional y regional que tienen por función la elaboración, validación, aprobación, difusión, implementación y evaluación de los documentos técnicos normativos, en el marco de Programa intervenid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Calibri"/>
              </a:rPr>
              <a:t>Corresponde a los siguientes procesos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DUCTO  1: </a:t>
            </a: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ACCIONES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3789360"/>
          <a:ext cx="8064360" cy="2193840"/>
        </p:xfrm>
        <a:graphic>
          <a:graphicData uri="http://schemas.openxmlformats.org/drawingml/2006/table">
            <a:tbl>
              <a:tblPr/>
              <a:tblGrid>
                <a:gridCol w="3751200"/>
                <a:gridCol w="431316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vel N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vel re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19160"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, aprobación y publicación (la aprobación es competencia exclusiva de la Alta Dirección del MINSA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esión y distribu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ón y difus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ación a facilitadores Nacionales y Regionales para la implementación de los Documentos Técnicos Normativ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imiento y control de la aplicación de los Documentos Técnicos Normativos.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ecuación y aprobación si correspond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ción y distribución hasta el nivel de establecimientos de salu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usión regional por diferentes med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ación a personal de salud para la implementación de los DT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imiento y control de la aplicación de los DTN a nivel regional y local.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576000"/>
          </a:xfrm>
          <a:prstGeom prst="rect">
            <a:avLst/>
          </a:prstGeom>
          <a:solidFill>
            <a:srgbClr val="dae7f6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TIVIDAD :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Desarrollo de normas y guías técnicas para el abordaje de trastornos mentales  y problemas  de  psicosocial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DUCTO  1: </a:t>
            </a: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ACCIONES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 Marcador de contenido"/>
          <p:cNvSpPr/>
          <p:nvPr/>
        </p:nvSpPr>
        <p:spPr>
          <a:xfrm>
            <a:off x="496800" y="1700280"/>
            <a:ext cx="813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</a:t>
            </a: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Nivel Nacional: Número de Documentos Técnico Normativos que se tiene previsto aprobar durante el añ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Nivel Regional: Número de Documentos Técnico Normativos aprobados en el periodo anteri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96800" y="2924280"/>
          <a:ext cx="8023320" cy="1677960"/>
        </p:xfrm>
        <a:graphic>
          <a:graphicData uri="http://schemas.openxmlformats.org/drawingml/2006/table">
            <a:tbl>
              <a:tblPr/>
              <a:tblGrid>
                <a:gridCol w="1336680"/>
                <a:gridCol w="3517920"/>
                <a:gridCol w="31687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DE</a:t>
                      </a:r>
                      <a:r>
                        <a:rPr b="1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FÍS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NTE DE INFORM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Nacional Número de Documentos Técnico Normativos aproba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Regional: Número de Documentos Técnico Normativos implementad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de la DSM /ES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431640"/>
          </a:xfrm>
          <a:prstGeom prst="rect">
            <a:avLst/>
          </a:prstGeom>
          <a:solidFill>
            <a:srgbClr val="dae7f6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TIVIDAD :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Acompañamiento Clínico  Psicosocial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6800" y="206064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3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Implica un conjunto de actividades realizada por equipos de profesionales especializados y dirigidas a los equipo interdisciplinario de las microrredes, y hospitales con el propósito de brindar la asistencia técnica necesaria para el manejo clínico,   psicosocial  y comunitario de los problemas psicosociales y trastornos mentales.  Compren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DUCTO  1: </a:t>
            </a: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ACCIONES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531720" y="2781360"/>
            <a:ext cx="7818480" cy="24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La atención de  personas que demandan atención por el profesional de establecimiento con el asesoramiento del profesional especiali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Desarrollo de actividades psicosoci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La presentación y discusión de casos clínicos o de los programas de promoción y preven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Asistencia técnica para el  registro Clí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Asistencia técnica para el  registro estadís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Asistencia técnica para la vigilancia epidemiológ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92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TIVIDAD :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Acompañamiento Clínico  Psicosocia</a:t>
            </a: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l </a:t>
            </a:r>
            <a:br>
              <a:rPr sz="8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DUCTO  1: </a:t>
            </a: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ACCIONES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95280" y="4222800"/>
            <a:ext cx="81374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</a:t>
            </a: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Se programará el 25% de establecimientos I-3 y I-4(Cinco visitas anuales por establecimiento prioriza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agrama 98" descr=""/>
          <p:cNvPicPr/>
          <p:nvPr/>
        </p:nvPicPr>
        <p:blipFill>
          <a:blip r:embed="rId1"/>
          <a:srcRect l="0" t="-5191" r="0" b="-1736"/>
          <a:stretch/>
        </p:blipFill>
        <p:spPr>
          <a:xfrm>
            <a:off x="2087640" y="1700280"/>
            <a:ext cx="4752720" cy="2376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aphicFrame>
        <p:nvGraphicFramePr>
          <p:cNvPr id="89" name=""/>
          <p:cNvGraphicFramePr/>
          <p:nvPr/>
        </p:nvGraphicFramePr>
        <p:xfrm>
          <a:off x="509760" y="5084640"/>
          <a:ext cx="8022960" cy="1319400"/>
        </p:xfrm>
        <a:graphic>
          <a:graphicData uri="http://schemas.openxmlformats.org/drawingml/2006/table">
            <a:tbl>
              <a:tblPr/>
              <a:tblGrid>
                <a:gridCol w="1336680"/>
                <a:gridCol w="3517560"/>
                <a:gridCol w="3168720"/>
              </a:tblGrid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DE</a:t>
                      </a: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FÍS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NTE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5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miento de salu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programará el 25% de establecimientos I-3 y I-4(Cinco visitas anuales por establecimiento priorizado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de la DSM /ES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90" name="5 Rectángulo"/>
          <p:cNvSpPr/>
          <p:nvPr/>
        </p:nvSpPr>
        <p:spPr>
          <a:xfrm>
            <a:off x="834840" y="119700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Corresponde los siguientes procesos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Consiste en el proceso que abarca  la observación de indicadores y  entrevista aplicando un cuestionario  breve de preguntas (tamizaje) con la finalidad de  identificar signos, síntomas y comportamientos de problemas psicosociales y trastornos mentales en las personas atendidas en el establecimiento de salud,   especialmente en los servicios de medicina, salud sexual y reproductiva, crecimiento y desarrollo, TBC-SIDA). Concluye con la consejería durante la cual se brinda  información clara  al usuario sobre los hallazgos en el tamizaje,  las posibilidades de atención y la derivación al servicio medicina o psicología   o medidas preventivas o promocionales según sea un caso probable o n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sta actividad es desarrollada en los establecimientos de salud del primer nivel de atención por un personal de salud capaci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aquete de atención comprend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Tamizaje de Salud 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Consejería en Salud M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Para la programación de la meta física se utilizará reporte estadísticos del establecimiento de salud o centro de costo, del año anterior, considerand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Detección de trastornos mentales y problemas psicosociales se programara al 30% del total de atendidos (casos nuevos y reingresos) por todas las morbilidades del establecimiento de salu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Niña y/o niño de 8 a 11 años identificado con problemas relacionados con habilidades sociales inadecuadas, se programará al 10 % de la población entre  08 a 11 años  sujeta de programación ( 60% de la población asignada) de cada establecimiento de salud o centro de cos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dolescente de 12 a 17 años identificado con déficit en sus habilidades sociales, se programará al 10 % de la población entre 12 a 17 años sujeta de programación (60% de la población asignada) de cada establecimiento de salud o centro de cos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UNIDAD DE MED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sona Tamiz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PRODUCTO  2: 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PERSONAS CON TRASTORNOS MENTALES Y PROBLEMAS PSICOSOCIALES  DETECTADAS (30006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8640" y="5229360"/>
            <a:ext cx="81374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PRODUCTO  2: 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PERSONAS CON TRASTORNOS MENTALES Y PROBLEMAS PSICOSOCIALES  DETECTADAS (30006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412920" y="488880"/>
            <a:ext cx="806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META FÍSICA</a:t>
            </a: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Indicador de producción física de producto:</a:t>
            </a: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Número de personas detectadas (tamizadas), con trastornos mentales y problemas psicoso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Indicadores de desempeño del producto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30% personas detectadas de total de atendidas (casos nuevos y reingresos) por todas las morbilidades  del establecimiento de salu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Método de agregación de actividades a producto (trazador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Sumatoria del indicador de producción fís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FUENTE DE INFORMACIÓN  PARA LA EJECUCION.-</a:t>
            </a:r>
            <a:r>
              <a:rPr b="0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Hojas H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Cuestionarios de evaluación apli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Hojas de refer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FORMA DE RECOLECION DE INFORMACIÓN  PARA LA EJECU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Sistema de Informa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a 22" descr=""/>
          <p:cNvPicPr/>
          <p:nvPr/>
        </p:nvPicPr>
        <p:blipFill>
          <a:blip r:embed="rId1"/>
          <a:srcRect l="-13327" t="0" r="-13067" b="-2924"/>
          <a:stretch/>
        </p:blipFill>
        <p:spPr>
          <a:xfrm>
            <a:off x="2340000" y="4076640"/>
            <a:ext cx="5040360" cy="2710080"/>
          </a:xfrm>
          <a:prstGeom prst="rect">
            <a:avLst/>
          </a:prstGeom>
          <a:ln w="0">
            <a:noFill/>
          </a:ln>
        </p:spPr>
      </p:pic>
      <p:sp>
        <p:nvSpPr>
          <p:cNvPr id="97" name="2 Rectángulo"/>
          <p:cNvSpPr/>
          <p:nvPr/>
        </p:nvSpPr>
        <p:spPr>
          <a:xfrm>
            <a:off x="3243240" y="3621240"/>
            <a:ext cx="26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  <a:ea typeface="Arial"/>
              </a:rPr>
              <a:t>Flujo de proc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3200" y="692280"/>
            <a:ext cx="813744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 la atención que se brinda a personas con problemas psicosociales con tamizaje positivo. Esta actividad es desarrollada por un profesional de salud con competencias, a partir de los establecimientos de salud del nivel I-3 . El paquete de atención  de los  problemas psicosociales: violencia familiar y maltrato infantil,  secuelas de violencia social  y otros problemas interpersonales, incluye , según nivel de atención, el desarrollo de las siguientes actividade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Consulta de salud mental: Actividad realizada en el establecimiento de salud por un profesional con competencias para la evaluación de una persona derivada con tamizaje positivo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Intervención individual en salud mental, es un procedimiento terapéutico realizado por un profesional de la salud con competencias, es desarrollada en el primer nivel de atenció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sicoterapia individual, Es realizada por profesional de la salud con formación psicoterapéutica y está dirigida a abordar los casos que requieran mayor capacidad resolutiva como: abuso sexual y casos con comorbilidad. Se desarrolla en establecimientos de salud del segundo nivel de atenci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Visita familiar integral, actividad dirigida a la familia del paciente, para mejorar la dinámica familiar y favorecer la adherencia al tratamiento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0" y="44280"/>
            <a:ext cx="9156600" cy="371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</a:rPr>
              <a:t>PRODUCTO  3: </a:t>
            </a: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POBLACION CON  PROBLEMAS PSICOSOCIALES  QUE RECIBEN ATENCION OPORTUNA Y DE CALIDAD (3000699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06480" y="3406680"/>
          <a:ext cx="5329440" cy="1335240"/>
        </p:xfrm>
        <a:graphic>
          <a:graphicData uri="http://schemas.openxmlformats.org/drawingml/2006/table">
            <a:tbl>
              <a:tblPr/>
              <a:tblGrid>
                <a:gridCol w="2632320"/>
                <a:gridCol w="2697120"/>
              </a:tblGrid>
              <a:tr h="192240"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QUETE DE ATEN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I-3 y I-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l Nivel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06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1 Consulta de Salud M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1 Consulta de Salud Mental/ Psicológ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3 Intervención Individual en Salud M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5 Psicoterapia individu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56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1 Visita Familiar Integ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1 Visita Familiar Integ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01" name="2 Marcador de contenido"/>
          <p:cNvSpPr/>
          <p:nvPr/>
        </p:nvSpPr>
        <p:spPr>
          <a:xfrm>
            <a:off x="258840" y="4724280"/>
            <a:ext cx="8424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Para la programación de la meta física se utilizará el reporte estadístico del establecimiento de salud, del año anterior, consideran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Tratamiento integral  y ambulatorio de personas con problemas psicosociales se programará: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0% adicional del número de casos de violencia familiar atendidos el año a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UNIDAD DE MED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ersona tra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Título"/>
          <p:cNvSpPr/>
          <p:nvPr/>
        </p:nvSpPr>
        <p:spPr>
          <a:xfrm>
            <a:off x="0" y="44280"/>
            <a:ext cx="9156600" cy="371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</a:rPr>
              <a:t>PRODUCTO  3: </a:t>
            </a: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POBLACION CON  PROBLEMAS PSICOSOCIALES  QUE RECIBEN ATENCION OPORTUNA Y DE CALIDAD (3000699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Diagrama 27" descr=""/>
          <p:cNvPicPr/>
          <p:nvPr/>
        </p:nvPicPr>
        <p:blipFill>
          <a:blip r:embed="rId1"/>
          <a:srcRect l="-6121" t="-1725" r="0" b="0"/>
          <a:stretch/>
        </p:blipFill>
        <p:spPr>
          <a:xfrm>
            <a:off x="4379760" y="371628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04" name="1 Rectángulo"/>
          <p:cNvSpPr/>
          <p:nvPr/>
        </p:nvSpPr>
        <p:spPr>
          <a:xfrm>
            <a:off x="468360" y="549360"/>
            <a:ext cx="820728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META FÍSICA</a:t>
            </a: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Número de personas atendidas por problemas psicosocia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Indicador de producción física de producto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Número de personas que reciben atención por problemas psicosoci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Indicadores de desempeño del producto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  <a:ea typeface="Arial"/>
              </a:rPr>
              <a:t>80 % de las personas detectadas con problemas psicosociales tienen diagnóstico y tratamiento. (atendi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  <a:ea typeface="Arial"/>
              </a:rPr>
              <a:t>30% de las que inician tratamiento por problemas psicosociales reciben el paquete de a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Método de agregación de actividades a producto (trazador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La suma de las metas físicas de la activida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FUENTE DE INFORMACIÓN  PARA LA EJECUCION.-</a:t>
            </a:r>
            <a:r>
              <a:rPr b="0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HOJAS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REPORTE 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PROTOCOLOS DE AT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HISTORIAS CLÍNICAS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FORMA DE RECOLECION DE NFORMACIÓN  PARA LA EJECU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Sistema de Inform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Rectángulo"/>
          <p:cNvSpPr/>
          <p:nvPr/>
        </p:nvSpPr>
        <p:spPr>
          <a:xfrm>
            <a:off x="971640" y="4683240"/>
            <a:ext cx="2519280" cy="307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Calibri"/>
              </a:rPr>
              <a:t>Flujo de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327880" cy="11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s la atención que se brinda a personas con trastornos afectivos (depresión y conducta suicida) y de ansiedad con tamizaje positivo. Esta actividad es desarrollada por un profesional de salud con competencias, a partir de los establecimientos de salud del nivel I-3 en adel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paquete de atención incluye el desarrollo de las siguientes activida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1 Título"/>
          <p:cNvSpPr/>
          <p:nvPr/>
        </p:nvSpPr>
        <p:spPr>
          <a:xfrm>
            <a:off x="0" y="44280"/>
            <a:ext cx="9156600" cy="371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</a:rPr>
              <a:t>PRODUCTO  4: 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PERSONAS CON TRASTORNOS AFECTIVOS Y DE ANSIEDAD TRATADAS OPORTUNAMENTE (3000700)</a:t>
            </a:r>
            <a:r>
              <a:rPr b="1" lang="es-PE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 Marcador de contenido"/>
          <p:cNvSpPr/>
          <p:nvPr/>
        </p:nvSpPr>
        <p:spPr>
          <a:xfrm>
            <a:off x="5003640" y="5445000"/>
            <a:ext cx="445644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 Marcador de contenido"/>
          <p:cNvSpPr/>
          <p:nvPr/>
        </p:nvSpPr>
        <p:spPr>
          <a:xfrm>
            <a:off x="324000" y="3568680"/>
            <a:ext cx="79419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Calibri"/>
              </a:rPr>
              <a:t>ORGANIZACIÓN PARA LA EJECUCIÓN DE LA ACTIVIDAD</a:t>
            </a: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ESS de nivel de atención I-3, , en adelante que brindan el paquete de aten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Direcciones de redes y DIRESAS realizan seguimiento, control y evaluación  de la calidad de los proc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.MINSA, Establecimientos de salud especializados, Hospitales generales con servicios especializados e institutos  realizan acompañamiento clínico psicosocial y fortalecimiento de competencias de recurso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MINSA provee las normas téc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Para la programación de la meta física se utilizará el reporte estadístico del establecimiento de salud, del año anterior, consideran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Tratamiento integral  y ambulatorio de personas con problemas psicosociales se programará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0% adicional del número de casos de violencia familiar atendidos el año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89040" y="1844640"/>
          <a:ext cx="5410080" cy="1647720"/>
        </p:xfrm>
        <a:graphic>
          <a:graphicData uri="http://schemas.openxmlformats.org/drawingml/2006/table">
            <a:tbl>
              <a:tblPr/>
              <a:tblGrid>
                <a:gridCol w="2749680"/>
                <a:gridCol w="2660400"/>
              </a:tblGrid>
              <a:tr h="175320"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QUETE DE A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-3 Y I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L SEGUNDO NIVEL DE A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96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4 Consulta mé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4 Consulta Mé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510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6 Intervención Individual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 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6 Psicoterapia Individual / Intervención Individual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8728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2 Intervención Familiar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2 Intervención Familiar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991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2 Visita Familiar Integ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1 Visita Familiar Integ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Título"/>
          <p:cNvSpPr/>
          <p:nvPr/>
        </p:nvSpPr>
        <p:spPr>
          <a:xfrm>
            <a:off x="0" y="44280"/>
            <a:ext cx="9156600" cy="371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</a:rPr>
              <a:t>PRODUCTO  4: 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PERSONAS CON TRASTORNOS AFECTIVOS Y DE ANSIEDAD TRATADAS OPORTUNAMENTE (3000700)</a:t>
            </a:r>
            <a:r>
              <a:rPr b="1" lang="es-PE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 Marcador de contenido"/>
          <p:cNvSpPr/>
          <p:nvPr/>
        </p:nvSpPr>
        <p:spPr>
          <a:xfrm>
            <a:off x="468360" y="981000"/>
            <a:ext cx="7704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UNIDAD DE MEDI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ersona tratad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META FÍSICA</a:t>
            </a: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Número de personas atendidas por problemas psicosocia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Indicador de producción física de producto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Número de personas con problemas psicosociales  que reciben  atención</a:t>
            </a: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Indicadores de desempeño del producto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80 % de las personas detectadas con problemas psicosociales tienen diagnóstico y tratamiento. (atendi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30% de las que inician tratamiento por problemas psicosociales reciben el paquete de a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Método de agregación de actividades a producto (trazador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La suma de las metas físicas de las actividades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FUENTE DE INFORMACIÓN  PARA LA EJECUCION.-</a:t>
            </a:r>
            <a:r>
              <a:rPr b="0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HOJAS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REPORTE 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PROTOCOLOS DE AT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HISTORIAS CLÍNICAS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FORMA DE RECOLECION DE NFORMACIÓN  PARA LA EJECU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Sistema de Inform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Diagrama 32" descr=""/>
          <p:cNvPicPr/>
          <p:nvPr/>
        </p:nvPicPr>
        <p:blipFill>
          <a:blip r:embed="rId1"/>
          <a:srcRect l="0" t="-8081" r="-9364" b="0"/>
          <a:stretch/>
        </p:blipFill>
        <p:spPr>
          <a:xfrm>
            <a:off x="4613400" y="3500280"/>
            <a:ext cx="42796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9 Rectángulo"/>
          <p:cNvSpPr/>
          <p:nvPr/>
        </p:nvSpPr>
        <p:spPr>
          <a:xfrm>
            <a:off x="5295960" y="5902200"/>
            <a:ext cx="2519280" cy="30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Calibri"/>
              </a:rPr>
              <a:t>Flujo de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720"/>
            <a:ext cx="9144000" cy="502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IDENTIFICACIÓN DEL PROBLEMA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692280"/>
          <a:ext cx="8569080" cy="128880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128880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36504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blema </a:t>
                      </a: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specífic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36504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ado acceso de la población a los servicios de salud mental en los diferentes niveles de atención del sistema de sal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463680" y="3863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9 Imagen" descr=""/>
          <p:cNvPicPr/>
          <p:nvPr/>
        </p:nvPicPr>
        <p:blipFill>
          <a:blip r:embed="rId1"/>
          <a:srcRect l="14784" t="29346" r="17621" b="13407"/>
          <a:stretch/>
        </p:blipFill>
        <p:spPr>
          <a:xfrm>
            <a:off x="250920" y="2297160"/>
            <a:ext cx="84978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38040" y="549360"/>
            <a:ext cx="832824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 la atención que se brinda a personas con trastornos mentales y del comportamiento debido al uso de alcohol con tamizaje positivo. Esta actividad es desarrollada por un profesional de salud con competencias, a partir de los establecimientos de salud del nivel I-3 en adelante, preferentemen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l paquete de atención incluye el desarrollo de las siguientes actividade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1 Título"/>
          <p:cNvSpPr/>
          <p:nvPr/>
        </p:nvSpPr>
        <p:spPr>
          <a:xfrm>
            <a:off x="14400" y="33480"/>
            <a:ext cx="897732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PRODUCTO  5: </a:t>
            </a:r>
            <a:r>
              <a:rPr b="1" lang="es-PE" sz="1200" spc="-1" strike="noStrike">
                <a:solidFill>
                  <a:srgbClr val="ffffff"/>
                </a:solidFill>
                <a:latin typeface="Calibri"/>
              </a:rPr>
              <a:t>PERSONAS CON TRASTORNOS MENTALES Y DEL COMPORTAMIENTO DEBIDO AL CONSUMO DEL ALCOHOL TRATADAS OPORTUNAMENTE (3000701)</a:t>
            </a:r>
            <a:r>
              <a:rPr b="1" lang="es-PE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5003640" y="5445000"/>
            <a:ext cx="445644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 Marcador de contenido"/>
          <p:cNvSpPr/>
          <p:nvPr/>
        </p:nvSpPr>
        <p:spPr>
          <a:xfrm>
            <a:off x="468360" y="3716280"/>
            <a:ext cx="83278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Organización para la entrega 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ESS del I, II y III nivel de atención brindan el paquete de aten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Direcciones de redes y DIRESAS realizan control de cal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MINSA, DIRESAs, Establecimientos de salud especializados, Hospitales generales con servicios especializados realizan   acompañamiento clínico psicoso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MINSA provee las normas técnicas</a:t>
            </a:r>
            <a:r>
              <a:rPr b="0" lang="es-PE" sz="1100" spc="-1" strike="noStrike">
                <a:solidFill>
                  <a:srgbClr val="898989"/>
                </a:solidFill>
                <a:latin typeface="Calibri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Calibri"/>
              </a:rPr>
              <a:t>CRITERIO DE 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PROGRAMACIÓN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Para la programación de la meta física se utilizará el reporte estadístico del establecimiento de salud, del año anterior, consideran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Tratamiento ambulatorio de personas con trastornos mentales y del comportamiento debido al uso de alcohol se programará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0% adicional del número de casos con 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trastornos mentales y del comportamiento debido al uso de alcohol 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tendido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mbulatoriamente el año prev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Tratamiento con internamiento de personas con trastornos mentales y del comportamiento debido al uso de alcohol  se programará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0% adicional del número de casos con 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trastornos mentales y del comportamiento debido al uso de alcohol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qu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ternamiento el año prev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7800" y="1700280"/>
          <a:ext cx="6050160" cy="1193760"/>
        </p:xfrm>
        <a:graphic>
          <a:graphicData uri="http://schemas.openxmlformats.org/drawingml/2006/table">
            <a:tbl>
              <a:tblPr/>
              <a:tblGrid>
                <a:gridCol w="6050160"/>
              </a:tblGrid>
              <a:tr h="2696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6 Consulta mé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366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10 Psicoterapia Individual / Intervención Individual en Salud Mental (según nivel de atenció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8728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3 Intervención Familiar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002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3 Visita Familiar Integ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38040" y="1484280"/>
            <a:ext cx="8328240" cy="49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DEFINICIÓN UNIDAD DE MEDIDA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.-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sona Tra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META FÍSICA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Indicador de producción física de producto: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Número de personas que reciben atención con trastornos mentales y del comportamiento debido al consumo de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Indicadores de desempeño del producto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60 % de las personas detectadas con trastornos mentales y del comportamiento debido al consumo de alcohol, según tamizaje positivo, tienen diagnóstico y tratami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0 % de las personas que inician tratamiento por algún trastorno mental y del comportamiento debido al uso de alcohol reciben el paquete de aten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0% de las personas en tratamiento por dependencia  de consumo de alcohol y  otras sustancias psicotrópicas acceden al programa de rehabilitación en salud m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Método de agregación de actividades a producto (trazador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a suma de las metas físicas de las actividades (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FUENTE DE INFORMACIÓN  PARA LA EJECUCION.-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Hojas 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Reporte 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Protocolos de atención para problemas afectivos y ansios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Inventario de farmacia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RECOLECION DE NFORMACIÓN  PARA LA EJECUC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Sistema de In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 Título"/>
          <p:cNvSpPr/>
          <p:nvPr/>
        </p:nvSpPr>
        <p:spPr>
          <a:xfrm>
            <a:off x="14400" y="33480"/>
            <a:ext cx="897732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PRODUCTO  5: </a:t>
            </a:r>
            <a:r>
              <a:rPr b="1" lang="es-PE" sz="1200" spc="-1" strike="noStrike">
                <a:solidFill>
                  <a:srgbClr val="ffffff"/>
                </a:solidFill>
                <a:latin typeface="Calibri"/>
              </a:rPr>
              <a:t>PERSONAS CON TRASTORNOS MENTALES Y DEL COMPORTAMIENTO DEBIDO AL CONSUMO DEL ALCOHOL TRATADAS OPORTUNAMENTE (3000701)</a:t>
            </a:r>
            <a:r>
              <a:rPr b="1" lang="es-PE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003640" y="5445000"/>
            <a:ext cx="445644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Título"/>
          <p:cNvSpPr/>
          <p:nvPr/>
        </p:nvSpPr>
        <p:spPr>
          <a:xfrm>
            <a:off x="14400" y="33480"/>
            <a:ext cx="897732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PRODUCTO  5: </a:t>
            </a:r>
            <a:r>
              <a:rPr b="1" lang="es-PE" sz="1200" spc="-1" strike="noStrike">
                <a:solidFill>
                  <a:srgbClr val="ffffff"/>
                </a:solidFill>
                <a:latin typeface="Calibri"/>
              </a:rPr>
              <a:t>PERSONAS CON TRASTORNOS MENTALES Y DEL COMPORTAMIENTO DEBIDO AL CONSUMO DEL ALCOHOL TRATADAS OPORTUNAMENTE (3000701)</a:t>
            </a:r>
            <a:r>
              <a:rPr b="1" lang="es-PE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5003640" y="5445000"/>
            <a:ext cx="445644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34" descr=""/>
          <p:cNvPicPr/>
          <p:nvPr/>
        </p:nvPicPr>
        <p:blipFill>
          <a:blip r:embed="rId1"/>
          <a:srcRect l="0" t="0" r="-48" b="0"/>
          <a:stretch/>
        </p:blipFill>
        <p:spPr>
          <a:xfrm>
            <a:off x="258840" y="1023840"/>
            <a:ext cx="4125960" cy="31258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31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959280" cy="3430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76360" y="807840"/>
            <a:ext cx="327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Nivel   I-2, I-3, I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148360" y="246384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Nivel II-1 en adelante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38040" y="620280"/>
            <a:ext cx="8328240" cy="15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Es la atención que se brinda a personas con trastornos o síndromes psicóticos con tamizaje positivo, ClE10 F06.2, F1x.5, F20, F22, F23, F24, F25, F28, F29 y F31.2) con tamizaje positivo, Esta actividad es desarrollada por un profesional de salud con competencias, a partir de los establecimientos de salud del nivel I-3 en adelante, preferentemen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Es la atención que se brinda a personas con trastornos o síndromes psicóticos con tamizaje positivo. Esta actividad es desarrollada por un profesional de salud con competencias, a partir de los establecimientos de salud del nivel I-3 en adelante, preferentemen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El paquete de atención de los trastornos o síndromes psicóticos incluye el desarrollo de las siguientes actividades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14400" y="33480"/>
            <a:ext cx="897732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PRODUCTO  6: 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PERSONAS CON TRASTORNOS Y SINDROMES PSICOTICOS TRATADAS OPORTUNAMENTE (3000702)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 Marcador de contenido"/>
          <p:cNvSpPr/>
          <p:nvPr/>
        </p:nvSpPr>
        <p:spPr>
          <a:xfrm>
            <a:off x="5003640" y="5445000"/>
            <a:ext cx="445644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2276640"/>
          <a:ext cx="7345440" cy="3644640"/>
        </p:xfrm>
        <a:graphic>
          <a:graphicData uri="http://schemas.openxmlformats.org/drawingml/2006/table">
            <a:tbl>
              <a:tblPr/>
              <a:tblGrid>
                <a:gridCol w="2466720"/>
                <a:gridCol w="2409840"/>
                <a:gridCol w="2468880"/>
              </a:tblGrid>
              <a:tr h="542880">
                <a:tc gridSpan="3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QUETE DE A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I-1 y I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-3, I-4 y II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L II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estilos de vida saludab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6 Consulta mé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6 Consulta Médica especi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ención de los determinantes y vulnerabilida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3 Intervención Familiar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3 Psicoterpia/Intervención Familiar en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tección temprana de cas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2 Visita Familiar Integ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03 Visita Familiar Integ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licación de programas psicoeducativ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marL="85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zación de grupos de soporte público (casas de medio camino, etc.) o privado. Clubes sociales. Implementación de actividades de rehabilitación psicosocial y entrenamiento en habilidades socia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ención de las referencias y contrareferenci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Symbo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ención de las referencias y contrareferenci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ención de las referencias y contrareferenci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327880" cy="573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 u="sng">
                <a:solidFill>
                  <a:srgbClr val="000000"/>
                </a:solidFill>
                <a:uFillTx/>
                <a:latin typeface="Calibri"/>
              </a:rPr>
              <a:t>CRITERIOS DE PROGRAMAC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Para la programación de la meta física se utilizará el reporte estadístico del establecimiento de salud, del año anterior, considerand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Tratamiento ambulatorio de personas con trastornos o síndromes psicóticos se programará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0% adicional del número de casos con 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trastornos o síndromes psicóticos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atendidos ambulatoriamente el año previ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Tratamiento con internamiento de personas con trastornos o síndromes psicóticos se programará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0% adicional del número de casos con 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trastornos o síndromes psicóticos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que requirieron internamiento el año previ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META FÍSICA</a:t>
            </a: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Indicador de producción física de product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o: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Número de personas que reciben atención por trastornos o síndromes psicótico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Indicadores de desempeño del producto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80 % de las personas detectadas con síndrome o trastorno psicótico (esquizofrenia), según tamizaje positivo, tienen diagnóstico y tratamient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60% de las personas que inician tratamiento por  con síndrome o trastorno psicótico (esquizofrenia)reciben el paquete  de atenció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60% de las personas en tratamiento por trastorno mental severo acceden al programa de rehabilitación en salud mental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Método de agregación de actividades a producto (trazador)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La suma de las metas físicas de las actividades (garantizando que las unidades de medida del producto y de las actividades es la misma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FUENTE DE INFORMACIÓN  PARA LA EJECUCION.-</a:t>
            </a:r>
            <a:r>
              <a:rPr b="0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Hojas H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Reporte S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Protocolos de atención para </a:t>
            </a: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trastornos o síndromes psicótico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Inventario de farmacia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Calibri"/>
              </a:rPr>
              <a:t>FORMA DE RECOLECION DE NFORMACIÓN  PARA LA EJECUC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Sistema de Informació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14400" y="33480"/>
            <a:ext cx="897732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PRODUCTO  6: 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PERSONAS CON TRASTORNOS Y SINDROMES PSICOTICOS TRATADAS OPORTUNAMENTE (3000702)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PE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ffff"/>
                </a:solidFill>
                <a:latin typeface="Calibri"/>
              </a:rPr>
              <a:t>)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003640" y="5445000"/>
            <a:ext cx="445644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7 Diagrama" descr=""/>
          <p:cNvPicPr/>
          <p:nvPr/>
        </p:nvPicPr>
        <p:blipFill>
          <a:blip r:embed="rId1"/>
          <a:stretch/>
        </p:blipFill>
        <p:spPr>
          <a:xfrm>
            <a:off x="1530360" y="835200"/>
            <a:ext cx="6620040" cy="4711680"/>
          </a:xfrm>
          <a:prstGeom prst="rect">
            <a:avLst/>
          </a:prstGeom>
          <a:ln w="0">
            <a:noFill/>
          </a:ln>
        </p:spPr>
      </p:pic>
      <p:pic>
        <p:nvPicPr>
          <p:cNvPr id="137" name="3 Imagen" descr="Ministerio de Salud (NUEVO).jpg"/>
          <p:cNvPicPr/>
          <p:nvPr/>
        </p:nvPicPr>
        <p:blipFill>
          <a:blip r:embed="rId2"/>
          <a:stretch/>
        </p:blipFill>
        <p:spPr>
          <a:xfrm>
            <a:off x="179280" y="133200"/>
            <a:ext cx="25210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CuadroTexto"/>
          <p:cNvSpPr/>
          <p:nvPr/>
        </p:nvSpPr>
        <p:spPr>
          <a:xfrm>
            <a:off x="468360" y="21744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DICADORES DE DESEMPEÑO DEL PRODU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907920"/>
          <a:ext cx="8229600" cy="4743720"/>
        </p:xfrm>
        <a:graphic>
          <a:graphicData uri="http://schemas.openxmlformats.org/drawingml/2006/table">
            <a:tbl>
              <a:tblPr/>
              <a:tblGrid>
                <a:gridCol w="1994040"/>
                <a:gridCol w="2282760"/>
                <a:gridCol w="509400"/>
                <a:gridCol w="609840"/>
                <a:gridCol w="509400"/>
                <a:gridCol w="509760"/>
                <a:gridCol w="906480"/>
                <a:gridCol w="907920"/>
              </a:tblGrid>
              <a:tr h="17172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 DE DESEMPEÑO RESULTADO/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 DE CALCUL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6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 BASAL 2014 (proyectad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 PROYECCION DEL SECTOR (METAS CONCERTAD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ÓPTI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CHA EXISTENTE AL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ESPECÍF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o de cobertura de atención en salud men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ador: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úmero total de personas atendidas por problemas psicosociales y trastornos mentales        </a:t>
                      </a:r>
                      <a:br>
                        <a:rPr sz="1100"/>
                      </a:b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ominador: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oblación general asignada (60% de la población total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S CON TRASTORNOS MENTALES Y PROBLEMAS PSICOSOCIALES  DETECT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ador: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úmero de personas tamizados por salud mental </a:t>
                      </a:r>
                      <a:br>
                        <a:rPr sz="1100"/>
                      </a:b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ominador:</a:t>
                      </a: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úmero de  personas   atendidas (casos nuevos y reingresos) por todas las morbilidades del  establecimientos de salud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000">
                <a:tc>
                  <a:txBody>
                    <a:bodyPr lIns="6840" rIns="6840" tIns="6840" bIns="0"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BLACION CON  PROBLEMAS PSICOSOCIALES  QUE RECIBEN ATENCION OPORTUNA Y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 personas detectadas por problemas  psicosociales tienen diagnóstico y tratamiento)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1 CuadroTexto"/>
          <p:cNvSpPr/>
          <p:nvPr/>
        </p:nvSpPr>
        <p:spPr>
          <a:xfrm>
            <a:off x="395280" y="22716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DICADORES DE DESEMPEÑO DE RESULTADO/PRODU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5280" y="620640"/>
          <a:ext cx="8459640" cy="6167520"/>
        </p:xfrm>
        <a:graphic>
          <a:graphicData uri="http://schemas.openxmlformats.org/drawingml/2006/table">
            <a:tbl>
              <a:tblPr/>
              <a:tblGrid>
                <a:gridCol w="1611360"/>
                <a:gridCol w="2786040"/>
                <a:gridCol w="522360"/>
                <a:gridCol w="628560"/>
                <a:gridCol w="522360"/>
                <a:gridCol w="523800"/>
                <a:gridCol w="932040"/>
                <a:gridCol w="933120"/>
              </a:tblGrid>
              <a:tr h="142920">
                <a:tc rowSpan="3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 DE DESEMPEÑO RESULTADO/PRODUC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rowSpan="3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 DE CALCUL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6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 BASAL 2014 (proyectad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3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 PROYECCION DEL SECTOR (METAS CONCERTADA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ÓPTIM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CHA EXISTENTE AL 2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S CON TRASTORNOS AFECTIVOS Y DE ANSIEDAD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pacientes con trastornos afectivos    con diagnóstico y tratamiento. </a:t>
                      </a:r>
                      <a:br>
                        <a:rPr sz="1100"/>
                      </a:br>
                      <a:br>
                        <a:rPr sz="1100"/>
                      </a:b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56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S CON TRASTORNOS MENTALES Y DEL COMPORTAMIENTO DEBIDO AL CONSUMO DEL ALCOHOL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pacientes con trastorno mental y del comportamiento debido al consumo de alcohol  tienen  diagnóstico y tratamiento. 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4680" rIns="4680" tIns="4680" bIns="0"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</a:t>
                      </a: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SONAS CON TRASTORNOS Y SINDROMES PSICOTICOS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pacientes con síndrome o trastorno psicótico tienen  diagnóstico y tratamiento.</a:t>
                      </a:r>
                      <a:br>
                        <a:rPr sz="1000"/>
                      </a:b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4680" rIns="4680" tIns="4680" bIns="0"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BLACION  EN RIESGO QUE ACCEDEN A PROGRAMAS DE PREVENCION EN SALUD 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atoria de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niños, niñas y adolescentes con déficit de habilidades sociales reciben  paquete de sesiones de habilidades sociales</a:t>
                      </a:r>
                      <a:br>
                        <a:rPr sz="1000"/>
                      </a:b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población de 10 a 14 años en riesgo recibe programa de prevención familiar de conductas de riesgo (familias Fuertes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CuadroTexto"/>
          <p:cNvSpPr/>
          <p:nvPr/>
        </p:nvSpPr>
        <p:spPr>
          <a:xfrm>
            <a:off x="468360" y="2253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DICADORES DE DESEMPEÑO DE RESULTADO/PRODU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836640"/>
          <a:ext cx="8229600" cy="4781520"/>
        </p:xfrm>
        <a:graphic>
          <a:graphicData uri="http://schemas.openxmlformats.org/drawingml/2006/table">
            <a:tbl>
              <a:tblPr/>
              <a:tblGrid>
                <a:gridCol w="1762200"/>
                <a:gridCol w="2514600"/>
                <a:gridCol w="509400"/>
                <a:gridCol w="609840"/>
                <a:gridCol w="509400"/>
                <a:gridCol w="509760"/>
                <a:gridCol w="906480"/>
                <a:gridCol w="907920"/>
              </a:tblGrid>
              <a:tr h="22032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 DE DESEMPEÑO RESULTADO/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 DE CALCU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6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 BASAL 2014 (proyect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 PROYECCION DEL SECTOR (METAS CONCERTAD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ÓPTI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CHA EXISTENTE AL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85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484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S CON CONOCIMIENTOS DE PRACTICAS SALUDABLES PARA PREVENIR LOS TRANSTOTRNOS MENTALES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úmero de Familias que reciben sesión educativa para promover prácticas y generar entornos saludables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DADES QUE PROMUEVEN PRÁCTICAS Y ENTORNOS SALUDABLES PARA CONTRIBUIR EN LA DISMINUCION DE LOS TRANSTOTRNOS MENTALES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omunidades que promueve acciones de promoción de la salud mental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1 CuadroTexto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solidFill>
            <a:srgbClr val="ffeea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ARTERA DE SERVICIOS </a:t>
            </a:r>
            <a:br>
              <a:rPr sz="2400"/>
            </a:b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PRODUCTOS DEL PROGRAMA PRESUPUESTAL</a:t>
            </a:r>
            <a:br>
              <a:rPr sz="1800"/>
            </a:b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 CONTROL Y PREVENCION EN SALUD MENT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557360"/>
          <a:ext cx="8280360" cy="5094360"/>
        </p:xfrm>
        <a:graphic>
          <a:graphicData uri="http://schemas.openxmlformats.org/drawingml/2006/table">
            <a:tbl>
              <a:tblPr/>
              <a:tblGrid>
                <a:gridCol w="1944720"/>
                <a:gridCol w="431640"/>
                <a:gridCol w="503280"/>
                <a:gridCol w="432000"/>
                <a:gridCol w="433440"/>
                <a:gridCol w="502920"/>
                <a:gridCol w="505080"/>
                <a:gridCol w="647640"/>
                <a:gridCol w="576360"/>
                <a:gridCol w="503280"/>
                <a:gridCol w="547560"/>
                <a:gridCol w="592200"/>
                <a:gridCol w="660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001  ACCIONES COM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698  PERSONAS CON TRASTORNOS MENTALES Y PROBLEMAS PSICOSOCIALES  DETECT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699  POBLACION CON  PROBLEMAS PSICOSOCIALES  QUE RECIBEN ATENCION OPORTUNA Y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0  PERSONAS CON TRASTORNOS AFECTIVOS Y DE ANSIEDAD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25316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1  PERSONAS CON TRASTORNOS MENTALES Y DEL COMPORTAMIENTO DEBIDO AL CONSUMO DEL ALCOHOL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6 Imagen" descr=""/>
          <p:cNvPicPr/>
          <p:nvPr/>
        </p:nvPicPr>
        <p:blipFill>
          <a:blip r:embed="rId1"/>
          <a:srcRect l="14676" t="34353" r="19656" b="17162"/>
          <a:stretch/>
        </p:blipFill>
        <p:spPr>
          <a:xfrm>
            <a:off x="423720" y="981000"/>
            <a:ext cx="8436240" cy="4391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720"/>
            <a:ext cx="9144000" cy="502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DISEÑO DEL PROGRAMA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908000" y="963720"/>
          <a:ext cx="5904000" cy="118908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118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ESPECÍ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ón en riesgo,   con problemas psicosociales y  trastornos mentales que  accede a la atención integral de salud 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463680" y="3863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solidFill>
            <a:srgbClr val="ffeea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ARTERA DE SERVICIOS </a:t>
            </a:r>
            <a:br>
              <a:rPr sz="2400"/>
            </a:b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PRODUCTOS DEL PROGRAMA PRESUPUESTAL</a:t>
            </a:r>
            <a:br>
              <a:rPr sz="1800"/>
            </a:b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CONTROL Y PREVENCION EN SALUD MENT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954000"/>
          <a:ext cx="8497800" cy="5678640"/>
        </p:xfrm>
        <a:graphic>
          <a:graphicData uri="http://schemas.openxmlformats.org/drawingml/2006/table">
            <a:tbl>
              <a:tblPr/>
              <a:tblGrid>
                <a:gridCol w="1805040"/>
                <a:gridCol w="527040"/>
                <a:gridCol w="525240"/>
                <a:gridCol w="451080"/>
                <a:gridCol w="527040"/>
                <a:gridCol w="450720"/>
                <a:gridCol w="527040"/>
                <a:gridCol w="601560"/>
                <a:gridCol w="601920"/>
                <a:gridCol w="601560"/>
                <a:gridCol w="601560"/>
                <a:gridCol w="676440"/>
                <a:gridCol w="60156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20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2  PERSONAS CON TRASTORNOS Y SINDROMES PSICOTICOS TRATADAS OPORTUNAM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714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3  PERSONAS CON TRASTORNOS  MENTALES JUDICIALIZADAS TRAT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8420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4  COMUNIDADES CON POBLACIONES VICTIMAS DE  VIOLENCIA POLITICA ATEND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4000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5  POBLACION  EN RIESGO QUE ACCEDEN A PROGRAMAS DE PREVENCION EN SALUD MEN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solidFill>
            <a:srgbClr val="ffeea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ARTERA DE SERVICIOS </a:t>
            </a:r>
            <a:br>
              <a:rPr sz="2400"/>
            </a:b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PRODUCTOS DEL PROGRAMA PRESUPUESTAL</a:t>
            </a:r>
            <a:br>
              <a:rPr sz="1800"/>
            </a:b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 CONTROL Y PREVENCION EN SALUD 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700280"/>
          <a:ext cx="8136000" cy="4657680"/>
        </p:xfrm>
        <a:graphic>
          <a:graphicData uri="http://schemas.openxmlformats.org/drawingml/2006/table">
            <a:tbl>
              <a:tblPr/>
              <a:tblGrid>
                <a:gridCol w="1727280"/>
                <a:gridCol w="576000"/>
                <a:gridCol w="432000"/>
                <a:gridCol w="433440"/>
                <a:gridCol w="503280"/>
                <a:gridCol w="431640"/>
                <a:gridCol w="504720"/>
                <a:gridCol w="574920"/>
                <a:gridCol w="576000"/>
                <a:gridCol w="576360"/>
                <a:gridCol w="576360"/>
                <a:gridCol w="647640"/>
                <a:gridCol w="57636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-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73448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6  FAMILIAS CON CONOCIMIENTOS DE PRACTICAS SALUDABLES PARA PREVENIR LOS TRASTORNOS MENTALES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40516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707  COMUNIDADES QUE PROMUEVEN PRÁCTICAS Y ENTORNOS SALUDABLES PARA CONTRIBUIR EN LA DISMINUCION DE LOS TRANTORNOS MENTALES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3 Rectángulo" descr=""/>
          <p:cNvPicPr/>
          <p:nvPr/>
        </p:nvPicPr>
        <p:blipFill>
          <a:blip r:embed="rId1"/>
          <a:stretch/>
        </p:blipFill>
        <p:spPr>
          <a:xfrm>
            <a:off x="7650000" y="5846760"/>
            <a:ext cx="130500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tres_peruanos[1]"/>
          <p:cNvPicPr/>
          <p:nvPr/>
        </p:nvPicPr>
        <p:blipFill>
          <a:blip r:embed="rId2"/>
          <a:srcRect l="40092" t="0" r="0" b="0"/>
          <a:stretch/>
        </p:blipFill>
        <p:spPr>
          <a:xfrm>
            <a:off x="250920" y="614520"/>
            <a:ext cx="2531880" cy="2606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Users\Salud Mental_2\Desktop\FOTOS VIPOL\Chungui\DSC05091.JPG"/>
          <p:cNvPicPr/>
          <p:nvPr/>
        </p:nvPicPr>
        <p:blipFill>
          <a:blip r:embed="rId3"/>
          <a:srcRect l="14002" t="0" r="0" b="0"/>
          <a:stretch/>
        </p:blipFill>
        <p:spPr>
          <a:xfrm>
            <a:off x="5838840" y="3575160"/>
            <a:ext cx="2620800" cy="231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dolescentes"/>
          <p:cNvPicPr/>
          <p:nvPr/>
        </p:nvPicPr>
        <p:blipFill>
          <a:blip r:embed="rId4"/>
          <a:stretch/>
        </p:blipFill>
        <p:spPr>
          <a:xfrm>
            <a:off x="2987640" y="1928880"/>
            <a:ext cx="2664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059680" cy="410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rmAutofit/>
          </a:bodyPr>
          <a:p>
            <a:pPr marL="26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l PP – CONTROL Y PREVENCION EN SALUD MENTAL, se ha planteado </a:t>
            </a: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11 PRODUCTOS y  22  ACTIVIDADES </a:t>
            </a: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que serán otorgados a la población objetivo con la finalidad de generar el cambio espera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ta intervención del Estado contribuirá a que población en riesgo,   con problemas psicosociales y  trastornos mentales acceda a la atención integral de salud m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0" y="-9360"/>
            <a:ext cx="9144000" cy="502920"/>
          </a:xfrm>
          <a:prstGeom prst="rect">
            <a:avLst/>
          </a:prstGeom>
          <a:solidFill>
            <a:srgbClr val="fcd5b5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MODELO OPERACIONAL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8800" y="43920"/>
            <a:ext cx="9172440" cy="505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PP 0131: CONTROL Y PREVENCION EN SALUD MENTAL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692280"/>
          <a:ext cx="8569080" cy="5837040"/>
        </p:xfrm>
        <a:graphic>
          <a:graphicData uri="http://schemas.openxmlformats.org/drawingml/2006/table">
            <a:tbl>
              <a:tblPr/>
              <a:tblGrid>
                <a:gridCol w="669960"/>
                <a:gridCol w="2066760"/>
                <a:gridCol w="1062000"/>
                <a:gridCol w="3834000"/>
                <a:gridCol w="936360"/>
              </a:tblGrid>
              <a:tr h="458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_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_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ME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732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CCIONES COM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NITOREO, SUPERVISION, EVALUACION Y CONTROL DEL PROGRAMA EN SALUD 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9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ARROLLO DE NORMAS Y GUIAS TECNICAS PARA EL ABORDAJE DE TRASTORNOS MENTALES  Y PROBLEMAS DE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5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COMPAÑAMIENTO CLINICO  PSICO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MIENTO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2876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6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SONAS CON TRASTORNOS MENTALES Y PROBLEMAS PSICOSOCIALES  DETECT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DOLESCENTE DE 12 A 17 AÑOS IDENTIFICADO CON DEFICIT EN SUS HABILIDADES 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TAM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ÑA Y/O NIÑO DE 8 A 11 AÑOS IDENTIFICADO CON DEFICIT EN SUS HABILIDADES 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MIZAJE DE PERSONAS CON TRASTORNOS MENTALES 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BLACION CON  PROBLEMAS PSICOSOCIALES  QUE RECIBEN ATENCION OPORTUNA Y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DE PERSONAS CON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TRA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63280"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SONAS CON TRASTORNOS AFECTIVOS Y DE ANSIEDAD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AMBULATORIO DEPERSONAS CON TRASTORNOS AFECTIVOS  (DEPRESION Y CONDUCTA SUICIDA) Y DE ANSIE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TRA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CON INTERNAMIENTO DE PERSONAS CON TRASTORNOS AFECTIVOS Y DE ANSIE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8800" y="43920"/>
            <a:ext cx="9172440" cy="505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PP 0131: CONTROL Y PREVENCION EN SALUD MENTAL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765000"/>
          <a:ext cx="8424720" cy="5759640"/>
        </p:xfrm>
        <a:graphic>
          <a:graphicData uri="http://schemas.openxmlformats.org/drawingml/2006/table">
            <a:tbl>
              <a:tblPr/>
              <a:tblGrid>
                <a:gridCol w="641160"/>
                <a:gridCol w="1797120"/>
                <a:gridCol w="801720"/>
                <a:gridCol w="4224240"/>
                <a:gridCol w="960480"/>
              </a:tblGrid>
              <a:tr h="432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_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_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ME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200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SONAS CON TRASTORNOS MENTALES Y DEL COMPORTAMIENTO DEBIDO AL CONSUMO DEL ALCOHOL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 AMBULATORIO DE PERSONAS CON TRASTORNO DEL COMPORTAMIENTO DEBIDO AL CONSUMO DE ALCOH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TRA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6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CON INTERNAMIENTO DE PACIENTES CON TRASTORNO DEL COMPORTAMIENTO DEBIDO AL CONSUMO DE ALCOH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HABILITACION PSICOSOCIAL  DE PERSONAS CON TRASTORNOS DEL COMPORTAMIENTO DEBIDO AL CONSUMO DE ALCOH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ATEN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784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SONAS CON TRASTORNOS Y SINDROMES PSICOTICOS TRATADAS OPORTUN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AMBULATORIO DE PERSONAS CON SINDROME O TRASTORNO PSICO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TRA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CON INTERNAMIENTO DE PERSONAS CON SINDROME O TRASTORNO PSICO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HABILITACION PSICOSOCIAL DE PERSONAS CON SINDROME O TRASTORNO ESQUIZOFRE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ATEN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0922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SONAS CON TRASTORNOS  MENTALES JUDICIALIZADAS TRAT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TAMIENTO DE PERSONAS CON TRASTORNOS MENTALES JUDI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TRA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8800" y="43920"/>
            <a:ext cx="9172440" cy="505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PP 0131: CONTROL Y PREVENCION EN SALUD MENTAL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981000"/>
          <a:ext cx="8424720" cy="5676840"/>
        </p:xfrm>
        <a:graphic>
          <a:graphicData uri="http://schemas.openxmlformats.org/drawingml/2006/table">
            <a:tbl>
              <a:tblPr/>
              <a:tblGrid>
                <a:gridCol w="641160"/>
                <a:gridCol w="2095560"/>
                <a:gridCol w="647640"/>
                <a:gridCol w="4248360"/>
                <a:gridCol w="792000"/>
              </a:tblGrid>
              <a:tr h="372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_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_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_ME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4640"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UNIDADES CON POBLACIONES VICTIMAS DE  VIOLENCIA POLITICA ATEND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TERVENCIONES COMUNITARIAS PARA LA RECUPERACION EMOCIONAL DE POBLACIONES  VICTIMAS DE VIOLENCIA POLI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9680">
                <a:tc rowSpan="3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rowSpan="3"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BLACION  EN RIESGO QUE ACCEDEN A PROGRAMAS DE PREVENCION EN SALUD 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VENCION FAMILIAR DE CONDUCTAS DE RIESGO EN ADOLESCENTES FAMILIAS FUERTES: AMOR Y LIM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ATEND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ONES DE ENTRENAMIENTO EN HABILIDADES SOCIALES PARA ADOLESCENTES, JOVENES Y ADUL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ONES DE ENTRENAMIENTO EN HABILIDADES SOCIALES PARA NIÑAS, NI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920"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AMILIAS CON CONOCIMIENTOS DE PRACTICAS SALUDABLES PARA PREVENIR LOS TRANSTOTRNOS MENTALES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ONES EDUCATIVAS PARA PROMOVER PRACTICAS Y GENERAR ENTORNOS SALUDABLES PARA CONTRIBUIR A LA MEJORA DE LA SALUD 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84240"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UNIDADES QUE PROMUEVEN PRÁCTICAS Y ENTORNOS SALUDABLES PARA CONTRIBUIR EN LA DISMINUCION DE LOS TRANSTOTRNOS MENTALES Y PROBLEMAS PSICOSO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GENTES COMUNITARIOS DE SALUD CAPACITADOS PROMUEVEN ACCIONES DE PROMOCION DE LA SALUD 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 CAPACI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362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alibri"/>
              </a:rPr>
              <a:t>DEFINICIONES Y OPERACIONALES</a:t>
            </a: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Calibri"/>
              </a:rPr>
              <a:t>CRITERIOS DE PROGRAM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576000"/>
          </a:xfrm>
          <a:prstGeom prst="rect">
            <a:avLst/>
          </a:prstGeom>
          <a:solidFill>
            <a:srgbClr val="dae7f6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: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Monitoreo, supervisión, evaluación y control del PP Control y prevención en Salud M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Son actividades orientadas al control gerencial por niveles (nacional, regional o local) para el logro de los objetivos y resultados; implica impulsar la conducción de la institución hacia determinadas metas a partir de la planificación, programación, monitoreo, supervisión y evaluación de los productos y resultados del programa presupuestal. Las actividades son  desarrolladas por profesionales capacitados y organizados en equipos de gestión. Comprende : Monitoreo, Supervisión y Evalu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Organización de la entrega del produc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quipos de Gestión del nivel Nacional, Regional y Lo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el nivel Nacional corresponde al MINSA INSM “HD-HN” e  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el nivel Regional le corresponde a DISA/DIRESA/GERE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el nivel local los responsables de salud en el ámbito de la jurisdicción territor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-12600" y="33480"/>
            <a:ext cx="9156600" cy="3711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DUCTO  1: </a:t>
            </a:r>
            <a:r>
              <a:rPr b="1" lang="es-PE" sz="2000" spc="-1" strike="noStrike">
                <a:solidFill>
                  <a:srgbClr val="ffffff"/>
                </a:solidFill>
                <a:latin typeface="Calibri"/>
              </a:rPr>
              <a:t>ACCIONES COMUNES (3000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Marcador de contenido"/>
          <p:cNvSpPr/>
          <p:nvPr/>
        </p:nvSpPr>
        <p:spPr>
          <a:xfrm>
            <a:off x="384120" y="414972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: </a:t>
            </a:r>
            <a:r>
              <a:rPr b="1" lang="es-PE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1 evaluación de gestión del programa presupuestal (anu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1 evaluación de las intervenciones (semestr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 informes  trimestral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77880" y="5229360"/>
          <a:ext cx="7775640" cy="1260360"/>
        </p:xfrm>
        <a:graphic>
          <a:graphicData uri="http://schemas.openxmlformats.org/drawingml/2006/table">
            <a:tbl>
              <a:tblPr/>
              <a:tblGrid>
                <a:gridCol w="1295280"/>
                <a:gridCol w="2063880"/>
                <a:gridCol w="441648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DAD DE</a:t>
                      </a:r>
                      <a:r>
                        <a:rPr b="1" lang="es-PE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MED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 FÍSIC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ENTE DE INFORM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° de informes de la gestión del Progra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s de acciones de monitoreo, acciones de supervisión y evaluaciones programadas en el  plan de monitoreo y evaluación del 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59:11Z</dcterms:created>
  <dc:creator>ivargas</dc:creator>
  <dc:description/>
  <dc:language>en-US</dc:language>
  <cp:lastModifiedBy>GUIMO</cp:lastModifiedBy>
  <cp:lastPrinted>2014-04-07T13:27:30Z</cp:lastPrinted>
  <dcterms:modified xsi:type="dcterms:W3CDTF">2014-06-24T03:43:45Z</dcterms:modified>
  <cp:revision>137</cp:revision>
  <dc:subject/>
  <dc:title>Diapositiva 1</dc:title>
</cp:coreProperties>
</file>