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  <p:sldId id="270" r:id="rId55"/>
    <p:sldId id="271" r:id="rId56"/>
    <p:sldId id="272" r:id="rId57"/>
    <p:sldId id="273" r:id="rId58"/>
    <p:sldId id="274" r:id="rId59"/>
    <p:sldId id="275" r:id="rId60"/>
    <p:sldId id="276" r:id="rId61"/>
    <p:sldId id="277" r:id="rId62"/>
    <p:sldId id="278" r:id="rId63"/>
    <p:sldId id="279" r:id="rId64"/>
    <p:sldId id="280" r:id="rId65"/>
    <p:sldId id="281" r:id="rId66"/>
    <p:sldId id="282" r:id="rId67"/>
    <p:sldId id="283" r:id="rId68"/>
    <p:sldId id="284" r:id="rId69"/>
    <p:sldId id="285" r:id="rId70"/>
    <p:sldId id="286" r:id="rId71"/>
    <p:sldId id="287" r:id="rId72"/>
    <p:sldId id="288" r:id="rId73"/>
    <p:sldId id="289" r:id="rId74"/>
    <p:sldId id="290" r:id="rId75"/>
    <p:sldId id="291" r:id="rId76"/>
    <p:sldId id="292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slide" Target="slides/slide15.xml"/><Relationship Id="rId56" Type="http://schemas.openxmlformats.org/officeDocument/2006/relationships/slide" Target="slides/slide16.xml"/><Relationship Id="rId57" Type="http://schemas.openxmlformats.org/officeDocument/2006/relationships/slide" Target="slides/slide17.xml"/><Relationship Id="rId58" Type="http://schemas.openxmlformats.org/officeDocument/2006/relationships/slide" Target="slides/slide18.xml"/><Relationship Id="rId59" Type="http://schemas.openxmlformats.org/officeDocument/2006/relationships/slide" Target="slides/slide19.xml"/><Relationship Id="rId60" Type="http://schemas.openxmlformats.org/officeDocument/2006/relationships/slide" Target="slides/slide20.xml"/><Relationship Id="rId61" Type="http://schemas.openxmlformats.org/officeDocument/2006/relationships/slide" Target="slides/slide21.xml"/><Relationship Id="rId62" Type="http://schemas.openxmlformats.org/officeDocument/2006/relationships/slide" Target="slides/slide22.xml"/><Relationship Id="rId63" Type="http://schemas.openxmlformats.org/officeDocument/2006/relationships/slide" Target="slides/slide23.xml"/><Relationship Id="rId64" Type="http://schemas.openxmlformats.org/officeDocument/2006/relationships/slide" Target="slides/slide24.xml"/><Relationship Id="rId65" Type="http://schemas.openxmlformats.org/officeDocument/2006/relationships/slide" Target="slides/slide25.xml"/><Relationship Id="rId66" Type="http://schemas.openxmlformats.org/officeDocument/2006/relationships/slide" Target="slides/slide26.xml"/><Relationship Id="rId67" Type="http://schemas.openxmlformats.org/officeDocument/2006/relationships/slide" Target="slides/slide27.xml"/><Relationship Id="rId68" Type="http://schemas.openxmlformats.org/officeDocument/2006/relationships/slide" Target="slides/slide28.xml"/><Relationship Id="rId69" Type="http://schemas.openxmlformats.org/officeDocument/2006/relationships/slide" Target="slides/slide29.xml"/><Relationship Id="rId70" Type="http://schemas.openxmlformats.org/officeDocument/2006/relationships/slide" Target="slides/slide30.xml"/><Relationship Id="rId71" Type="http://schemas.openxmlformats.org/officeDocument/2006/relationships/slide" Target="slides/slide31.xml"/><Relationship Id="rId72" Type="http://schemas.openxmlformats.org/officeDocument/2006/relationships/slide" Target="slides/slide32.xml"/><Relationship Id="rId73" Type="http://schemas.openxmlformats.org/officeDocument/2006/relationships/slide" Target="slides/slide33.xml"/><Relationship Id="rId74" Type="http://schemas.openxmlformats.org/officeDocument/2006/relationships/slide" Target="slides/slide34.xml"/><Relationship Id="rId75" Type="http://schemas.openxmlformats.org/officeDocument/2006/relationships/slide" Target="slides/slide35.xml"/><Relationship Id="rId76" Type="http://schemas.openxmlformats.org/officeDocument/2006/relationships/slide" Target="slides/slide36.xml"/><Relationship Id="rId77" Type="http://schemas.openxmlformats.org/officeDocument/2006/relationships/slide" Target="slides/slide37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dt" idx="1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 type="ftr" idx="1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 type="sldNum" idx="1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24DF-860C-4D1D-A11B-3BBDFF48FC6C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2A12-E217-48E8-8EAC-6CBC2A4CA7E3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887-A621-49A7-90AD-C45A9BB3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B44-802E-4FAB-B8B2-6CB7F133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69257-171D-4D5E-ABA4-831E36E8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CFE2F-CE92-40EA-B47A-874E3375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A8676-D6DA-4505-945F-1625B4A6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26CE0-0C16-4E19-BF2C-77352E72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EDFAC-7FA1-4567-9CE1-B4CC820E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BA370-FEA2-4F59-8609-2714678F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5B80B-7B76-4325-8C25-67ED11BE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23DBD-1C8E-4D5E-85BF-F6579FF8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46FD7-4B12-4162-8141-237CB4DB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24723-03D3-40C5-903F-817A2FE5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941-10D9-43C5-AC1C-09AD8D88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75BEC-2422-4828-BA02-E5CBF093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8FF7B-3566-40B2-AADA-F54E81C5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B1FD1-E45F-483A-BC07-DBC06F2E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CE6B4-16D0-47EB-9089-9C595D8B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5821F-A0E3-4641-A6B2-EEBD9F6A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AD2DD-F62E-439A-B296-616A4F39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8464D-F73B-4DD9-9A38-20ECD16F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EA878-8288-4A29-8BB0-E38949B6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02984-4119-44FF-8E8C-778040EC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0D5F6-AAED-46BD-84A8-64DC6E95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8B9-C084-4A18-B868-A07B8488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98F9B-4AB9-4A10-9754-BB319E1C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3E0F2-CE2D-4E6F-A29F-1DEB88F3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844A4-7A03-45DA-86C5-2DDB4EF4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A138F-9B41-450F-87BE-43D0FD2F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63001-1134-411E-94C9-41C89C3E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AD94B-3DCC-4F5E-A9A4-DE47AD7C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FEC6C-A90F-4F17-AD14-B39CC71D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C3045-89CC-4A5A-81B6-6116CEFF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2BC1D-E166-4927-A686-F4B2B805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28C57-CD9C-4377-B820-0012D032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0180-E5A6-4B1A-9A3D-50EC1B15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CE159-2DCB-4676-A842-B9A564E6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2221D-4C3E-4EC6-A8EC-2B1BB2C8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DC4D7-8EF8-4880-89C5-9551B966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55F9E-4FAF-4673-BDF8-33DEAF17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B04C2-C1FE-4B4F-A354-F65B8F56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8DD88-12F4-4F35-B24C-E34FE75B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98420-51FE-4E5C-B0E5-B3E59905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533BC-440C-4678-A855-09ACF4D8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E22E0-7805-4CB1-B0DA-9F666AA3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4957E-DF80-44C1-B6DA-6A0D0256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8507-BAB0-43CF-B1A0-9A5668F4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B9A2C-D985-44A2-A9E7-08BE191A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2E2DB-F5EE-465C-A807-023FBAA0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CA8E4-AE56-47D2-A7CF-ECA7A0FA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ED8EE-1019-43D0-B857-DFC42143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2F7AE-A152-4C7F-9727-D22CF4BF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1AED3-916A-4F22-B073-1DD96956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2AF1F-DC35-4D6C-9CAA-5DD6FD69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907B1-3C74-4D63-BBF5-BC37E6B5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91B1C-1B77-4686-A32E-C69AE9D6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602AD-4462-490D-9AF6-6B1AB852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FD99-BA63-4C9E-8771-889812C2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B0C3B-75DA-4C07-AF86-44A00687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B9843-BACC-453D-A08B-6E25088D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AF100-EE79-44C2-AFCF-A359BBF7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31A63-1002-4696-8025-773226DF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9A502-E95D-4FFA-BB5F-1FE09FA6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C49C7-B3A8-452E-8F90-9E94CB7B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C809B-CB65-44F6-9FAD-E3C6C066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AE101-8DD8-42EF-B416-2B1A2543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168EC2-FA84-4485-A2AB-39D08837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11B07-E623-4495-87AD-23E8D20A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640B-D864-4046-8A9A-EF4777F8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7CE5E-E134-47B3-8182-744C8319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A761D2-C5F8-49DE-BB73-1BFC099E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6D4C5-DF4F-4A6E-BE68-C4AF348F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A14DD8-3A58-434F-A2F2-50655E45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CD6C9-DB2C-4DCB-B94B-C3CEF531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D07C2-A7BC-436D-A19C-B9B4C39D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6BB7BD-3F7D-4A89-92C7-432DCDFC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62425-4475-4D74-B497-C8D735CB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42772D-5542-4A61-B30A-50D161B6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6424F2-9E02-42B7-82B9-32B39952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DBE0-C91D-4D3E-AF60-FABAE7F8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CA3F2A-D7AC-4095-8196-BC5F1562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E4AFFB-EE02-4D5D-807F-F1BAD9AE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1E799A-26C4-4792-A73D-2B2B893C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192C79-89FD-4117-ACCD-9043FAF9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3BCB4-6AD7-4FDD-8DA8-F9461956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44F95-0B71-4995-B820-12210261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91D414-D98B-4628-B755-A8952169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5F4FC-3DFE-4E09-BE22-7DF20694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91E7A-3DB4-4E91-A8A2-FBEF6A5C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967B2-8830-42A6-8CEA-CABB80DC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CC0F-2C71-4C4E-9BFF-456F5F8C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71223A-5978-4927-8321-ACF332B8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971F5-418C-45F5-8DA7-A9781AE9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1DE2F0-8CF9-4C22-A81B-D77A0AD3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424D0-8A1A-4473-B1A5-8DC725AA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6C49A-2A8B-4577-9DAF-3DE8D85D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CCAF6D-E33F-4852-8094-5E708D9F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E81B24-BEF9-46E9-B1E3-7D01B1A8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F75559-284C-4B26-BD9D-10ED3F2B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9A0A35-6FD6-4AF3-A6AD-5C7E5C7E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DB800B-74DB-438A-933D-3CFAEC98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EEA0-6B06-4289-8CF8-F916BF8A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C2AE5A-39BE-420F-9757-0537B714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C26BA3-56CA-4A7F-B482-739DE669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21D4CB-1980-4458-8196-0BA96BE7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0A2B41-73DC-4BFA-A80B-080E04CD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D72030-FB8D-4841-A339-6806C043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155DA4-2382-40CC-8313-ECA41F1C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1518AA-A9E0-40C1-B3B7-19162010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A4D51C-84EA-49D0-ADCA-DC1ECC64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543CBE-2711-4E8C-80B7-91BAF415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C802E3-DCA9-4E6A-814E-FECC874F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8A6-6498-4BF2-BB8F-202DA01F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071E-A293-4C23-951E-F0F56886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85C089-DA81-46DD-8F16-2A746DA1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78FC96-466E-479B-9A45-3B0E426A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74320D-D4B3-4C92-8444-828196EA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E6E84-8244-4DD3-A896-B9EC7278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90478-6835-4EC6-8DA0-098BCD58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A7FA2-9AD4-4DF9-8A30-5F530E32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1AB0A9-B009-40D3-BAA5-CA6E993E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2626A9-7A41-42EA-84A8-3ADB9DDD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603C86-BF64-437F-ADCA-41535FF4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BB26DB-4399-448C-9AA1-94FD9EB0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0611-BD93-454F-A2B4-BF00EC05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39EF1A-F36A-4E59-94FA-E1B582FE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9F5439-556F-417F-A298-F43942CE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105106-E7CC-47DB-9FBC-E05758D9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8D1873-1088-4924-BFB5-8569BEB7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7611B2-9E06-4A11-BB59-E4D41214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A8AF57-1924-418B-9FC2-68CD68F3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D110B0-2B0A-4BD1-A9AE-76AEEA02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CA78E7-4A32-43B5-B248-BEE92438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31852F-6EAC-4C8D-B690-B8CC3E02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0D8B33-9BDF-4C49-80C4-3869507B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0FBE-A8C2-4883-A3AD-4DFFB079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5B7A1E-4738-45DD-A0FA-F55166A8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2D6975-BD98-4864-8F87-2EBBA769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61FE4-8E61-4BC9-9FEA-5AD5BB0A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608605-6444-4921-BBDF-863F6D73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9304D8-C40F-426E-899B-768FDBAC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D257BD-36C6-4315-AE55-A4706964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C4414B-BABB-4A2C-ABEE-8B0C5DC3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080243-B663-4682-A890-E7A02896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AF41ED-0F27-4204-9F09-61F401AD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E51076-26A1-4619-9646-913FAD9E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9A5F-97C5-43FD-8DA2-83750A0B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4E6604-2774-4F05-96DF-1A1A8E30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7E1751-EF05-4679-9D3C-032E4328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0F0BFF-4FD8-48ED-8772-9E54EA9E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831EDB-476E-431D-A3C1-06C90317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58D395-5CAD-42E7-9BF9-934BD43B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172D96-C786-4095-8A04-0BD496F0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2BCBA-3757-4637-9532-2EF6465D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588140-4C36-4C5B-B41A-72F03870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949426-28EF-408B-982B-2DBE8237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AB71D-6DE0-451F-B297-AD18EC0F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EB5B-959B-42FC-A383-5498DD8B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A2AE03-262B-4B1D-AA0E-69C0B519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962030-09FE-40E0-B360-0349A34E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A110AC-6F4C-422B-9ACA-C9978911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41F0B9-23B5-45B6-8C63-323894E0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39CF8C-2520-4A33-B50F-2AC9B1B5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4FE3B9-03B1-4DDC-A9E7-F001D822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797639-8B01-4778-BC2A-6D4470C0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9131ED-C9D1-4D2D-A922-786F7E05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D51401-2CF3-405C-B7E2-75446062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2BB1BC-28F2-42D4-B05B-11720E6E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F80AE-7180-4BB1-873C-9FBF1A75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A5F0DC-A4D0-48A5-93E2-B866E3F4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A18D3-DD4C-4DE5-B25E-6F811636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EF4DFF-3E05-4B5E-B7FD-5782B9E3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E4D700-018B-49E5-A008-1D54A6E1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D35DC0-BF01-4CA7-A36A-A265C202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DCAD8B-B5BA-4E2A-907B-69701386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D0745A-C39F-44BA-949F-9CD0BD27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9116B0-7DC3-4788-8554-050A91B4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1D2FB8-570F-47F0-A268-C6D70031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6F8307-3FA6-404B-B30F-F135F6B2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916B1-789E-4746-B432-D485BC15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2D6C2B-D17C-424F-B09E-E021BF52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BE5066-BB31-4C73-87A2-3674FB4B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D64E26-66B1-4B2B-B13C-8364E7F3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5D7079-587D-4890-BA91-1804BDDA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524653-7A3F-4233-BF70-DAF60663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823545-3A95-4FE2-9B06-2D7BE498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B37DDD-146A-43C4-9705-C41CEDC4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066042-4C9F-49D9-9269-1E8FD0E6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FAAE55-65FB-4EBB-89F7-BAEF3C3B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CE69DA-6CE9-4DD5-A638-0837D648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07AC-31E1-48A2-B266-F3414A80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610D02-96FB-43A2-A10D-BA0F1C1E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F13155-0D2C-47E3-9D7E-E7C83784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0CF9AB-749B-42EA-BFB0-C9B21CF5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63EC71-8BB8-492A-A298-291E2115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C98A6B-8502-42BF-BD12-1240542A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59666B-A743-4673-9DBA-B50E3E29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5D02CB-E229-4196-83DB-C1414891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641769-08D7-4172-8A27-63E1E1BB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98CA7E-E8BF-4FD8-AADC-C4E246AF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0508A9-8DB1-49A3-99BC-12545FD2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8801-3347-4472-8AE4-A0FA798B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4C71EB-027C-4B1E-9227-C51367F7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990436-39B9-46E1-B56F-CA1EA458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6D8D21-B6F2-4EA4-9746-34AB92DA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25CADA-1C02-4157-8BA1-DFC0F97D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3FB987-AC3D-4199-85CE-EC7F7AA2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077488-3BE5-4D37-AD0A-94019097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2730B2-10A2-4938-A073-C2499923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3302AE-1E94-4A85-8AF4-1431802F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1D9101-766A-4EB6-B175-08130DD9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6F043D-7050-4085-B5A0-67103E50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0E95-1EC2-46D3-B7BD-F306C800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1ABBCC-FAEA-4D31-B066-2FB92B65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E9C7B2-E616-4C21-9DCE-0C9692DA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972582-8CB1-451B-A653-59719BF8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293E29-7BF8-4A6C-BDDD-C7F33345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5B3FF9-1644-46BD-ADD4-0BA18996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BC04DC-43B6-4CC5-B959-23B8D221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0B1150-8E6F-4299-B0CF-5E645BFB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18D721-D01B-4CB7-B3EE-650F6A39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5631F3-9133-472C-9314-1DF864B0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E99ED1-CB32-41CB-917D-53B80A90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9EB-E0D6-4F5B-B7F8-AC9A6545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BC963-15E9-4D18-A6DB-26D7DA87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230816-CD55-4D11-AF3D-490284E8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E05DF4-C910-4D65-A94A-E4EC869F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35F15D-55E0-4D6B-A901-AA392C22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EDFA27-6F57-4EBE-8B1F-FB105E94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2793DC-4EDF-48DC-9D5A-B34C1308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E285B9-83C6-416D-8A16-FF2079CB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ECFAD2-22DE-49E9-B6FE-C1D61D1A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CA9F50-6034-4D90-BA2A-1B49D975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BB15F3-65BA-459B-9020-D48B740D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970087-84DA-4F73-AB46-3DC19CD1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A134E-E703-48A1-AB42-43A2F9BD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C2579E-6AE2-4831-AAA6-4360A078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3ABD82-B38B-4C2A-B5E3-5A9FAA61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152E32-857D-48A7-B943-9D3C4A05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277A9C-42ED-41EB-BC40-025DFB75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8C975D-4351-4CC9-BB84-14C70278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0A28B1-459B-4857-B706-76723BE4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C5A2C0-E84D-4513-B9B1-FDB10C96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B345E9-E5FF-4E3D-9684-C6654D6B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479D04-DD3B-4A69-AB9A-8A1481FE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07B52B-0BE3-493D-BA9C-6F40D4CD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44DA3-647C-4C51-98E2-252BC843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BC8BC4-CAC6-4144-A965-E2ACA99B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AEA5C3-2C99-48E3-A6C6-C6AC5C9F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831F58-2097-4196-95B9-CA583C7C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0B6F60-0772-4504-859F-8229E2D9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20A958-05B2-4A8C-B5CF-66F41142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B74037-E372-4354-A0EE-18F4562F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B9022B-259B-4C06-9DC3-C02D0675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12E0D6-CFC7-473D-AA1B-2C6D3F9C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A91932-BA83-4491-BA61-E95B114F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F264F4-FE81-4B87-B0C1-F9F7DD7B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122EF-115B-4138-9A62-D7DE69D1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0579B1-A5A0-46D3-BFB9-00B24EF5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B0C93B-271D-466A-B098-6B35B72C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E212C4-7EF0-4660-B4D3-733C2A4A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01A48E-E039-410C-B1BB-E76DDAEB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CCED18-7E97-4D98-98E9-89C285F6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040091-8F6B-46E4-B4D2-DBA7D0E8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FEF37F-9711-44E6-898E-321C4678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DDBB88-1738-4C8E-8100-FDEF0FCC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F23099-1E8F-4FB1-AD77-A783F1E3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CF6229-80B8-4685-8CC4-75FEA163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F18E-6096-4FAE-B5FF-65A6338A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FE41E0-3FC2-4DD3-A462-532D000A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B4F3B8-BE32-4552-BA92-91C49C6B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278417-6070-4687-A042-105F3132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4C3131-3080-405E-AD20-3F6FF830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0BF518-8EF1-489D-86E5-0E616CD4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C1B16E-D161-4165-BF21-4654A8C3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CB3466-F715-4949-8760-7FDD57A9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B3C7E0-DD71-420B-8E87-14D08279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95B512-4601-49CE-B6A3-1D97C2B3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5FDEE2-4E3A-4397-9A91-4E8CA4AD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65A36-B8D3-4563-B4BE-017EF52A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31C4EA-81D3-466B-8631-A5C8A3BA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4C0CAE-C103-4711-A86C-DB82D207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4825AD-0E89-45A0-AF1C-FE3B08BC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0B2403-872F-4D7C-9E47-904E3F69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B0C10C-9953-4CC0-8158-1F74EFB6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C62CE9-8F21-48A7-80F6-9431BCE8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184490-0751-4E19-A9F3-67805E29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90B232-B3D8-4E7E-A748-4802A3AE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98B59C-101D-4CB2-A87D-CA7E78E5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2CECCA-6A29-4C25-A1B6-D7AB95F0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14B21-409F-41D0-BB21-DC1B3726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9497CE-2945-4166-8457-44644656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0F85B5-AA01-4869-B989-3A1A1056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39BF84-A103-40F8-952E-76FA1A3C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373E4B-605D-4BF3-B73A-66CE43B7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53048F-3DB6-40A4-A054-7E4C5F83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D945A9-F4C4-4700-A927-EA18BF8C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142FD4-47B3-40A3-B68D-AC2141A9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FD5428-93BF-4C63-9CFE-88503E93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F6C23B-5D62-4FD2-8E72-2C11A0F0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50ABBA-DF81-48AE-964C-1B73DA66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D86A2-86D1-43DC-AA84-913ED651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D7387C-F02D-46F1-9657-0BCD7483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79A581-C172-4D22-8EF3-EE889AFF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71DE92-B767-48D9-BB5F-D5EE88F2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202760-6DB4-4BEC-98CE-62C0813F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653619-401F-4F5F-9155-92931D88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C36732-91BF-407D-9D0A-E48796DD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AA912B-B479-4E52-9749-CA75C9DB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07C603-834A-4667-AC11-515EB5BE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7A4902-E42B-4918-A258-87B3BB35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8FBA8A-A955-4CA1-B0F4-A249C063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AFDAB-255E-4B53-B0B1-F15B82EE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C800E1-627A-4D74-8056-11E99613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E5B604-4289-4639-B085-52DCDF51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CCFA63-C6E5-4CF9-BE69-3F933D00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8D29F4-7F7F-496A-8246-C8A0C490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9AF39D-1C60-44FD-83DB-E1D0424F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D28914-0ADB-4718-943F-65540B26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4B9059-B0C8-4AE0-9C40-23941152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04C63C-F047-4939-879B-69625528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112AE6-2AA6-4880-B86C-89744955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28D5F0-AF9D-4088-9BA9-7874259F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3112A-E484-42C3-BC6C-56F4746E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884BE7-D4D0-4239-BCF7-CF6D7162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11B721-3002-4109-BAAF-0864689E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FA20CC-84FC-4AA8-A715-F848646D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DAE1F2-50B5-4A7D-8D25-6279C34E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7674D5-26EB-4698-9A17-604EB1BF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2FA505-D1CD-4FFB-B5A4-5B9BDC13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F1646E-98F3-43E9-BD54-77898251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CC84A9-315D-4BD9-AAE5-508C8D3E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F5696D-B716-493B-AB7A-752234AD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93698D-E147-4D17-8CE5-834B960B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E2D-A4D5-4FA9-B47A-9D060C65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021EF-06A3-4B56-96CD-6A15D371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4E8E982-54BB-439F-9BA0-3674A7CC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701ABE-0C31-4CC3-8E82-B711F528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721C06-338D-4656-9A3E-30DC0A55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D48BBF-08B6-4595-9F4A-67C7E61A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415D89-147E-4CF1-AE94-CD9B4461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A3A4D0-B07F-43AF-82D3-3EA7DE2F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59E9E8-62C0-40C2-9570-E3A79BCC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E40A721-A233-4A90-ABFB-126B8268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7B1BF4-A205-48FF-A337-21B14DA9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43069B-9B81-419C-BF3F-5C1BF78A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6507E-BF95-4FDE-8721-A077EBE8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A3A714-2BCC-40F0-BEE2-86F6D1FB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BBAF15-A1E4-43AE-BE80-74E08E8C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B6F0A2-B5F1-49D7-9B90-D898F937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E563703-6795-4394-BA1A-30B69943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91B6CDD-998F-4F80-9D47-484C5881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6236D4-8323-46A6-8C1E-BCA2556E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F92363-8457-49D3-9C85-E1D1F089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B4A753-725D-48FF-83FD-DF4334E3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CDACA47-4946-4421-B99B-DA5C42F4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C618FE-8900-4814-B511-0DBCD55B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16F16-01B2-4FE6-A9BA-8CBCDA37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FDB7FB-72EA-43A4-8C94-F21EB4CB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D78C34-69F0-4538-8412-0C3003FC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78BFAC-7F7F-44A0-A387-C959C6BD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2BCB1A-D37A-4FAE-A357-DB0B3C77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2F0B45-4B5F-4FE0-8B11-03F48BE6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494E4A-FC24-4D56-B9BD-6465ACDD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687CC6-A120-473B-8ACF-2F47B28C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B85313-2C4A-48E0-BE28-8C5617BF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72F4E9-DE80-481F-9DD7-C10CC1E5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90910C-D6F8-4027-BD68-5F50BAB6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E84F6-2C2C-49E3-AFDC-2F9BA75A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003E15-6174-42C9-91EF-7B2985FB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83F6DF-3EC7-468E-9583-40A990EF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B358C8-15A5-473C-A216-8A528AB9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DD63253-0850-4758-BE4A-21891430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167167-7CA4-4CB2-B003-10E82496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4F3AE2-DB0D-47B7-8DBB-87DAD3C3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237940-DFC5-42E7-88D3-300C7C70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1839F1-65DC-41F4-B4E4-EB8E8CB9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4E9382-A064-401B-9585-503C3B0A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0FBCC3-705B-4AE6-8F63-1922817E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A713A-F06D-4518-9436-EB4A4823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7104A7-A460-4469-8C22-C35192E1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1E2835-6B4A-4233-96BC-45E206B3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DBDCBDB-4C17-442C-920C-9A04B199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8155F92-AE30-471A-887D-CA625B78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403AE9-750D-4D40-BA8B-F9A7A0FD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2FCC64-3A9B-457E-94D5-C0A19CB0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41DF40-9CE7-4EE6-BC32-C0BF8C46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E64366-2DC3-4ADB-8100-C6DACC06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BB5ED83-C779-4203-B327-6E81085B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2FBF2FF-CB76-4342-8CB1-1EB96CC4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0C4EE-6EF8-45A6-B641-0E817DA1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99F345-CEBD-4565-90D6-0A2EA38B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184D5DE-9E6A-49FC-8C0A-A9CFDC7D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898D92-FC92-4AED-8510-77D86C72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D1205E8-8BD5-4B56-815B-5F2DCB8C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2C8592-8E3F-4BB1-8BED-8B0E2AA1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D1F5FCB-13C2-4C78-91A7-A4BDDD23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DBE548D-E2B6-4B75-8477-A62B5E24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F05B-68A6-4015-A381-461459CE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A80D-2977-4376-866C-0451408D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7F40C-559F-4E9C-8E68-3D0958A3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DDD35-77CC-477C-91A9-053E74F7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EFE-A745-4ECC-A9CB-A99AB1CA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5E3C9-8335-4C4C-BAB1-9F146BEE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3F4A7-C3FA-4625-839B-3AB5F4A5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36379-15B4-4639-895B-3A3C0336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AD8B5-171C-48CF-B6EA-62A7B796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F1477-87E9-4D4F-9F68-F6BA6FBB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C1753-AFE4-4CC5-AB6F-F97C8470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22DDB-CCCD-45EF-B9E3-DEC6E93F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D62C6-FAC1-4FC1-A625-CFBD5025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AB450-D4F2-4D5D-AE86-477E830D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4BFBC-E77A-4715-8913-B56BC2DA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C98-2F81-4D22-AB73-DBE4BDDF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EDC81-90FD-49D2-81C1-28144312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BC42B-F745-4E82-A534-DBC117CF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8E092-4A99-44F9-837B-BF763467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DBA41-8942-455C-93AB-06FD5CED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AB9E2-58AB-4D91-BD83-4362204B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3C40C-C5C6-4B5B-81B1-C51C394F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D4FA1-A741-4113-90CB-38F6EF9B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9FB21-4D7F-4F4A-9E47-2EF73B37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B1658-9B6A-431D-8E92-FA34DF20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10584-8C98-4C55-AF2A-E7C2313E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977-339C-479D-89B2-24220D8F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1B34A-B398-4845-B65F-110D39F3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591A5-F6A3-4B07-BEA8-EDD9F1CD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F9DCA-8B32-4A14-9761-DC74E09B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83431-9DBE-41A0-86FC-C70CB223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1EDA4-2FE5-49AD-8F85-006DD483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F0EE0-04B7-40F6-8A12-708E50CC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16172-36EC-4810-9AD8-B103AF32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7E9EC-0645-4529-9CDB-A482E57D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00D2E-B693-4575-BE04-3B0B8B5B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56470-075F-443F-BF48-518EFE89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C0A-1F70-48C2-BFF0-A6270951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BE67C-446F-47AF-88D9-D9E3FCE7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A7974-C03A-4BC0-B1E9-6C349BCF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EFA0A-1B07-4094-94FD-D18C2D7B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9C4AC-D5E4-4FE8-9107-E1A4EF68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53E56-210B-4062-BA73-CC563195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0F099-51F4-4FAE-BCA4-70A3DC44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26017-319F-4BBF-AFCF-65A22BF2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0A3F7-5D4A-4BFE-80E6-6667D5F2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BF9B6-5588-4C14-9D6B-D48DC7E8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3A057-81A3-44B8-B460-EA7DEB44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7CC-9FC0-41B4-8641-ED8648A6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D188A-006A-4821-AD2A-C7F33438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7F358-A612-4FB5-B8E5-D8C41560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222D9-18B2-4270-A8F5-C43951A3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07041-068C-44AB-A313-FE84BD40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36C4D-C690-4A07-B29E-FB052012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DB0AD-1CBA-4FB2-98FD-8D3F8687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16AA6-DF95-41F5-A9BF-A6A8984A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E8F3E-21CA-4C04-AC8A-689214B7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E4774-A361-49DF-AFD4-335EA272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E4FD8-1B3F-4A7F-8959-704A094F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08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FD99-8FD4-4554-9B1D-D55ABE113D5E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904F-5A81-4800-AA4E-49049D81DD8D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DGSP"/>
          <p:cNvPicPr/>
          <p:nvPr/>
        </p:nvPicPr>
        <p:blipFill>
          <a:blip r:embed="rId2"/>
          <a:stretch/>
        </p:blipFill>
        <p:spPr>
          <a:xfrm>
            <a:off x="0" y="115920"/>
            <a:ext cx="3527280" cy="4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419D-D7EA-4AEC-A859-6E47A0C32F71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BF94-5E31-4CE4-85FF-2DC4DB33E725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A56F-F7CF-4782-AA66-50E41F06A846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FD92-41EB-427D-AF56-A1919463E175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70D9-D90A-4595-B240-B1D1FC46E4DA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507A-A8F1-49E5-99BF-6058719CE2C7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6D9B-390A-4B04-8139-8B2D10E03714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BFFE-1BD6-430F-8ECF-C3D990BACF06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06A8-FD18-4403-A2BA-607321B65388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A842-B104-40C2-81A8-827F2E775B98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D853-47BA-453B-947D-55EB99023251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3A22-279A-4A22-8098-CD53CD8398B8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9F50-F6E9-477A-936C-4F27656B5925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5A34-026D-4118-B823-E7FD93533681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69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70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73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A3E1-E175-4824-8DAD-FA29B602FD98}" type="datetime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C62C-CC35-4C42-95DC-4B76F6941ACE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19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20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23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F207-A8FF-4553-826D-0CEA1B477666}" type="datetime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2FF7-0C9C-40FE-871D-67B5B6CB765D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69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70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73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F5C2-1D00-44EB-9F17-D1AA3154EDB7}" type="datetime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5B25-D53D-4476-B16F-6CFA2B67CCAE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0269-563D-4517-874C-742E4BC918D9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949E-C0FD-4171-9ACB-1F085F4E8DF1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19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20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23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2A40-4384-4087-B24E-DDD890407600}" type="datetime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6434-82F1-46F0-A27D-47728E7C328B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69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70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73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703A-9988-4D3F-82E8-C39AEDFA730C}" type="datetime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3B31-1068-4230-81CE-0C1B30146107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19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20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23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8D3D-2530-49BA-AF82-999DCDD9244E}" type="datetime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6251-1772-4B22-B420-02F4B8A88DA8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69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70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73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A8F1-446B-4914-90EF-C046D40D9952}" type="datetime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39AA-1EA7-4F6B-9A54-1EDEA439914F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19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20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3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FD68-AF2C-4935-8DB8-CFC322174627}" type="datetime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5229-B007-4A9F-87EA-77609E107EA1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0437-1D3B-40A2-AF05-067075580769}" type="datetime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9E59-991B-41DC-AABD-FB7D6FDC5996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14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15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8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F972-65A6-4E7D-8F5C-D03311CFB636}" type="datetime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 type="sldNum" idx="7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02E9-B0EE-4A26-AC96-DF8ED7FF68E8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64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65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68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505A-67C9-4EF3-8EAD-2ACCFB9BE82A}" type="datetime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8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 type="sldNum" idx="8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BB58-EEDA-4C74-A9E9-3726CE41536A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80F3-7C41-46AB-8BE7-7B9C46053E71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5FB7-C5E4-4533-91CE-03DC2BFCFBB5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C031-57C6-4C4F-B01E-FF882A524921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5246-D094-4C82-9F98-5FA8CD09E741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B7DD-6E28-473D-B17E-F7E24E26B9C2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D974-6A66-40FF-BADD-CC64EA41A7D7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C59A-139E-4FD1-8CB2-F5E4CF06361E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586C-8E26-4C7E-813A-9C78F5D13363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8C25-D86A-47F2-9E19-713186131E02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A8F1-768E-450A-B05A-6ECBBCED18E7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B3DD-B930-4E67-9138-6AB47303377A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D66E-5A1E-4FDD-8F96-5F0ACFC150F7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117C-702A-4718-8980-75B9449E648F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A79A-43CC-4FE5-B2EE-FA7D8A21614A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F9D9-D9AA-442E-8FEF-D4D60D39E0B6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7D8A-A70D-4534-BF9F-6C01C0A2E996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3033-3892-491A-A89F-EAA0AA86A2DA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BE57-9E66-492E-AD97-812101177308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196A-E1AA-47B2-9703-6A3BF52152CD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543F-25BA-4B7D-B6A5-1CF82B440A2F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2C3C-D71A-44DB-9E92-7E8BA2E45229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919C-6BBE-4C34-906C-457299BBF030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49A6-EB36-47CF-837A-2CDCE29E0192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C1E4-DB19-4CF8-A25E-43086CB5BA26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98F7-D38A-4866-9C79-1D4E680B845A}" type="datetime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3F2C-A922-4FF8-8D6F-1418ED883B19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2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3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6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12EE-B991-45A5-9EDB-1421F8A1ECDC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504C-5BD0-4344-B8AF-C9A81A3C8A1F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E6C7-2C16-4406-9174-D350A437393A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FFE0-4695-4D92-9985-26C6C39EA50A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F94E-29F2-408E-B227-3AB101F9DB77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1C83-C654-4C30-8E9D-1543C0CE0E7B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8CD2-87A6-497A-A8F4-7F5A2165436A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B201-ED6F-4F78-8467-DDEACD061328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7FEF-E2EE-479E-944E-E2D198C8A813}" type="datetime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211B-7B74-4DBF-BFED-67F49AE9D774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14"/>
          <p:cNvSpPr/>
          <p:nvPr/>
        </p:nvSpPr>
        <p:spPr>
          <a:xfrm>
            <a:off x="539640" y="981000"/>
            <a:ext cx="7991640" cy="28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0002 PROGRAMA DE SALUD MATERNO NEO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0" name="Picture 5" descr="DGSP"/>
          <p:cNvPicPr/>
          <p:nvPr/>
        </p:nvPicPr>
        <p:blipFill>
          <a:blip r:embed="rId1"/>
          <a:stretch/>
        </p:blipFill>
        <p:spPr>
          <a:xfrm>
            <a:off x="324000" y="268200"/>
            <a:ext cx="3527280" cy="490680"/>
          </a:xfrm>
          <a:prstGeom prst="rect">
            <a:avLst/>
          </a:prstGeom>
          <a:ln w="0">
            <a:noFill/>
          </a:ln>
        </p:spPr>
      </p:pic>
      <p:pic>
        <p:nvPicPr>
          <p:cNvPr id="1671" name="Picture 14" descr=""/>
          <p:cNvPicPr/>
          <p:nvPr/>
        </p:nvPicPr>
        <p:blipFill>
          <a:blip r:embed="rId2"/>
          <a:stretch/>
        </p:blipFill>
        <p:spPr>
          <a:xfrm>
            <a:off x="420840" y="3843360"/>
            <a:ext cx="1666800" cy="1438200"/>
          </a:xfrm>
          <a:prstGeom prst="rect">
            <a:avLst/>
          </a:prstGeom>
          <a:ln w="0">
            <a:noFill/>
          </a:ln>
        </p:spPr>
      </p:pic>
      <p:pic>
        <p:nvPicPr>
          <p:cNvPr id="1672" name="Picture 15" descr=""/>
          <p:cNvPicPr/>
          <p:nvPr/>
        </p:nvPicPr>
        <p:blipFill>
          <a:blip r:embed="rId3"/>
          <a:stretch/>
        </p:blipFill>
        <p:spPr>
          <a:xfrm>
            <a:off x="2249640" y="3808440"/>
            <a:ext cx="1609560" cy="1438200"/>
          </a:xfrm>
          <a:prstGeom prst="rect">
            <a:avLst/>
          </a:prstGeom>
          <a:ln w="0">
            <a:noFill/>
          </a:ln>
        </p:spPr>
      </p:pic>
      <p:pic>
        <p:nvPicPr>
          <p:cNvPr id="1673" name="Picture 16" descr=""/>
          <p:cNvPicPr/>
          <p:nvPr/>
        </p:nvPicPr>
        <p:blipFill>
          <a:blip r:embed="rId4"/>
          <a:stretch/>
        </p:blipFill>
        <p:spPr>
          <a:xfrm>
            <a:off x="5651640" y="3789360"/>
            <a:ext cx="1333440" cy="1457280"/>
          </a:xfrm>
          <a:prstGeom prst="rect">
            <a:avLst/>
          </a:prstGeom>
          <a:ln w="0">
            <a:noFill/>
          </a:ln>
        </p:spPr>
      </p:pic>
      <p:pic>
        <p:nvPicPr>
          <p:cNvPr id="1674" name="Picture 17" descr=""/>
          <p:cNvPicPr/>
          <p:nvPr/>
        </p:nvPicPr>
        <p:blipFill>
          <a:blip r:embed="rId5"/>
          <a:stretch/>
        </p:blipFill>
        <p:spPr>
          <a:xfrm>
            <a:off x="4030560" y="3800520"/>
            <a:ext cx="1409760" cy="1504800"/>
          </a:xfrm>
          <a:prstGeom prst="rect">
            <a:avLst/>
          </a:prstGeom>
          <a:ln w="0">
            <a:noFill/>
          </a:ln>
        </p:spPr>
      </p:pic>
      <p:pic>
        <p:nvPicPr>
          <p:cNvPr id="1675" name="Picture 18" descr=""/>
          <p:cNvPicPr/>
          <p:nvPr/>
        </p:nvPicPr>
        <p:blipFill>
          <a:blip r:embed="rId6"/>
          <a:stretch/>
        </p:blipFill>
        <p:spPr>
          <a:xfrm>
            <a:off x="7129440" y="3738600"/>
            <a:ext cx="1552680" cy="1504800"/>
          </a:xfrm>
          <a:prstGeom prst="rect">
            <a:avLst/>
          </a:prstGeom>
          <a:ln w="0">
            <a:noFill/>
          </a:ln>
        </p:spPr>
      </p:pic>
      <p:pic>
        <p:nvPicPr>
          <p:cNvPr id="1676" name="Picture 20" descr=""/>
          <p:cNvPicPr/>
          <p:nvPr/>
        </p:nvPicPr>
        <p:blipFill>
          <a:blip r:embed="rId7"/>
          <a:stretch/>
        </p:blipFill>
        <p:spPr>
          <a:xfrm>
            <a:off x="7380360" y="6240600"/>
            <a:ext cx="1627200" cy="566640"/>
          </a:xfrm>
          <a:prstGeom prst="rect">
            <a:avLst/>
          </a:prstGeom>
          <a:ln w="0">
            <a:noFill/>
          </a:ln>
        </p:spPr>
      </p:pic>
      <p:pic>
        <p:nvPicPr>
          <p:cNvPr id="1677" name="Picture 21" descr=""/>
          <p:cNvPicPr/>
          <p:nvPr/>
        </p:nvPicPr>
        <p:blipFill>
          <a:blip r:embed="rId8"/>
          <a:stretch/>
        </p:blipFill>
        <p:spPr>
          <a:xfrm>
            <a:off x="2467080" y="2133720"/>
            <a:ext cx="1447560" cy="1495440"/>
          </a:xfrm>
          <a:prstGeom prst="rect">
            <a:avLst/>
          </a:prstGeom>
          <a:ln w="0">
            <a:noFill/>
          </a:ln>
        </p:spPr>
      </p:pic>
      <p:pic>
        <p:nvPicPr>
          <p:cNvPr id="1678" name="Picture 22" descr=""/>
          <p:cNvPicPr/>
          <p:nvPr/>
        </p:nvPicPr>
        <p:blipFill>
          <a:blip r:embed="rId9"/>
          <a:stretch/>
        </p:blipFill>
        <p:spPr>
          <a:xfrm>
            <a:off x="4568760" y="2124000"/>
            <a:ext cx="1600200" cy="1505160"/>
          </a:xfrm>
          <a:prstGeom prst="rect">
            <a:avLst/>
          </a:prstGeom>
          <a:ln w="0">
            <a:noFill/>
          </a:ln>
        </p:spPr>
      </p:pic>
      <p:sp>
        <p:nvSpPr>
          <p:cNvPr id="1679" name="1 CuadroTexto"/>
          <p:cNvSpPr/>
          <p:nvPr/>
        </p:nvSpPr>
        <p:spPr>
          <a:xfrm>
            <a:off x="5618520" y="5424480"/>
            <a:ext cx="3021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Dra.  Irma Ramos Chávez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Coordinadora Nacional de la Estrategia Sanitar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de Salud Sexual Reproduc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PE" sz="1100" spc="-1" strike="noStrike">
                <a:solidFill>
                  <a:srgbClr val="000000"/>
                </a:solidFill>
                <a:latin typeface="Calibri"/>
              </a:rPr>
              <a:t>Ministerio de Salu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1 Rectángulo"/>
          <p:cNvSpPr/>
          <p:nvPr/>
        </p:nvSpPr>
        <p:spPr>
          <a:xfrm>
            <a:off x="684360" y="1773360"/>
            <a:ext cx="7848360" cy="3141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 action="ppaction://hlinksldjump"/>
              </a:rPr>
              <a:t>2.- POBLACION  INFORMADA SOBRE SALUD SEXUAL, SALUD REPRODUCTIVA Y METODOS DE PLANIFICACION FAMILIAR (3000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oblación informada en salud sexual y reproductiva por medios de difusión masiva.(50002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Comunicadores y periodistas informados en temas de salud sexual y salud reproductiva (50002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SzPct val="3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oblación informada en salud reproductiva  por medios alternativos de comunicación (50002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1 CuadroTexto"/>
          <p:cNvSpPr/>
          <p:nvPr/>
        </p:nvSpPr>
        <p:spPr>
          <a:xfrm>
            <a:off x="216000" y="72864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DEFINICIONES OPERACIONALES Y CRITERIOS DE PROGRAMACIÓN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7" name="Picture 4" descr=""/>
          <p:cNvPicPr/>
          <p:nvPr/>
        </p:nvPicPr>
        <p:blipFill>
          <a:blip r:embed="rId2"/>
          <a:stretch/>
        </p:blipFill>
        <p:spPr>
          <a:xfrm>
            <a:off x="7236000" y="5950080"/>
            <a:ext cx="16268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1 CuadroTexto"/>
          <p:cNvSpPr/>
          <p:nvPr/>
        </p:nvSpPr>
        <p:spPr>
          <a:xfrm>
            <a:off x="230040" y="62064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DEFINICIONES OPERACIONALES Y CRITERIOS DE PROGRAMACIÓN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9" name="2 Rectángulo"/>
          <p:cNvGrpSpPr/>
          <p:nvPr/>
        </p:nvGrpSpPr>
        <p:grpSpPr>
          <a:xfrm>
            <a:off x="725400" y="2176560"/>
            <a:ext cx="7620120" cy="2114280"/>
            <a:chOff x="725400" y="2176560"/>
            <a:chExt cx="7620120" cy="2114280"/>
          </a:xfrm>
        </p:grpSpPr>
        <p:pic>
          <p:nvPicPr>
            <p:cNvPr id="1780" name="2 Rectángulo" descr=""/>
            <p:cNvPicPr/>
            <p:nvPr/>
          </p:nvPicPr>
          <p:blipFill>
            <a:blip r:embed="rId1"/>
            <a:stretch/>
          </p:blipFill>
          <p:spPr>
            <a:xfrm>
              <a:off x="725400" y="2176560"/>
              <a:ext cx="762012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1" name=""/>
            <p:cNvSpPr/>
            <p:nvPr/>
          </p:nvSpPr>
          <p:spPr>
            <a:xfrm>
              <a:off x="826920" y="2276640"/>
              <a:ext cx="7417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3.- ADOLESCENTES ACCEDEN A LOS SERVICIOS DE SALUD PARA LA PREVENCION DEL EMBARAZO (3000005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2002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tención Integral para la prevención del embarazo adolescente (5000502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200240" indent="-2858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2" name="Picture 6" descr=""/>
          <p:cNvPicPr/>
          <p:nvPr/>
        </p:nvPicPr>
        <p:blipFill>
          <a:blip r:embed="rId3"/>
          <a:stretch/>
        </p:blipFill>
        <p:spPr>
          <a:xfrm>
            <a:off x="7388280" y="587700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ADOLESCENTES ACCEDEN A LOS SERVICIOS DE SALUD PARA LA PREVENCION DEL EMBARAZ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456840" y="1844280"/>
            <a:ext cx="4040280" cy="4281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615960" indent="-343080" algn="just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15960" indent="-343080" algn="just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Atención Integral para la prevención del embarazo adolesc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alibri"/>
              </a:rPr>
              <a:t>Unidad de medida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dolescente atendi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000000"/>
                </a:solidFill>
                <a:uFillTx/>
                <a:latin typeface="Calibri"/>
              </a:rPr>
              <a:t>Criterio de Programació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alibri"/>
              </a:rPr>
              <a:t>30% del total de la población adolescente  o tendencia del reporte de atenciones en adolescentes en los 3 últimos años</a:t>
            </a: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1596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787640" y="980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4644720" y="1844280"/>
            <a:ext cx="4041720" cy="4281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Atención Integral para la prevención del embarazo adolesc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alibri"/>
              </a:rPr>
              <a:t>Unidad de medida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dolescente atendido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600" spc="-1" strike="noStrike">
                <a:solidFill>
                  <a:srgbClr val="ff0000"/>
                </a:solidFill>
                <a:latin typeface="Calibri"/>
              </a:rPr>
              <a:t>Para efecto del sub-producto se considera como </a:t>
            </a:r>
            <a:r>
              <a:rPr b="1" i="1" lang="es-PE" sz="1600" spc="-1" strike="noStrike" u="sng">
                <a:solidFill>
                  <a:srgbClr val="ff0000"/>
                </a:solidFill>
                <a:uFillTx/>
                <a:latin typeface="Calibri"/>
              </a:rPr>
              <a:t>Adolescente atendido</a:t>
            </a:r>
            <a:r>
              <a:rPr b="1" i="1" lang="es-PE" sz="1600" spc="-1" strike="noStrike">
                <a:solidFill>
                  <a:srgbClr val="ff0000"/>
                </a:solidFill>
                <a:latin typeface="Calibri"/>
              </a:rPr>
              <a:t> al adolescente con Plan de Atención Integral de Salud Ejecutado</a:t>
            </a:r>
            <a:r>
              <a:rPr b="1" i="1" lang="es-P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000000"/>
                </a:solidFill>
                <a:uFillTx/>
                <a:latin typeface="Calibri"/>
              </a:rPr>
              <a:t>Criterio de Programació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600" spc="-1" strike="noStrike">
                <a:solidFill>
                  <a:srgbClr val="ff0000"/>
                </a:solidFill>
                <a:latin typeface="Calibri"/>
              </a:rPr>
              <a:t>20 % del total de la población adolescente nueva o re ingresante que acudió al establecimiento de salud en el año anterior a la programación</a:t>
            </a:r>
            <a:r>
              <a:rPr b="1" i="1" lang="es-P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8" name="Picture 2" descr=""/>
          <p:cNvPicPr/>
          <p:nvPr/>
        </p:nvPicPr>
        <p:blipFill>
          <a:blip r:embed="rId2"/>
          <a:stretch/>
        </p:blipFill>
        <p:spPr>
          <a:xfrm>
            <a:off x="7164360" y="609300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1 CuadroTexto"/>
          <p:cNvSpPr/>
          <p:nvPr/>
        </p:nvSpPr>
        <p:spPr>
          <a:xfrm>
            <a:off x="182520" y="3636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DEFINICIONES OPERACIONALES Y CRITERIOS DE PROGRAMACIÓN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2 Rectángulo"/>
          <p:cNvSpPr/>
          <p:nvPr/>
        </p:nvSpPr>
        <p:spPr>
          <a:xfrm>
            <a:off x="755640" y="1989000"/>
            <a:ext cx="7704000" cy="2867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 action="ppaction://hlinksldjump"/>
              </a:rPr>
              <a:t>4.-ATENCIÓN PRENATAL REENFOCADA (30331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Atención a la Gestante  (33172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Vacuna antitetánica a la gestante (33172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Visita domiciliaria (33172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Exámenes de laboratorio completo (33172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Ecografía Obstétrica (33172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Atención Odontológica de la Gestante (33172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Evaluación del Bienestar Fetal: (33172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1" name="Picture 4" descr=""/>
          <p:cNvPicPr/>
          <p:nvPr/>
        </p:nvPicPr>
        <p:blipFill>
          <a:blip r:embed="rId2"/>
          <a:stretch/>
        </p:blipFill>
        <p:spPr>
          <a:xfrm>
            <a:off x="7516800" y="611352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_x000b_</a:t>
            </a:r>
            <a:r>
              <a:rPr b="0" lang="es-ES" sz="25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 action="ppaction://hlinksldjump"/>
              </a:rPr>
              <a:t>ATENCIÓN </a:t>
            </a:r>
            <a:r>
              <a:rPr b="0" lang="es-ES" sz="25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 action="ppaction://hlinksldjump"/>
              </a:rPr>
              <a:t>PRENATAL REENFOCAD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323640" y="1844280"/>
            <a:ext cx="4173480" cy="4753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Historia clínica, detección de factores de riesg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valuación física, incluye: examen de mamas, Papanicolaou y/o IVA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ducación para el auto examen de mama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valuación nutricion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Intervención oportuna de los signos de alarm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lan de part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xamen odontológic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sicoprofilaxis obstétrica y estimulación prenat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Tamizaje de Violenci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xámenes completos de laboratori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cografía en la primera consulta y en el tercer trimestr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Monitoreo materno fetal en el tercer trimestr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rotección antitetánica.(ESNI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Suplemento de hierro (60 mg)/ácido fólico (500 mcg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Suplemento de acido fólico (500 mcg) durante el primer trimestr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Suplemento de calci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6000" y="1267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4644720" y="1844280"/>
            <a:ext cx="4041720" cy="4753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Paquete básico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Historia </a:t>
            </a:r>
            <a:r>
              <a:rPr b="0" lang="es-ES" sz="1100" spc="-1" strike="noStrike">
                <a:solidFill>
                  <a:srgbClr val="ff0000"/>
                </a:solidFill>
                <a:latin typeface="Calibri"/>
              </a:rPr>
              <a:t>clínica Materno Perinatal, 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etección de factores de riesg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apanicolaou y/o IVA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Orientación/consejería y evaluación nutricional. (Incluye talla y peso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0000"/>
                </a:solidFill>
                <a:latin typeface="Calibri"/>
              </a:rPr>
              <a:t>Examen gineco obstétrico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sicoprofilaxis /estimulación prenatal.( cada programa tendrá sus 06 sesiones por separado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0000"/>
                </a:solidFill>
                <a:latin typeface="Calibri"/>
              </a:rPr>
              <a:t>Visitas Domiciliaria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0000"/>
                </a:solidFill>
                <a:latin typeface="Calibri"/>
              </a:rPr>
              <a:t>Inmunización contra la Influenza Adulto 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(0.5cc v. im. dosis única) debido a que las gestantes son consideradas como población de riesgo para influenza. A partir del segundo trimestre de gestación y se programará al 60% del total de gestantes. (ESNI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0000"/>
                </a:solidFill>
                <a:latin typeface="Calibri"/>
              </a:rPr>
              <a:t>Inmunización contra Hepatitis B en zonas endémica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Suplemento de ácido fólico (500 mcg) durante el primer trimestre, hasta las 13 semana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Suplemento de hierro (60 mg) y ácido fólico (400 mcg), desde las 14 semanas. (PAN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Suplemento de calcio. </a:t>
            </a:r>
            <a:r>
              <a:rPr b="0" lang="es-ES" sz="1100" spc="-1" strike="noStrike">
                <a:solidFill>
                  <a:srgbClr val="ff0000"/>
                </a:solidFill>
                <a:latin typeface="Calibri"/>
              </a:rPr>
              <a:t>2 gramos v.o diarios, desde las 20 semanas hasta el part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7" name="Picture 7" descr=""/>
          <p:cNvPicPr/>
          <p:nvPr/>
        </p:nvPicPr>
        <p:blipFill>
          <a:blip r:embed="rId4"/>
          <a:stretch/>
        </p:blipFill>
        <p:spPr>
          <a:xfrm>
            <a:off x="7380360" y="602136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_x000b_</a:t>
            </a:r>
            <a:r>
              <a:rPr b="0" lang="es-ES" sz="25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 action="ppaction://hlinksldjump"/>
              </a:rPr>
              <a:t>ATENCIÓN </a:t>
            </a:r>
            <a:r>
              <a:rPr b="0" lang="es-ES" sz="25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 action="ppaction://hlinksldjump"/>
              </a:rPr>
              <a:t>PRENATAL REENFOCAD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323640" y="1844280"/>
            <a:ext cx="4173480" cy="4753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amizaje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acteriuria asintomática (tira reactiv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ífilis (prueba rápid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IH (prueba rápid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oteinuria (tira reactiva o ácido sulfosalicílic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nemia (Hemoglobina con “Hemocue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iabetes gestacional (Hemoglucot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n zonas endémicas además se debe conside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atamiento antiparasita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otección contra la malaria, dengue, bartonelosis, chagas; usando mosquiteros tratados con insecticidas y seguimiento con gota grue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nmunización contra fiebre amarilla después de las 26 semanas en zonas endémi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acuna contra la Influenza Adulto (0.5cc VIM dosis única) debido a que las gestantes son consideradas como población de riesgo para influenza recibirán la a partir del segundo trimestre de gestación y se programará al 60% del total de gestantes (ESNI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716000" y="1267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"/>
          <p:cNvSpPr txBox="1"/>
          <p:nvPr/>
        </p:nvSpPr>
        <p:spPr>
          <a:xfrm>
            <a:off x="4644720" y="1844280"/>
            <a:ext cx="4041720" cy="4753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Calibri"/>
              </a:rPr>
              <a:t>En zonas de alta prevalencia a hepatitis “B” incluir tamizaje.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ff0000"/>
                </a:solidFill>
                <a:latin typeface="Calibri"/>
              </a:rPr>
              <a:t>(antígeno de superficie para hepatitis o  prueba rápida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36828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6828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6828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828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828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828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828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828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828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_x000b_</a:t>
            </a:r>
            <a:r>
              <a:rPr b="0" lang="es-ES" sz="25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 action="ppaction://hlinksldjump"/>
              </a:rPr>
              <a:t>ATENCIÓN </a:t>
            </a:r>
            <a:r>
              <a:rPr b="1" lang="es-ES" sz="25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</a:rPr>
              <a:t>PRENATAL REENFOCAD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468360" y="1773360"/>
            <a:ext cx="3959280" cy="4752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Calibri"/>
              </a:rPr>
              <a:t>Atención a la Gest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Calibri"/>
              </a:rPr>
              <a:t>Definición Operacional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.-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on todas las intervenciones preventivas que se realizan durante la atención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enatal. Lo realiza el Médico Gineco Obstetra, Médico Cirujano y Obstetra; a partir de los establecimientos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e salud del  I nivel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716000" y="1267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4644720" y="1844280"/>
            <a:ext cx="4041720" cy="4753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Calibri"/>
              </a:rPr>
              <a:t>Atención a la Gest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Calibri"/>
              </a:rPr>
              <a:t>Definición Operacional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.-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1400" spc="-1" strike="noStrike">
                <a:solidFill>
                  <a:srgbClr val="ff0000"/>
                </a:solidFill>
                <a:latin typeface="Calibri"/>
              </a:rPr>
              <a:t>Los profesionales responsables de la atención requieren de una actualización mínima de 75 horas al añ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e consider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6 atenciones como míni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Calibri"/>
              </a:rPr>
              <a:t>La primera consulta de atención prenatal deberá tener una duración no menor de 40 minutos, y las consultas de seguimiento deben durar no menos de 25 minut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36828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6828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6828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8" name="Picture 7" descr=""/>
          <p:cNvPicPr/>
          <p:nvPr/>
        </p:nvPicPr>
        <p:blipFill>
          <a:blip r:embed="rId3"/>
          <a:stretch/>
        </p:blipFill>
        <p:spPr>
          <a:xfrm>
            <a:off x="7380360" y="609300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1 CuadroTexto"/>
          <p:cNvSpPr/>
          <p:nvPr/>
        </p:nvSpPr>
        <p:spPr>
          <a:xfrm>
            <a:off x="230040" y="40464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DEFINICIONES OPERACIONALES Y CRITERIOS DE PROGRAMACIÓN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1 Rectángulo"/>
          <p:cNvSpPr/>
          <p:nvPr/>
        </p:nvSpPr>
        <p:spPr>
          <a:xfrm>
            <a:off x="735120" y="1916280"/>
            <a:ext cx="7653240" cy="25628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.-MUNICIPIOS PROMUEVEN PRACTICAS SALUDABLES EN SALUD SEXUAL Y REPRODUCTIVA (3033288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nsejo Municipal capacitado en Gestion Local para elaborar PIP y Política Publicas a favor de la Salud materna neo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ité Multisectorial capacitado Gestion Local para promover practicas saludables en salud materna neona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1" name="Picture 4" descr=""/>
          <p:cNvPicPr/>
          <p:nvPr/>
        </p:nvPicPr>
        <p:blipFill>
          <a:blip r:embed="rId1"/>
          <a:stretch/>
        </p:blipFill>
        <p:spPr>
          <a:xfrm>
            <a:off x="7402680" y="602136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1 CuadroTexto"/>
          <p:cNvSpPr/>
          <p:nvPr/>
        </p:nvSpPr>
        <p:spPr>
          <a:xfrm>
            <a:off x="230040" y="40464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DEFINICIONES OPERACIONALES Y CRITERIOS DE PROGRAMACIÓN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3" name="2 Rectángulo"/>
          <p:cNvGrpSpPr/>
          <p:nvPr/>
        </p:nvGrpSpPr>
        <p:grpSpPr>
          <a:xfrm>
            <a:off x="785880" y="2163600"/>
            <a:ext cx="7804080" cy="2846520"/>
            <a:chOff x="785880" y="2163600"/>
            <a:chExt cx="7804080" cy="2846520"/>
          </a:xfrm>
        </p:grpSpPr>
        <p:pic>
          <p:nvPicPr>
            <p:cNvPr id="1814" name="2 Rectángulo" descr=""/>
            <p:cNvPicPr/>
            <p:nvPr/>
          </p:nvPicPr>
          <p:blipFill>
            <a:blip r:embed="rId1"/>
            <a:stretch/>
          </p:blipFill>
          <p:spPr>
            <a:xfrm>
              <a:off x="785880" y="2163600"/>
              <a:ext cx="7804080" cy="28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5" name=""/>
            <p:cNvSpPr/>
            <p:nvPr/>
          </p:nvSpPr>
          <p:spPr>
            <a:xfrm>
              <a:off x="900000" y="2276640"/>
              <a:ext cx="75758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ff"/>
                  </a:solidFill>
                  <a:uFillTx/>
                  <a:latin typeface="Calibri"/>
                  <a:ea typeface="Times New Roman"/>
                </a:rPr>
                <a:t>6.-COMUNIDADES SALUDABLES QUE PROMUEVEN SALUD SEXUAL Y REPRODUC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Calibri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 algn="just">
                <a:lnSpc>
                  <a:spcPct val="100000"/>
                </a:lnSpc>
                <a:buClr>
                  <a:srgbClr val="002060"/>
                </a:buClr>
                <a:buSzPct val="55000"/>
                <a:buFont typeface="Calibri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2060"/>
                  </a:solidFill>
                  <a:latin typeface="Calibri"/>
                  <a:ea typeface="Times New Roman"/>
                </a:rPr>
                <a:t>Junta vecinal comunal capacitada para vigilancia comunitaria en salud de madres y neonatos (33289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 algn="just">
                <a:lnSpc>
                  <a:spcPct val="100000"/>
                </a:lnSpc>
                <a:buClr>
                  <a:srgbClr val="002060"/>
                </a:buClr>
                <a:buSzPct val="55000"/>
                <a:buFont typeface="Calibri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2060"/>
                  </a:solidFill>
                  <a:latin typeface="Calibri"/>
                  <a:ea typeface="Times New Roman"/>
                </a:rPr>
                <a:t>ACS capacitados para vigilancia comunitaria y orientación en prácticas saludables para las madres y neonatos. (33289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 algn="just">
                <a:lnSpc>
                  <a:spcPct val="100000"/>
                </a:lnSpc>
                <a:buClr>
                  <a:srgbClr val="002060"/>
                </a:buClr>
                <a:buSzPct val="55000"/>
                <a:buFont typeface="Calibri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6" name="Picture 6" descr=""/>
          <p:cNvPicPr/>
          <p:nvPr/>
        </p:nvPicPr>
        <p:blipFill>
          <a:blip r:embed="rId2"/>
          <a:stretch/>
        </p:blipFill>
        <p:spPr>
          <a:xfrm>
            <a:off x="7020000" y="595008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1 CuadroTexto"/>
          <p:cNvSpPr/>
          <p:nvPr/>
        </p:nvSpPr>
        <p:spPr>
          <a:xfrm>
            <a:off x="230040" y="40464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DEFINICIONES OPERACIONALES Y CRITERIOS DE PROGRAMACIÓN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2 Rectángulo" descr=""/>
          <p:cNvPicPr/>
          <p:nvPr/>
        </p:nvPicPr>
        <p:blipFill>
          <a:blip r:embed="rId1"/>
          <a:stretch/>
        </p:blipFill>
        <p:spPr>
          <a:xfrm>
            <a:off x="725400" y="1743120"/>
            <a:ext cx="7407360" cy="3530520"/>
          </a:xfrm>
          <a:prstGeom prst="rect">
            <a:avLst/>
          </a:prstGeom>
          <a:ln w="0">
            <a:noFill/>
          </a:ln>
        </p:spPr>
      </p:pic>
      <p:pic>
        <p:nvPicPr>
          <p:cNvPr id="1819" name="Picture 4" descr=""/>
          <p:cNvPicPr/>
          <p:nvPr/>
        </p:nvPicPr>
        <p:blipFill>
          <a:blip r:embed="rId2"/>
          <a:stretch/>
        </p:blipFill>
        <p:spPr>
          <a:xfrm>
            <a:off x="7388280" y="602136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8 Marcador de contenido" descr=""/>
          <p:cNvPicPr/>
          <p:nvPr/>
        </p:nvPicPr>
        <p:blipFill>
          <a:blip r:embed="rId1"/>
          <a:stretch/>
        </p:blipFill>
        <p:spPr>
          <a:xfrm>
            <a:off x="530280" y="1268280"/>
            <a:ext cx="8289720" cy="5040360"/>
          </a:xfrm>
          <a:prstGeom prst="rect">
            <a:avLst/>
          </a:prstGeom>
          <a:ln w="0">
            <a:noFill/>
          </a:ln>
        </p:spPr>
      </p:pic>
      <p:sp>
        <p:nvSpPr>
          <p:cNvPr id="1681" name="14 CuadroTexto"/>
          <p:cNvSpPr/>
          <p:nvPr/>
        </p:nvSpPr>
        <p:spPr>
          <a:xfrm>
            <a:off x="514440" y="404640"/>
            <a:ext cx="8321760" cy="1130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ESTRATEGIA DE SALUD SEXUAL Y RE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0000"/>
                </a:solidFill>
                <a:latin typeface="Arial"/>
              </a:rPr>
              <a:t>"RESOLUCIÓN MINISTERIAL N° 771-2004/MI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2" name="Picture 4" descr=""/>
          <p:cNvPicPr/>
          <p:nvPr/>
        </p:nvPicPr>
        <p:blipFill>
          <a:blip r:embed="rId2"/>
          <a:stretch/>
        </p:blipFill>
        <p:spPr>
          <a:xfrm>
            <a:off x="7167600" y="6165720"/>
            <a:ext cx="1622520" cy="567000"/>
          </a:xfrm>
          <a:prstGeom prst="rect">
            <a:avLst/>
          </a:prstGeom>
          <a:ln w="0">
            <a:noFill/>
          </a:ln>
        </p:spPr>
      </p:pic>
      <p:pic>
        <p:nvPicPr>
          <p:cNvPr id="1683" name="Picture 3" descr=""/>
          <p:cNvPicPr/>
          <p:nvPr/>
        </p:nvPicPr>
        <p:blipFill>
          <a:blip r:embed="rId3"/>
          <a:stretch/>
        </p:blipFill>
        <p:spPr>
          <a:xfrm>
            <a:off x="27000" y="61920"/>
            <a:ext cx="35305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2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743120"/>
            <a:ext cx="4095720" cy="5029200"/>
          </a:xfrm>
          <a:prstGeom prst="rect">
            <a:avLst/>
          </a:prstGeom>
          <a:ln w="0">
            <a:noFill/>
          </a:ln>
        </p:spPr>
      </p:pic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716000" y="1267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4644720" y="1844280"/>
            <a:ext cx="4041720" cy="4753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254061"/>
                </a:solidFill>
                <a:latin typeface="Calibri"/>
              </a:rPr>
              <a:t>INSTITUCIONES EDUCATIVAS SALUDABLES PROMUEVEN SALUD SEXUAL Y REPRODUC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spcBef>
                <a:spcPts val="451"/>
              </a:spcBef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Consejo Educativo Institucional (CONEI) comprometidos que promueve practicas en maternidad saludables y salud del neonato 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spcBef>
                <a:spcPts val="451"/>
              </a:spcBef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Docentes de Instituciones Educativas capacitados en maternidad saludable y salud del neon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spcBef>
                <a:spcPts val="451"/>
              </a:spcBef>
              <a:buClr>
                <a:srgbClr val="ff0000"/>
              </a:buClr>
              <a:buSzPct val="5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0000"/>
                </a:solidFill>
                <a:latin typeface="Calibri"/>
              </a:rPr>
              <a:t>Asociaciones de padres de familia (apafas) desarrollan acciones para la promoción de  la salud sexual integ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spcBef>
                <a:spcPts val="451"/>
              </a:spcBef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spcBef>
                <a:spcPts val="400"/>
              </a:spcBef>
              <a:buClr>
                <a:srgbClr val="000000"/>
              </a:buClr>
              <a:buSzPct val="62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8 CuadroTexto"/>
          <p:cNvSpPr/>
          <p:nvPr/>
        </p:nvSpPr>
        <p:spPr>
          <a:xfrm>
            <a:off x="1114560" y="611280"/>
            <a:ext cx="72104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9 CuadroTexto"/>
          <p:cNvSpPr/>
          <p:nvPr/>
        </p:nvSpPr>
        <p:spPr>
          <a:xfrm>
            <a:off x="1266840" y="763560"/>
            <a:ext cx="72104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10 CuadroTexto"/>
          <p:cNvSpPr/>
          <p:nvPr/>
        </p:nvSpPr>
        <p:spPr>
          <a:xfrm>
            <a:off x="1266840" y="763560"/>
            <a:ext cx="72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254061"/>
                </a:solidFill>
                <a:latin typeface="Arial"/>
              </a:rPr>
              <a:t>INSTITUCIONES EDUCATIVAS SALUDABLES PROMUEVEN SALUD SEXUAL Y RE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8" name="Picture 10" descr=""/>
          <p:cNvPicPr/>
          <p:nvPr/>
        </p:nvPicPr>
        <p:blipFill>
          <a:blip r:embed="rId2"/>
          <a:stretch/>
        </p:blipFill>
        <p:spPr>
          <a:xfrm>
            <a:off x="7164360" y="602136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1 CuadroTexto"/>
          <p:cNvSpPr/>
          <p:nvPr/>
        </p:nvSpPr>
        <p:spPr>
          <a:xfrm>
            <a:off x="230040" y="40464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DEFINICIONES OPERACIONALES Y CRITERIOS DE PROGRAMACIÓN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0" name="Picture 2" descr=""/>
          <p:cNvPicPr/>
          <p:nvPr/>
        </p:nvPicPr>
        <p:blipFill>
          <a:blip r:embed="rId1"/>
          <a:stretch/>
        </p:blipFill>
        <p:spPr>
          <a:xfrm>
            <a:off x="590400" y="1474920"/>
            <a:ext cx="8388360" cy="9394560"/>
          </a:xfrm>
          <a:prstGeom prst="rect">
            <a:avLst/>
          </a:prstGeom>
          <a:ln w="0">
            <a:noFill/>
          </a:ln>
        </p:spPr>
      </p:pic>
      <p:sp>
        <p:nvSpPr>
          <p:cNvPr id="1831" name="1 CuadroTexto"/>
          <p:cNvSpPr/>
          <p:nvPr/>
        </p:nvSpPr>
        <p:spPr>
          <a:xfrm>
            <a:off x="458280" y="1476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2" name="Picture 4" descr=""/>
          <p:cNvPicPr/>
          <p:nvPr/>
        </p:nvPicPr>
        <p:blipFill>
          <a:blip r:embed="rId2"/>
          <a:stretch/>
        </p:blipFill>
        <p:spPr>
          <a:xfrm>
            <a:off x="7423200" y="6165720"/>
            <a:ext cx="162720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1 CuadroTexto"/>
          <p:cNvSpPr/>
          <p:nvPr/>
        </p:nvSpPr>
        <p:spPr>
          <a:xfrm>
            <a:off x="230040" y="40464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DEFINICIONES OPERACIONALES Y CRITERIOS DE PROGRAMACIÓN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2 Rectángulo"/>
          <p:cNvSpPr/>
          <p:nvPr/>
        </p:nvSpPr>
        <p:spPr>
          <a:xfrm>
            <a:off x="755640" y="2492280"/>
            <a:ext cx="7489800" cy="256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</a:rPr>
              <a:t>9.- POBLACIÓN ACCEDE A SERVICIOS DE CONSEJERIA EN SALUD SEXUAL Y REPRODUCTIVA (30332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Orientación/Consejería en salud sexual y reproductiva (33292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Capacitación de Mujeres con Demanda insatisfecha de planificación familiar (33292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Atención Pre concepcional</a:t>
            </a: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 (33292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5" name="Picture 4" descr=""/>
          <p:cNvPicPr/>
          <p:nvPr/>
        </p:nvPicPr>
        <p:blipFill>
          <a:blip r:embed="rId1"/>
          <a:stretch/>
        </p:blipFill>
        <p:spPr>
          <a:xfrm>
            <a:off x="7431120" y="613728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"/>
          <p:cNvSpPr txBox="1"/>
          <p:nvPr/>
        </p:nvSpPr>
        <p:spPr>
          <a:xfrm>
            <a:off x="539280" y="1773360"/>
            <a:ext cx="3961080" cy="4752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5000"/>
          </a:bodyPr>
          <a:p>
            <a:pPr lvl="2" marL="1085760" indent="-217080" algn="just">
              <a:spcBef>
                <a:spcPts val="451"/>
              </a:spcBef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 algn="just">
              <a:spcBef>
                <a:spcPts val="451"/>
              </a:spcBef>
              <a:buClr>
                <a:srgbClr val="0000ff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</a:rPr>
              <a:t>POBLACIÓN ACCEDE A SERVICIOS DE CONSEJERIA EN SALUD SEXUAL Y REPRODUC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3 atenciones de 30 minutos cada una (1era atención es de detección del riesgo gestacional y la segunda de seguimiento o mantenimient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Evaluación física, incluye examen de mama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Evaluación nutricional (Índice de Masa Corporal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Dosaje de hemoglobina/hematocrit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Provisión de Ácido Fólico 3 m3ses antes del embarazo (90 tabletas de ácido fólico por MEF). Evaluación odontológica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Vacuna antitetánica (Estrategia Sanitaria Nacional de Inmunizaciones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Toma de Papanicolaou y/o IVAA (Programa Presupuestal de P y C Cáncer Mujeres de 30 a 49 años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Prueba de ELISA o prueba rápida para VIH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Prueba de RPR para Sífili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Tamizaje de Violencia basada en Genero (VBG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Inmunización contra fiebre amarilla en zonas endémica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Educación para el auto examen de mama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Orientación/consejería en salud sexual y reproductiv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719240" y="1196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"/>
          <p:cNvSpPr txBox="1"/>
          <p:nvPr/>
        </p:nvSpPr>
        <p:spPr>
          <a:xfrm>
            <a:off x="4719240" y="1773360"/>
            <a:ext cx="4041720" cy="4752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es-E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</a:rPr>
              <a:t>POBLACIÓN ACCEDE A SERVICIOS DE CONSEJERIA EN SALUD SEXUAL Y REPRODUC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5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Atención Pre concep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857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2 atenciones de 30 minu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57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Provisión de Ácido Fólico 1 mg al día,  3 meses antes de la concep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57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Detección y evaluación temprana de riesgo de salud ment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57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8 CuadroTexto"/>
          <p:cNvSpPr/>
          <p:nvPr/>
        </p:nvSpPr>
        <p:spPr>
          <a:xfrm>
            <a:off x="1114560" y="611280"/>
            <a:ext cx="72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OBLACIÓN ACCEDE A SERVICIOS DE CONSEJERIA EN SALUD SEXUAL Y REPRODUCTIVA (30332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2" name="Picture 8" descr=""/>
          <p:cNvPicPr/>
          <p:nvPr/>
        </p:nvPicPr>
        <p:blipFill>
          <a:blip r:embed="rId1"/>
          <a:stretch/>
        </p:blipFill>
        <p:spPr>
          <a:xfrm>
            <a:off x="7236000" y="6093000"/>
            <a:ext cx="16268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1 CuadroTexto"/>
          <p:cNvSpPr/>
          <p:nvPr/>
        </p:nvSpPr>
        <p:spPr>
          <a:xfrm>
            <a:off x="230040" y="40464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DEFINICIONES OPERACIONALES Y CRITERIOS DE PROGRAMACIÓN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2 Rectángulo"/>
          <p:cNvSpPr/>
          <p:nvPr/>
        </p:nvSpPr>
        <p:spPr>
          <a:xfrm>
            <a:off x="730080" y="1341360"/>
            <a:ext cx="7632720" cy="3660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</a:rPr>
              <a:t>10.-ATENCION DE LA GESTANTE CON COMPLICACIONES (30332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Amenaza de parto Prematuro (33294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Hemorragias de la 1er mitad del embarazo sin laparotomía: (33294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Hemorragia de la 2da mitad del embarazo (33294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Hiperémesis gravídica: (33294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Infección del Tracto Urinario en el embarazo (33294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Ruptura prematura de membranas y otras relacionadas (33294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Hemorragias de la 1era mitad del embarazo con laparotomía (33294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Trastorno hipertensivos en el Embarazo (33294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Trastornos metabólicos del embarazo (33294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Otras Enfermedades del embarazo (33294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5" name="Picture 4" descr=""/>
          <p:cNvPicPr/>
          <p:nvPr/>
        </p:nvPicPr>
        <p:blipFill>
          <a:blip r:embed="rId1"/>
          <a:stretch/>
        </p:blipFill>
        <p:spPr>
          <a:xfrm>
            <a:off x="7488360" y="603720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1 Rectángulo"/>
          <p:cNvSpPr/>
          <p:nvPr/>
        </p:nvSpPr>
        <p:spPr>
          <a:xfrm>
            <a:off x="1332000" y="2598840"/>
            <a:ext cx="6769080" cy="916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11.-ATENCIÓN DEL PARTO NORMAL (30332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Atención del Parto Normal (33295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2 CuadroTexto"/>
          <p:cNvSpPr/>
          <p:nvPr/>
        </p:nvSpPr>
        <p:spPr>
          <a:xfrm>
            <a:off x="230040" y="40464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DEFINICIONES OPERACIONALES Y CRITERIOS DE PROGRAMACIÓN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8" name="Picture 4" descr=""/>
          <p:cNvPicPr/>
          <p:nvPr/>
        </p:nvPicPr>
        <p:blipFill>
          <a:blip r:embed="rId1"/>
          <a:stretch/>
        </p:blipFill>
        <p:spPr>
          <a:xfrm>
            <a:off x="7288200" y="5877000"/>
            <a:ext cx="16257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539280" y="9824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"/>
          <p:cNvSpPr txBox="1"/>
          <p:nvPr/>
        </p:nvSpPr>
        <p:spPr>
          <a:xfrm>
            <a:off x="466200" y="1699920"/>
            <a:ext cx="3961080" cy="4753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ATENCIÓN DEL PARTO NORMAL</a:t>
            </a:r>
            <a:r>
              <a:rPr b="0" lang="es-MX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 /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s-ES" sz="1800" spc="-1" strike="noStrike" u="sng">
                <a:solidFill>
                  <a:srgbClr val="376092"/>
                </a:solidFill>
                <a:uFillTx/>
                <a:latin typeface="Calibri"/>
              </a:rPr>
              <a:t>ATENCIÓN DEL PARTO VAGI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755960" y="10108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4719240" y="1699920"/>
            <a:ext cx="4041720" cy="4825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ATENCIÓN DEL PARTO NORMAL/ </a:t>
            </a:r>
            <a:r>
              <a:rPr b="1" lang="es-ES" sz="1800" spc="-1" strike="noStrike" u="sng">
                <a:solidFill>
                  <a:srgbClr val="376092"/>
                </a:solidFill>
                <a:uFillTx/>
                <a:latin typeface="Calibri"/>
              </a:rPr>
              <a:t>ATENCIÓN DEL PARTO VAGI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Calibri"/>
              </a:rPr>
              <a:t>Los profesionales responsables de la atención requieren de una actualización mínima de 75 horas al añ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Atención del puerperio inmediato y mediato</a:t>
            </a:r>
            <a:r>
              <a:rPr b="0" lang="es-ES" sz="1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Calibri"/>
              </a:rPr>
              <a:t>Puerperio inmediato (2 horas), garantizar alojamiento conjun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Calibri"/>
              </a:rPr>
              <a:t>Orientación/Consejería en lactancia materna, signos de alarma del puerperio, planificación familiar y provisión del método anticonceptivo elegido por la puérper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Calibri"/>
              </a:rPr>
              <a:t>3 equipos de turnos que incluye medico Gineco obstetra y Obstetra  y personal técnico, para: atención de emergencia, sala de dilatación, sala de partos y hospitalización-puerperio. El Obstetra  y el personal técnico  de estos equipos, deben ser programados en cada una de  las diferentes áreas mencionad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8 CuadroTexto"/>
          <p:cNvSpPr/>
          <p:nvPr/>
        </p:nvSpPr>
        <p:spPr>
          <a:xfrm>
            <a:off x="1114560" y="611280"/>
            <a:ext cx="72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11.-ATENCIÓN DEL PARTO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8 Marcador de contenido"/>
          <p:cNvSpPr/>
          <p:nvPr/>
        </p:nvSpPr>
        <p:spPr>
          <a:xfrm>
            <a:off x="611280" y="2687760"/>
            <a:ext cx="381636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En caso de emergencia el parto inminente puede ser asistido por otro personal de salud capacitado, en los establecimientos de salud Nivel I-1, I-2, I-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Calibri"/>
              </a:rPr>
              <a:t>Se consider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Consulta de Emergenc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2 días de internamiento u hospitalización (48 horas o 2880 minutos: atención del parto y puerperio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Atención en el periodo de dilatació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Atención del periodo expulsivo, hasta la entrega del recién nacido</a:t>
            </a: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 luego de la ligadura y sección del cordón umbilic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Atención del alumbramiento dirigi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Atención del puerperio inmediato y media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Exámenes auxiliares y de laboratorio que incluya pruebas rápidas de tamizaje para VIH/Sífilis, si es que no se hubiera realizado durante la atención prenat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Parto vertical con adecuación intercultura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3 equipos de turnos que incluye medico gineco obstetra y obstetra para: atención de emergencia , sala de dilatación, sala de parto, y hospitalización-puerper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Identificación de la madre y recién nacido/a antes de salir de sala de par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Elaboración y entrega del certificado de nacimien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Capacitación a personal de salud modalidad: pasantías en atención de parto vertical y  talleres de interculturali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1 Rectángulo"/>
          <p:cNvSpPr/>
          <p:nvPr/>
        </p:nvSpPr>
        <p:spPr>
          <a:xfrm>
            <a:off x="1042920" y="2205000"/>
            <a:ext cx="6913800" cy="146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12.-ATENCIÓN DEL PARTO COMPLICADO NO QUIRURGICO (30332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Parto Distócico (33296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Hemorragias Intraparto y postparto (33296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Atonía uterina (33296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Retención placentaria (33296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2 Rectángulo"/>
          <p:cNvSpPr/>
          <p:nvPr/>
        </p:nvSpPr>
        <p:spPr>
          <a:xfrm>
            <a:off x="539640" y="6922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DEFINICIONES OPERACIONALES Y CRITERIOS DE PROGRAMACIÓN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8" name="Picture 4" descr=""/>
          <p:cNvPicPr/>
          <p:nvPr/>
        </p:nvPicPr>
        <p:blipFill>
          <a:blip r:embed="rId1"/>
          <a:stretch/>
        </p:blipFill>
        <p:spPr>
          <a:xfrm>
            <a:off x="7499520" y="5950080"/>
            <a:ext cx="16268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1 Rectángulo"/>
          <p:cNvSpPr/>
          <p:nvPr/>
        </p:nvSpPr>
        <p:spPr>
          <a:xfrm>
            <a:off x="1042920" y="2205000"/>
            <a:ext cx="691380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13.-ATENCIÓN DEL PARTO COMPLICADO  QUIRURGICO (30332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Cesárea (332970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2 Rectángulo"/>
          <p:cNvSpPr/>
          <p:nvPr/>
        </p:nvSpPr>
        <p:spPr>
          <a:xfrm>
            <a:off x="539640" y="6922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DEFINICIONES OPERACIONALES Y CRITERIOS DE PROGRAMACIÓN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1" name="Picture 2" descr=""/>
          <p:cNvPicPr/>
          <p:nvPr/>
        </p:nvPicPr>
        <p:blipFill>
          <a:blip r:embed="rId1"/>
          <a:stretch/>
        </p:blipFill>
        <p:spPr>
          <a:xfrm>
            <a:off x="6981840" y="573264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208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  <a:ea typeface="Arial"/>
              </a:rPr>
              <a:t>DEFINICIONES OPERACIONALES Y CRITERIOS DE PROGRAMACIÓN 201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"/>
          <p:cNvSpPr txBox="1"/>
          <p:nvPr/>
        </p:nvSpPr>
        <p:spPr>
          <a:xfrm>
            <a:off x="684000" y="2565360"/>
            <a:ext cx="7715160" cy="2332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14.- ATENCIÓN DEL PUERPERIO (303329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Atención del Puerperio (33298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4" name="Picture 4" descr=""/>
          <p:cNvPicPr/>
          <p:nvPr/>
        </p:nvPicPr>
        <p:blipFill>
          <a:blip r:embed="rId1"/>
          <a:stretch/>
        </p:blipFill>
        <p:spPr>
          <a:xfrm>
            <a:off x="7499520" y="6021360"/>
            <a:ext cx="16268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4" name="1 Imagen" descr="Diapositiva13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14.- ATENCIÓN DEL PUERPERI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539280" y="9824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539280" y="1773360"/>
            <a:ext cx="3961080" cy="4752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Calibri"/>
                <a:ea typeface="PMingLiU"/>
              </a:rPr>
              <a:t>Se considera</a:t>
            </a:r>
            <a:r>
              <a:rPr b="0" lang="es-ES" sz="1400" spc="-1" strike="noStrike">
                <a:solidFill>
                  <a:srgbClr val="002060"/>
                </a:solidFill>
                <a:latin typeface="Calibri"/>
                <a:ea typeface="PMingLiU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060"/>
                </a:solidFill>
                <a:latin typeface="Calibri"/>
                <a:ea typeface="Calibri"/>
              </a:rPr>
              <a:t>02 atenciones x 20 minutos cada un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060"/>
                </a:solidFill>
                <a:latin typeface="Calibri"/>
                <a:ea typeface="Calibri"/>
              </a:rPr>
              <a:t>Vitamina A: al 100% de puérperas en provincias priorizadas (01 tableta de 200,000UI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060"/>
                </a:solidFill>
                <a:latin typeface="Calibri"/>
                <a:ea typeface="PMingLiU"/>
              </a:rPr>
              <a:t>30 tabletas de sulfato ferroso + ácido fólico (Programa Presupuestal Articulado Nutricional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060"/>
                </a:solidFill>
                <a:latin typeface="Calibri"/>
                <a:ea typeface="PMingLiU"/>
              </a:rPr>
              <a:t>1 visita domiciliaria en caso que la puérpera no acuda a su contro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755960" y="10108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"/>
          <p:cNvSpPr txBox="1"/>
          <p:nvPr/>
        </p:nvSpPr>
        <p:spPr>
          <a:xfrm>
            <a:off x="4719240" y="1699920"/>
            <a:ext cx="4041720" cy="4825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5 Marcador de contenido"/>
          <p:cNvSpPr/>
          <p:nvPr/>
        </p:nvSpPr>
        <p:spPr>
          <a:xfrm>
            <a:off x="4716360" y="1700280"/>
            <a:ext cx="4041720" cy="4825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Orientación y consejería en lactancia materna, salud sexual y reproductiva provisión de métodos anticoncep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Toma de hemoglobina en el primer control de puerpe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1" name="Picture 8" descr=""/>
          <p:cNvPicPr/>
          <p:nvPr/>
        </p:nvPicPr>
        <p:blipFill>
          <a:blip r:embed="rId1"/>
          <a:stretch/>
        </p:blipFill>
        <p:spPr>
          <a:xfrm>
            <a:off x="7104240" y="5805360"/>
            <a:ext cx="162684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  <a:ea typeface="Arial"/>
              </a:rPr>
              <a:t>DEFINICIONES OPERACIONALES Y CRITERIOS DE PROGRAMACIÓN 201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"/>
          <p:cNvSpPr txBox="1"/>
          <p:nvPr/>
        </p:nvSpPr>
        <p:spPr>
          <a:xfrm>
            <a:off x="684000" y="2565360"/>
            <a:ext cx="7715160" cy="2332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15.-ATENCIÓN DEL PUERPERIO CON COMPLICACIÓNES (303329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Endometritis puerperal (33299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Mastitis (332990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Otras Complicaciones del puerperio. (33299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4" name="Picture 4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  <a:ea typeface="Arial"/>
              </a:rPr>
              <a:t>DEFINICIONES OPERACIONALES Y CRITERIOS DE PROGRAMACIÓN 201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"/>
          <p:cNvSpPr txBox="1"/>
          <p:nvPr/>
        </p:nvSpPr>
        <p:spPr>
          <a:xfrm>
            <a:off x="684000" y="2565360"/>
            <a:ext cx="7715160" cy="2332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16.-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TENCIÓN OBSTETRICA EN LA UNIDAD DE CUIDADOS INTENSIVOS  (303330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7" name="Picture 2" descr=""/>
          <p:cNvPicPr/>
          <p:nvPr/>
        </p:nvPicPr>
        <p:blipFill>
          <a:blip r:embed="rId1"/>
          <a:stretch/>
        </p:blipFill>
        <p:spPr>
          <a:xfrm>
            <a:off x="6948360" y="5805360"/>
            <a:ext cx="162720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  <a:ea typeface="Arial"/>
              </a:rPr>
              <a:t>DEFINICIONES OPERACIONALES Y CRITERIOS DE PROGRAMACIÓN 201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684000" y="2565360"/>
            <a:ext cx="7715160" cy="2332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17.-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CCESO AL SISTEMA DE REFERENCIA  INSTITUCIONAL (303330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0" name="Picture 2" descr=""/>
          <p:cNvPicPr/>
          <p:nvPr/>
        </p:nvPicPr>
        <p:blipFill>
          <a:blip r:embed="rId1"/>
          <a:stretch/>
        </p:blipFill>
        <p:spPr>
          <a:xfrm>
            <a:off x="7513560" y="587700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  <a:ea typeface="Arial"/>
              </a:rPr>
              <a:t>DEFINICIONES OPERACIONALES Y CRITERIOS DE PROGRAMACIÓN 201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"/>
          <p:cNvSpPr txBox="1"/>
          <p:nvPr/>
        </p:nvSpPr>
        <p:spPr>
          <a:xfrm>
            <a:off x="684000" y="2565360"/>
            <a:ext cx="7715160" cy="2332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18.-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TENCION DEL RECIEN NACIDO NORMAL (303330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3" name="Picture 2" descr=""/>
          <p:cNvPicPr/>
          <p:nvPr/>
        </p:nvPicPr>
        <p:blipFill>
          <a:blip r:embed="rId1"/>
          <a:stretch/>
        </p:blipFill>
        <p:spPr>
          <a:xfrm>
            <a:off x="7164360" y="587700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  <a:ea typeface="Arial"/>
              </a:rPr>
              <a:t>DEFINICIONES OPERACIONALES Y CRITERIOS DE PROGRAMACIÓN 201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684000" y="2565360"/>
            <a:ext cx="7715160" cy="2332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19.-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TENCION DEL RECIEN NACIDO CON COMPLICACIONES (3003330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6" name="Picture 2" descr=""/>
          <p:cNvPicPr/>
          <p:nvPr/>
        </p:nvPicPr>
        <p:blipFill>
          <a:blip r:embed="rId1"/>
          <a:stretch/>
        </p:blipFill>
        <p:spPr>
          <a:xfrm>
            <a:off x="6948360" y="595008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  <a:ea typeface="Arial"/>
              </a:rPr>
              <a:t>DEFINICIONES OPERACIONALES Y CRITERIOS DE PROGRAMACIÓN 201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"/>
          <p:cNvSpPr txBox="1"/>
          <p:nvPr/>
        </p:nvSpPr>
        <p:spPr>
          <a:xfrm>
            <a:off x="684000" y="2565360"/>
            <a:ext cx="7715160" cy="2332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20.-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FAMILIAS SALUDABLES INFORMADAS RESPECTO DE SU SALUD SEXUAL Y REPRODUCTIVA (3034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9" name="Picture 2" descr=""/>
          <p:cNvPicPr/>
          <p:nvPr/>
        </p:nvPicPr>
        <p:blipFill>
          <a:blip r:embed="rId1"/>
          <a:stretch/>
        </p:blipFill>
        <p:spPr>
          <a:xfrm>
            <a:off x="7236000" y="5705640"/>
            <a:ext cx="16268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0" name="2 Rectángulo" descr=""/>
          <p:cNvPicPr/>
          <p:nvPr/>
        </p:nvPicPr>
        <p:blipFill>
          <a:blip r:embed="rId1"/>
          <a:stretch/>
        </p:blipFill>
        <p:spPr>
          <a:xfrm>
            <a:off x="2401920" y="2762280"/>
            <a:ext cx="43336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5" name="1 Imagen" descr="Diapositiva14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  <p:sp>
        <p:nvSpPr>
          <p:cNvPr id="1686" name="1 CuadroTexto"/>
          <p:cNvSpPr/>
          <p:nvPr/>
        </p:nvSpPr>
        <p:spPr>
          <a:xfrm>
            <a:off x="5837400" y="341280"/>
            <a:ext cx="5000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 txBox="1"/>
          <p:nvPr/>
        </p:nvSpPr>
        <p:spPr>
          <a:xfrm>
            <a:off x="420840" y="2112840"/>
            <a:ext cx="82296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bordaje actua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vención del embarazo no planific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tención prenatal reenfoc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tención calificada del parto en EESS con  capacidad resolu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tención de las complicaciones obstétr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8" name="4 Rectángulo" descr=""/>
          <p:cNvPicPr/>
          <p:nvPr/>
        </p:nvPicPr>
        <p:blipFill>
          <a:blip r:embed="rId1"/>
          <a:stretch/>
        </p:blipFill>
        <p:spPr>
          <a:xfrm>
            <a:off x="517680" y="615960"/>
            <a:ext cx="7327800" cy="1341360"/>
          </a:xfrm>
          <a:prstGeom prst="rect">
            <a:avLst/>
          </a:prstGeom>
          <a:ln w="0">
            <a:noFill/>
          </a:ln>
        </p:spPr>
      </p:pic>
      <p:pic>
        <p:nvPicPr>
          <p:cNvPr id="1689" name="Picture 3" descr=""/>
          <p:cNvPicPr/>
          <p:nvPr/>
        </p:nvPicPr>
        <p:blipFill>
          <a:blip r:embed="rId2"/>
          <a:stretch/>
        </p:blipFill>
        <p:spPr>
          <a:xfrm>
            <a:off x="27000" y="61920"/>
            <a:ext cx="3530520" cy="487440"/>
          </a:xfrm>
          <a:prstGeom prst="rect">
            <a:avLst/>
          </a:prstGeom>
          <a:ln w="0">
            <a:noFill/>
          </a:ln>
        </p:spPr>
      </p:pic>
      <p:pic>
        <p:nvPicPr>
          <p:cNvPr id="1690" name="Picture 4" descr=""/>
          <p:cNvPicPr/>
          <p:nvPr/>
        </p:nvPicPr>
        <p:blipFill>
          <a:blip r:embed="rId3"/>
          <a:stretch/>
        </p:blipFill>
        <p:spPr>
          <a:xfrm>
            <a:off x="7167600" y="6165720"/>
            <a:ext cx="1622520" cy="5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Rectangle 7"/>
          <p:cNvGrpSpPr/>
          <p:nvPr/>
        </p:nvGrpSpPr>
        <p:grpSpPr>
          <a:xfrm>
            <a:off x="622440" y="907920"/>
            <a:ext cx="2571480" cy="804960"/>
            <a:chOff x="622440" y="907920"/>
            <a:chExt cx="2571480" cy="804960"/>
          </a:xfrm>
        </p:grpSpPr>
        <p:pic>
          <p:nvPicPr>
            <p:cNvPr id="1692" name="Rectangle 7" descr=""/>
            <p:cNvPicPr/>
            <p:nvPr/>
          </p:nvPicPr>
          <p:blipFill>
            <a:blip r:embed="rId1"/>
            <a:stretch/>
          </p:blipFill>
          <p:spPr>
            <a:xfrm>
              <a:off x="622440" y="907920"/>
              <a:ext cx="257148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3" name=""/>
            <p:cNvSpPr/>
            <p:nvPr/>
          </p:nvSpPr>
          <p:spPr>
            <a:xfrm>
              <a:off x="684360" y="942120"/>
              <a:ext cx="2447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ff"/>
                  </a:solidFill>
                  <a:latin typeface="Arial"/>
                </a:rPr>
                <a:t>MONITOREO, SUPERVISION, EVALUACION Y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0000"/>
                  </a:solidFill>
                  <a:latin typeface="Arial"/>
                </a:rPr>
                <a:t>Vigilancia En Salud Publ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4" name="Rectangle 8"/>
          <p:cNvGrpSpPr/>
          <p:nvPr/>
        </p:nvGrpSpPr>
        <p:grpSpPr>
          <a:xfrm>
            <a:off x="622440" y="1700280"/>
            <a:ext cx="2577960" cy="804960"/>
            <a:chOff x="622440" y="1700280"/>
            <a:chExt cx="2577960" cy="804960"/>
          </a:xfrm>
        </p:grpSpPr>
        <p:pic>
          <p:nvPicPr>
            <p:cNvPr id="1695" name="Rectangle 8" descr=""/>
            <p:cNvPicPr/>
            <p:nvPr/>
          </p:nvPicPr>
          <p:blipFill>
            <a:blip r:embed="rId2"/>
            <a:stretch/>
          </p:blipFill>
          <p:spPr>
            <a:xfrm>
              <a:off x="622440" y="1700280"/>
              <a:ext cx="25779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"/>
            <p:cNvSpPr/>
            <p:nvPr/>
          </p:nvSpPr>
          <p:spPr>
            <a:xfrm>
              <a:off x="684360" y="1730880"/>
              <a:ext cx="2447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DESARROLLLO DE NORMAS Y GUIAS TÉCNICAS EN SALUD MATERNO NEONA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7" name="Rectangle 9"/>
          <p:cNvGrpSpPr/>
          <p:nvPr/>
        </p:nvGrpSpPr>
        <p:grpSpPr>
          <a:xfrm>
            <a:off x="622440" y="3591000"/>
            <a:ext cx="2651040" cy="804960"/>
            <a:chOff x="622440" y="3591000"/>
            <a:chExt cx="2651040" cy="804960"/>
          </a:xfrm>
        </p:grpSpPr>
        <p:pic>
          <p:nvPicPr>
            <p:cNvPr id="1698" name="Rectangle 9" descr=""/>
            <p:cNvPicPr/>
            <p:nvPr/>
          </p:nvPicPr>
          <p:blipFill>
            <a:blip r:embed="rId3"/>
            <a:stretch/>
          </p:blipFill>
          <p:spPr>
            <a:xfrm>
              <a:off x="622440" y="3591000"/>
              <a:ext cx="26510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9" name=""/>
            <p:cNvSpPr/>
            <p:nvPr/>
          </p:nvSpPr>
          <p:spPr>
            <a:xfrm>
              <a:off x="684360" y="3621600"/>
              <a:ext cx="2519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MUNICIPIOS SALUDABLES PROMUEVEN SALUD SEXUAL Y REPRODUCTI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Rectangle 12"/>
          <p:cNvGrpSpPr/>
          <p:nvPr/>
        </p:nvGrpSpPr>
        <p:grpSpPr>
          <a:xfrm>
            <a:off x="622440" y="4286160"/>
            <a:ext cx="2644560" cy="981000"/>
            <a:chOff x="622440" y="4286160"/>
            <a:chExt cx="2644560" cy="981000"/>
          </a:xfrm>
        </p:grpSpPr>
        <p:pic>
          <p:nvPicPr>
            <p:cNvPr id="1701" name="Rectangle 12" descr=""/>
            <p:cNvPicPr/>
            <p:nvPr/>
          </p:nvPicPr>
          <p:blipFill>
            <a:blip r:embed="rId4"/>
            <a:stretch/>
          </p:blipFill>
          <p:spPr>
            <a:xfrm>
              <a:off x="622440" y="4286160"/>
              <a:ext cx="26445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2" name=""/>
            <p:cNvSpPr/>
            <p:nvPr/>
          </p:nvSpPr>
          <p:spPr>
            <a:xfrm>
              <a:off x="684360" y="431316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INSTITUCIONES EDUCATIVAS SALUDABLES PROMUEVEN SALUD SEXUAL Y REPRODUCTI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3" name="Rectangle 13"/>
          <p:cNvGrpSpPr/>
          <p:nvPr/>
        </p:nvGrpSpPr>
        <p:grpSpPr>
          <a:xfrm>
            <a:off x="3359160" y="858960"/>
            <a:ext cx="2498760" cy="1398600"/>
            <a:chOff x="3359160" y="858960"/>
            <a:chExt cx="2498760" cy="1398600"/>
          </a:xfrm>
        </p:grpSpPr>
        <p:pic>
          <p:nvPicPr>
            <p:cNvPr id="1704" name="Rectangle 13" descr=""/>
            <p:cNvPicPr/>
            <p:nvPr/>
          </p:nvPicPr>
          <p:blipFill>
            <a:blip r:embed="rId5"/>
            <a:stretch/>
          </p:blipFill>
          <p:spPr>
            <a:xfrm>
              <a:off x="3359160" y="858960"/>
              <a:ext cx="24987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5" name=""/>
            <p:cNvSpPr/>
            <p:nvPr/>
          </p:nvSpPr>
          <p:spPr>
            <a:xfrm>
              <a:off x="3419640" y="885960"/>
              <a:ext cx="23763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POBLACIÓN ACCEDE A MÉTODOS DE PLANIFICACIÓN FAMIL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0000"/>
                  </a:solidFill>
                  <a:latin typeface="Arial"/>
                </a:rPr>
                <a:t>Condón Femen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0000"/>
                  </a:solidFill>
                  <a:latin typeface="Arial"/>
                </a:rPr>
                <a:t>Inyectable Mens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0000"/>
                  </a:solidFill>
                  <a:latin typeface="Arial"/>
                </a:rPr>
                <a:t>Impla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6" name="Rectangle 14"/>
          <p:cNvGrpSpPr/>
          <p:nvPr/>
        </p:nvGrpSpPr>
        <p:grpSpPr>
          <a:xfrm>
            <a:off x="622440" y="5218200"/>
            <a:ext cx="2644560" cy="811080"/>
            <a:chOff x="622440" y="5218200"/>
            <a:chExt cx="2644560" cy="811080"/>
          </a:xfrm>
        </p:grpSpPr>
        <p:pic>
          <p:nvPicPr>
            <p:cNvPr id="1707" name="Rectangle 14" descr=""/>
            <p:cNvPicPr/>
            <p:nvPr/>
          </p:nvPicPr>
          <p:blipFill>
            <a:blip r:embed="rId6"/>
            <a:stretch/>
          </p:blipFill>
          <p:spPr>
            <a:xfrm>
              <a:off x="622440" y="5218200"/>
              <a:ext cx="264456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8" name=""/>
            <p:cNvSpPr/>
            <p:nvPr/>
          </p:nvSpPr>
          <p:spPr>
            <a:xfrm>
              <a:off x="684360" y="5252040"/>
              <a:ext cx="2519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ADOLESCENTES ACCEDEN A SERVICIOS DE SALUD PARA PREVENCIÓN DEL EMBARAZ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9" name="Rectangle 15"/>
          <p:cNvGrpSpPr/>
          <p:nvPr/>
        </p:nvGrpSpPr>
        <p:grpSpPr>
          <a:xfrm>
            <a:off x="3359160" y="5516640"/>
            <a:ext cx="2498760" cy="981000"/>
            <a:chOff x="3359160" y="5516640"/>
            <a:chExt cx="2498760" cy="981000"/>
          </a:xfrm>
        </p:grpSpPr>
        <p:pic>
          <p:nvPicPr>
            <p:cNvPr id="1710" name="Rectangle 15" descr=""/>
            <p:cNvPicPr/>
            <p:nvPr/>
          </p:nvPicPr>
          <p:blipFill>
            <a:blip r:embed="rId7"/>
            <a:stretch/>
          </p:blipFill>
          <p:spPr>
            <a:xfrm>
              <a:off x="3359160" y="5516640"/>
              <a:ext cx="24987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1" name=""/>
            <p:cNvSpPr/>
            <p:nvPr/>
          </p:nvSpPr>
          <p:spPr>
            <a:xfrm>
              <a:off x="3419640" y="5543640"/>
              <a:ext cx="237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FAMILIAS SALUDABLES INFORMADAS RESPECTO DE SU SALUD SEXUAL Y REPRODUCTI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2" name="Rectangle 16"/>
          <p:cNvGrpSpPr/>
          <p:nvPr/>
        </p:nvGrpSpPr>
        <p:grpSpPr>
          <a:xfrm>
            <a:off x="5992920" y="1579680"/>
            <a:ext cx="2498760" cy="620640"/>
            <a:chOff x="5992920" y="1579680"/>
            <a:chExt cx="2498760" cy="620640"/>
          </a:xfrm>
        </p:grpSpPr>
        <p:pic>
          <p:nvPicPr>
            <p:cNvPr id="1713" name="Rectangle 16" descr=""/>
            <p:cNvPicPr/>
            <p:nvPr/>
          </p:nvPicPr>
          <p:blipFill>
            <a:blip r:embed="rId8"/>
            <a:stretch/>
          </p:blipFill>
          <p:spPr>
            <a:xfrm>
              <a:off x="5992920" y="1579680"/>
              <a:ext cx="249876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4" name=""/>
            <p:cNvSpPr/>
            <p:nvPr/>
          </p:nvSpPr>
          <p:spPr>
            <a:xfrm>
              <a:off x="6053040" y="1608840"/>
              <a:ext cx="237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ATENCION DEL PUERPERIO CON COMPLICA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Rectangle 17"/>
          <p:cNvGrpSpPr/>
          <p:nvPr/>
        </p:nvGrpSpPr>
        <p:grpSpPr>
          <a:xfrm>
            <a:off x="5992920" y="1219320"/>
            <a:ext cx="2498760" cy="438120"/>
            <a:chOff x="5992920" y="1219320"/>
            <a:chExt cx="2498760" cy="438120"/>
          </a:xfrm>
        </p:grpSpPr>
        <p:pic>
          <p:nvPicPr>
            <p:cNvPr id="1716" name="Rectangle 17" descr=""/>
            <p:cNvPicPr/>
            <p:nvPr/>
          </p:nvPicPr>
          <p:blipFill>
            <a:blip r:embed="rId9"/>
            <a:stretch/>
          </p:blipFill>
          <p:spPr>
            <a:xfrm>
              <a:off x="5992920" y="1219320"/>
              <a:ext cx="24987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7" name=""/>
            <p:cNvSpPr/>
            <p:nvPr/>
          </p:nvSpPr>
          <p:spPr>
            <a:xfrm>
              <a:off x="6053040" y="1248480"/>
              <a:ext cx="23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ATENCION DEL PUERPE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8" name="Rectangle 18"/>
          <p:cNvGrpSpPr/>
          <p:nvPr/>
        </p:nvGrpSpPr>
        <p:grpSpPr>
          <a:xfrm>
            <a:off x="3359160" y="5016600"/>
            <a:ext cx="2498760" cy="622080"/>
            <a:chOff x="3359160" y="5016600"/>
            <a:chExt cx="2498760" cy="622080"/>
          </a:xfrm>
        </p:grpSpPr>
        <p:pic>
          <p:nvPicPr>
            <p:cNvPr id="1719" name="Rectangle 18" descr=""/>
            <p:cNvPicPr/>
            <p:nvPr/>
          </p:nvPicPr>
          <p:blipFill>
            <a:blip r:embed="rId10"/>
            <a:stretch/>
          </p:blipFill>
          <p:spPr>
            <a:xfrm>
              <a:off x="3359160" y="5016600"/>
              <a:ext cx="249876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0" name=""/>
            <p:cNvSpPr/>
            <p:nvPr/>
          </p:nvSpPr>
          <p:spPr>
            <a:xfrm>
              <a:off x="3419640" y="5045760"/>
              <a:ext cx="237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ATENCIÓN DEL PARTO COMPLICADO QUIRÚR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Rectangle 19"/>
          <p:cNvGrpSpPr/>
          <p:nvPr/>
        </p:nvGrpSpPr>
        <p:grpSpPr>
          <a:xfrm>
            <a:off x="3359160" y="2084400"/>
            <a:ext cx="2498760" cy="1165320"/>
            <a:chOff x="3359160" y="2084400"/>
            <a:chExt cx="2498760" cy="1165320"/>
          </a:xfrm>
        </p:grpSpPr>
        <p:pic>
          <p:nvPicPr>
            <p:cNvPr id="1722" name="Rectangle 19" descr=""/>
            <p:cNvPicPr/>
            <p:nvPr/>
          </p:nvPicPr>
          <p:blipFill>
            <a:blip r:embed="rId11"/>
            <a:stretch/>
          </p:blipFill>
          <p:spPr>
            <a:xfrm>
              <a:off x="3359160" y="2084400"/>
              <a:ext cx="249876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3" name=""/>
            <p:cNvSpPr/>
            <p:nvPr/>
          </p:nvSpPr>
          <p:spPr>
            <a:xfrm>
              <a:off x="3419640" y="2110680"/>
              <a:ext cx="2376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POBLACIÓN ACCEDE A SERVICIOS DE  ORIENTACION/CONSEJERIA EN SALUD SEXUAL Y REPRODUCTI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Rectangle 20"/>
          <p:cNvGrpSpPr/>
          <p:nvPr/>
        </p:nvGrpSpPr>
        <p:grpSpPr>
          <a:xfrm>
            <a:off x="3359160" y="3029040"/>
            <a:ext cx="2498760" cy="615960"/>
            <a:chOff x="3359160" y="3029040"/>
            <a:chExt cx="2498760" cy="615960"/>
          </a:xfrm>
        </p:grpSpPr>
        <p:pic>
          <p:nvPicPr>
            <p:cNvPr id="1725" name="Rectangle 20" descr=""/>
            <p:cNvPicPr/>
            <p:nvPr/>
          </p:nvPicPr>
          <p:blipFill>
            <a:blip r:embed="rId12"/>
            <a:stretch/>
          </p:blipFill>
          <p:spPr>
            <a:xfrm>
              <a:off x="3359160" y="3029040"/>
              <a:ext cx="24987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6" name=""/>
            <p:cNvSpPr/>
            <p:nvPr/>
          </p:nvSpPr>
          <p:spPr>
            <a:xfrm>
              <a:off x="3419640" y="3054240"/>
              <a:ext cx="237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ATENCIÓN PRENATAL REENFOC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Rectangle 21"/>
          <p:cNvGrpSpPr/>
          <p:nvPr/>
        </p:nvGrpSpPr>
        <p:grpSpPr>
          <a:xfrm>
            <a:off x="3359160" y="4363920"/>
            <a:ext cx="2498760" cy="804960"/>
            <a:chOff x="3359160" y="4363920"/>
            <a:chExt cx="2498760" cy="804960"/>
          </a:xfrm>
        </p:grpSpPr>
        <p:pic>
          <p:nvPicPr>
            <p:cNvPr id="1728" name="Rectangle 21" descr=""/>
            <p:cNvPicPr/>
            <p:nvPr/>
          </p:nvPicPr>
          <p:blipFill>
            <a:blip r:embed="rId13"/>
            <a:stretch/>
          </p:blipFill>
          <p:spPr>
            <a:xfrm>
              <a:off x="3359160" y="4363920"/>
              <a:ext cx="24987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3419640" y="4395960"/>
              <a:ext cx="23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ATENCIÓN DEL PARTO COMPLICADO NO QUIRÚR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Rectangle 22"/>
          <p:cNvGrpSpPr/>
          <p:nvPr/>
        </p:nvGrpSpPr>
        <p:grpSpPr>
          <a:xfrm>
            <a:off x="3359160" y="3992400"/>
            <a:ext cx="2498760" cy="615960"/>
            <a:chOff x="3359160" y="3992400"/>
            <a:chExt cx="2498760" cy="615960"/>
          </a:xfrm>
        </p:grpSpPr>
        <p:pic>
          <p:nvPicPr>
            <p:cNvPr id="1731" name="Rectangle 22" descr=""/>
            <p:cNvPicPr/>
            <p:nvPr/>
          </p:nvPicPr>
          <p:blipFill>
            <a:blip r:embed="rId14"/>
            <a:stretch/>
          </p:blipFill>
          <p:spPr>
            <a:xfrm>
              <a:off x="3359160" y="3992400"/>
              <a:ext cx="24987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2" name=""/>
            <p:cNvSpPr/>
            <p:nvPr/>
          </p:nvSpPr>
          <p:spPr>
            <a:xfrm>
              <a:off x="3419640" y="4020120"/>
              <a:ext cx="237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ATENCIÓN DEL PARTO NORM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Rectangle 23"/>
          <p:cNvGrpSpPr/>
          <p:nvPr/>
        </p:nvGrpSpPr>
        <p:grpSpPr>
          <a:xfrm>
            <a:off x="3359160" y="3486240"/>
            <a:ext cx="2498760" cy="622080"/>
            <a:chOff x="3359160" y="3486240"/>
            <a:chExt cx="2498760" cy="622080"/>
          </a:xfrm>
        </p:grpSpPr>
        <p:pic>
          <p:nvPicPr>
            <p:cNvPr id="1734" name="Rectangle 23" descr=""/>
            <p:cNvPicPr/>
            <p:nvPr/>
          </p:nvPicPr>
          <p:blipFill>
            <a:blip r:embed="rId15"/>
            <a:stretch/>
          </p:blipFill>
          <p:spPr>
            <a:xfrm>
              <a:off x="3359160" y="3486240"/>
              <a:ext cx="249876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5" name=""/>
            <p:cNvSpPr/>
            <p:nvPr/>
          </p:nvSpPr>
          <p:spPr>
            <a:xfrm>
              <a:off x="3419640" y="3520080"/>
              <a:ext cx="237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ATENCIÓN DE LA GESTANTE CON COMPLICA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Rectangle 24"/>
          <p:cNvGrpSpPr/>
          <p:nvPr/>
        </p:nvGrpSpPr>
        <p:grpSpPr>
          <a:xfrm>
            <a:off x="5992920" y="2157480"/>
            <a:ext cx="2498760" cy="804960"/>
            <a:chOff x="5992920" y="2157480"/>
            <a:chExt cx="2498760" cy="804960"/>
          </a:xfrm>
        </p:grpSpPr>
        <p:pic>
          <p:nvPicPr>
            <p:cNvPr id="1737" name="Rectangle 24" descr=""/>
            <p:cNvPicPr/>
            <p:nvPr/>
          </p:nvPicPr>
          <p:blipFill>
            <a:blip r:embed="rId16"/>
            <a:stretch/>
          </p:blipFill>
          <p:spPr>
            <a:xfrm>
              <a:off x="5992920" y="2157480"/>
              <a:ext cx="24987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8" name=""/>
            <p:cNvSpPr/>
            <p:nvPr/>
          </p:nvSpPr>
          <p:spPr>
            <a:xfrm>
              <a:off x="6053040" y="2188080"/>
              <a:ext cx="2376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ATENCIÓN OBSTETRICA EN LA UNIDAD DE CUIDADOS INTENS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9" name="Rectangle 25"/>
          <p:cNvGrpSpPr/>
          <p:nvPr/>
        </p:nvGrpSpPr>
        <p:grpSpPr>
          <a:xfrm>
            <a:off x="5992920" y="2944800"/>
            <a:ext cx="2498760" cy="993960"/>
            <a:chOff x="5992920" y="2944800"/>
            <a:chExt cx="2498760" cy="993960"/>
          </a:xfrm>
        </p:grpSpPr>
        <p:pic>
          <p:nvPicPr>
            <p:cNvPr id="1740" name="Rectangle 25" descr=""/>
            <p:cNvPicPr/>
            <p:nvPr/>
          </p:nvPicPr>
          <p:blipFill>
            <a:blip r:embed="rId17"/>
            <a:stretch/>
          </p:blipFill>
          <p:spPr>
            <a:xfrm>
              <a:off x="5992920" y="2944800"/>
              <a:ext cx="24987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1" name=""/>
            <p:cNvSpPr/>
            <p:nvPr/>
          </p:nvSpPr>
          <p:spPr>
            <a:xfrm>
              <a:off x="6053040" y="2979720"/>
              <a:ext cx="23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PRE-INVERSIÓN DE LA IMPLEMENTACIÓN DE LA RED DE CENTROS DE HEMOTERAPIA I Y 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2" name="Rectangle 26"/>
          <p:cNvGrpSpPr/>
          <p:nvPr/>
        </p:nvGrpSpPr>
        <p:grpSpPr>
          <a:xfrm>
            <a:off x="5992920" y="3882960"/>
            <a:ext cx="2498760" cy="622440"/>
            <a:chOff x="5992920" y="3882960"/>
            <a:chExt cx="2498760" cy="622440"/>
          </a:xfrm>
        </p:grpSpPr>
        <p:pic>
          <p:nvPicPr>
            <p:cNvPr id="1743" name="Rectangle 26" descr=""/>
            <p:cNvPicPr/>
            <p:nvPr/>
          </p:nvPicPr>
          <p:blipFill>
            <a:blip r:embed="rId18"/>
            <a:stretch/>
          </p:blipFill>
          <p:spPr>
            <a:xfrm>
              <a:off x="5992920" y="3882960"/>
              <a:ext cx="24987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4" name=""/>
            <p:cNvSpPr/>
            <p:nvPr/>
          </p:nvSpPr>
          <p:spPr>
            <a:xfrm>
              <a:off x="6053040" y="3914640"/>
              <a:ext cx="237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ACCESO AL SISTEMA DE REFERENCIA INSTITU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5" name="Rectangle 27"/>
          <p:cNvGrpSpPr/>
          <p:nvPr/>
        </p:nvGrpSpPr>
        <p:grpSpPr>
          <a:xfrm>
            <a:off x="5992920" y="4602240"/>
            <a:ext cx="2498760" cy="439560"/>
            <a:chOff x="5992920" y="4602240"/>
            <a:chExt cx="2498760" cy="439560"/>
          </a:xfrm>
        </p:grpSpPr>
        <p:pic>
          <p:nvPicPr>
            <p:cNvPr id="1746" name="Rectangle 27" descr=""/>
            <p:cNvPicPr/>
            <p:nvPr/>
          </p:nvPicPr>
          <p:blipFill>
            <a:blip r:embed="rId19"/>
            <a:stretch/>
          </p:blipFill>
          <p:spPr>
            <a:xfrm>
              <a:off x="5992920" y="4602240"/>
              <a:ext cx="249876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7" name=""/>
            <p:cNvSpPr/>
            <p:nvPr/>
          </p:nvSpPr>
          <p:spPr>
            <a:xfrm>
              <a:off x="6053040" y="4633200"/>
              <a:ext cx="23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ATENCION RN NORM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8" name="Rectangle 28"/>
          <p:cNvGrpSpPr/>
          <p:nvPr/>
        </p:nvGrpSpPr>
        <p:grpSpPr>
          <a:xfrm>
            <a:off x="5992920" y="4962600"/>
            <a:ext cx="2498760" cy="620640"/>
            <a:chOff x="5992920" y="4962600"/>
            <a:chExt cx="2498760" cy="620640"/>
          </a:xfrm>
        </p:grpSpPr>
        <p:pic>
          <p:nvPicPr>
            <p:cNvPr id="1749" name="Rectangle 28" descr=""/>
            <p:cNvPicPr/>
            <p:nvPr/>
          </p:nvPicPr>
          <p:blipFill>
            <a:blip r:embed="rId20"/>
            <a:stretch/>
          </p:blipFill>
          <p:spPr>
            <a:xfrm>
              <a:off x="5992920" y="4962600"/>
              <a:ext cx="249876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0" name=""/>
            <p:cNvSpPr/>
            <p:nvPr/>
          </p:nvSpPr>
          <p:spPr>
            <a:xfrm>
              <a:off x="6053040" y="4993560"/>
              <a:ext cx="237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ATENCION RN NORMAL CON COMPLICA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1" name="Rectangle 29"/>
          <p:cNvGrpSpPr/>
          <p:nvPr/>
        </p:nvGrpSpPr>
        <p:grpSpPr>
          <a:xfrm>
            <a:off x="5992920" y="5450040"/>
            <a:ext cx="2498760" cy="804600"/>
            <a:chOff x="5992920" y="5450040"/>
            <a:chExt cx="2498760" cy="804600"/>
          </a:xfrm>
        </p:grpSpPr>
        <p:pic>
          <p:nvPicPr>
            <p:cNvPr id="1752" name="Rectangle 29" descr=""/>
            <p:cNvPicPr/>
            <p:nvPr/>
          </p:nvPicPr>
          <p:blipFill>
            <a:blip r:embed="rId21"/>
            <a:stretch/>
          </p:blipFill>
          <p:spPr>
            <a:xfrm>
              <a:off x="5992920" y="5450040"/>
              <a:ext cx="249876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3" name=""/>
            <p:cNvSpPr/>
            <p:nvPr/>
          </p:nvSpPr>
          <p:spPr>
            <a:xfrm>
              <a:off x="6053040" y="5480640"/>
              <a:ext cx="2376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ATENCION RN NORMAL CON COMPLICACIONES QUE REQUIERE UC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4" name="Rectangle 8"/>
          <p:cNvGrpSpPr/>
          <p:nvPr/>
        </p:nvGrpSpPr>
        <p:grpSpPr>
          <a:xfrm>
            <a:off x="622440" y="2457360"/>
            <a:ext cx="2663640" cy="1133640"/>
            <a:chOff x="622440" y="2457360"/>
            <a:chExt cx="2663640" cy="1133640"/>
          </a:xfrm>
        </p:grpSpPr>
        <p:pic>
          <p:nvPicPr>
            <p:cNvPr id="1755" name="Rectangle 8" descr=""/>
            <p:cNvPicPr/>
            <p:nvPr/>
          </p:nvPicPr>
          <p:blipFill>
            <a:blip r:embed="rId22"/>
            <a:stretch/>
          </p:blipFill>
          <p:spPr>
            <a:xfrm>
              <a:off x="622440" y="2457360"/>
              <a:ext cx="266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6" name=""/>
            <p:cNvSpPr/>
            <p:nvPr/>
          </p:nvSpPr>
          <p:spPr>
            <a:xfrm>
              <a:off x="684360" y="2491560"/>
              <a:ext cx="25192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ff"/>
                  </a:solidFill>
                  <a:latin typeface="Arial"/>
                </a:rPr>
                <a:t>POBLACIÓN  INFORMADA SOBRE SALUD SEXUAL, SALUD REPRODUCTIVA Y MÉTODOS DE PLANIFICACIÓN FAMIL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7" name="AutoShape 11"/>
          <p:cNvSpPr/>
          <p:nvPr/>
        </p:nvSpPr>
        <p:spPr>
          <a:xfrm>
            <a:off x="0" y="0"/>
            <a:ext cx="914400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33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DUCTOS  DEL PP SALUD MATERNO NEONA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1 Rectángulo"/>
          <p:cNvSpPr/>
          <p:nvPr/>
        </p:nvSpPr>
        <p:spPr>
          <a:xfrm>
            <a:off x="684360" y="2637000"/>
            <a:ext cx="7848360" cy="2654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</a:rPr>
              <a:t>1.-ACCIONES COMUNES (3000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Desarrollo de normas y guías técnicas en salud materno neonatal (50043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2060"/>
              </a:buClr>
              <a:buSzPct val="5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Monitoreo, supervisión, evaluación y control de la salud materno neonatal (5004430</a:t>
            </a:r>
            <a:r>
              <a:rPr b="1" lang="es-ES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1 CuadroTexto"/>
          <p:cNvSpPr/>
          <p:nvPr/>
        </p:nvSpPr>
        <p:spPr>
          <a:xfrm>
            <a:off x="820800" y="836640"/>
            <a:ext cx="7273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DEFINICIONES OPERACIONALES Y CRITERIOS DE PROGRAMACIÓN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PROGRAMA DE SALUD MATERNO NEO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0" name="Picture 5" descr="DGSP"/>
          <p:cNvPicPr/>
          <p:nvPr/>
        </p:nvPicPr>
        <p:blipFill>
          <a:blip r:embed="rId1"/>
          <a:stretch/>
        </p:blipFill>
        <p:spPr>
          <a:xfrm>
            <a:off x="324000" y="268200"/>
            <a:ext cx="2303280" cy="352440"/>
          </a:xfrm>
          <a:prstGeom prst="rect">
            <a:avLst/>
          </a:prstGeom>
          <a:ln w="0">
            <a:noFill/>
          </a:ln>
        </p:spPr>
      </p:pic>
      <p:pic>
        <p:nvPicPr>
          <p:cNvPr id="1761" name="Picture 20" descr=""/>
          <p:cNvPicPr/>
          <p:nvPr/>
        </p:nvPicPr>
        <p:blipFill>
          <a:blip r:embed="rId2"/>
          <a:stretch/>
        </p:blipFill>
        <p:spPr>
          <a:xfrm>
            <a:off x="7093080" y="594360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</a:rPr>
              <a:t>ACCIONES COMU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456840" y="1844280"/>
            <a:ext cx="4040280" cy="4281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Desarrollo de normas y guías técnicas en salud materno neonatal (500438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-  Desarrollo de normas y guías técnicas en salud materno neonatal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.- Implementación de Documentos  Normativos (332870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787640" y="980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1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4644720" y="1844280"/>
            <a:ext cx="4041720" cy="4281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Desarrollo de normas y guías técnicas en salud materno neonatal (500438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.-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arrollo de normas y guías técnicas en salud materno neonat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.- Implementación de Documentos  Normativos (332870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3.- </a:t>
            </a: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Vigilancia investigación y tecnologías (IN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7" name="Picture 7" descr=""/>
          <p:cNvPicPr/>
          <p:nvPr/>
        </p:nvPicPr>
        <p:blipFill>
          <a:blip r:embed="rId1"/>
          <a:stretch/>
        </p:blipFill>
        <p:spPr>
          <a:xfrm>
            <a:off x="7236000" y="6093000"/>
            <a:ext cx="1626840" cy="566640"/>
          </a:xfrm>
          <a:prstGeom prst="rect">
            <a:avLst/>
          </a:prstGeom>
          <a:ln w="0">
            <a:noFill/>
          </a:ln>
        </p:spPr>
      </p:pic>
      <p:pic>
        <p:nvPicPr>
          <p:cNvPr id="1768" name="Picture 8" descr=""/>
          <p:cNvPicPr/>
          <p:nvPr/>
        </p:nvPicPr>
        <p:blipFill>
          <a:blip r:embed="rId2"/>
          <a:stretch/>
        </p:blipFill>
        <p:spPr>
          <a:xfrm>
            <a:off x="0" y="260280"/>
            <a:ext cx="262728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</a:rPr>
              <a:t>ACCIONES COMUNES </a:t>
            </a:r>
            <a:r>
              <a:rPr b="0" lang="es-PE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456840" y="1844280"/>
            <a:ext cx="4040280" cy="4281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272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Monitoreo, supervisión, evaluación y control de la salud materno neonatal (5004430</a:t>
            </a:r>
            <a:r>
              <a:rPr b="1" lang="es-ES" sz="1400" spc="-1" strike="noStrike">
                <a:solidFill>
                  <a:srgbClr val="002060"/>
                </a:solidFill>
                <a:latin typeface="Calibri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272880" algn="just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onitoreo del Programa Salud Materno Neona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72880" algn="just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valuación del Programa Salud Materno Neona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72880" algn="just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Supervisión del Programa Salud Materno Neona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72880" algn="just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787640" y="980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4644720" y="1844280"/>
            <a:ext cx="4041720" cy="4281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Monitoreo, supervisión, evaluación y control de la salud materno neonatal (5004430</a:t>
            </a:r>
            <a:r>
              <a:rPr b="1" lang="es-ES" sz="1400" spc="-1" strike="noStrike">
                <a:solidFill>
                  <a:srgbClr val="002060"/>
                </a:solidFill>
                <a:latin typeface="Calibri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Monitoreo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del Programa Salud Materno Neonat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valuación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del Programa Salud Materno Neonat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MX" sz="1800" spc="-1" strike="noStrike">
                <a:solidFill>
                  <a:srgbClr val="ff0000"/>
                </a:solidFill>
                <a:latin typeface="Calibri"/>
              </a:rPr>
              <a:t>Evaluación Externa de desempeñ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es-MX" sz="1800" spc="-1" strike="noStrike">
                <a:solidFill>
                  <a:srgbClr val="ff0000"/>
                </a:solidFill>
                <a:latin typeface="Calibri"/>
              </a:rPr>
              <a:t>( I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Supervisión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 del Programa Salud Materno Neona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4" name="Picture 7" descr=""/>
          <p:cNvPicPr/>
          <p:nvPr/>
        </p:nvPicPr>
        <p:blipFill>
          <a:blip r:embed="rId1"/>
          <a:stretch/>
        </p:blipFill>
        <p:spPr>
          <a:xfrm>
            <a:off x="7093080" y="6093000"/>
            <a:ext cx="1627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3:38:18Z</dcterms:created>
  <dc:creator>ucardenas</dc:creator>
  <dc:description/>
  <dc:language>en-US</dc:language>
  <cp:lastModifiedBy>GUIMO</cp:lastModifiedBy>
  <dcterms:modified xsi:type="dcterms:W3CDTF">2014-06-24T03:26:57Z</dcterms:modified>
  <cp:revision>103</cp:revision>
  <dc:subject/>
  <dc:title>Diapositiva 1</dc:title>
</cp:coreProperties>
</file>