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5.wmf" ContentType="image/x-wmf"/>
  <Override PartName="/ppt/media/image10.png" ContentType="image/png"/>
  <Override PartName="/ppt/media/image27.png" ContentType="image/png"/>
  <Override PartName="/ppt/media/image1.gif" ContentType="image/gif"/>
  <Override PartName="/ppt/media/image4.png" ContentType="image/png"/>
  <Override PartName="/ppt/media/image12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29A-17F6-41EB-9B33-4A008409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79C-0172-48A2-BEA1-AB120863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2E0-0DE5-49B4-9A02-DD63D962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495-F05A-4584-B72B-3D7DBE98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868-FEB8-4AE9-8EFD-9E0E21B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EE4-97DA-4C4D-8EB1-182FFEF1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082-E507-4D9C-B49B-06D5DD8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A5B-FE36-41C0-92B5-9EF9B588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6B6-AB91-430B-BA6D-810FECAA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0C8-8904-438D-95EB-CA4FA59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2EE-1C2B-4820-B358-5C9DCC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F44-D015-4355-BDFE-7BE23A5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C15-D830-4F01-B7E8-EDBF9EB1BA68}" type="slidenum">
              <a:rPr b="0" lang="es-MX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0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mailto:medicointegralygestion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3499920"/>
            <a:ext cx="7056360" cy="1800360"/>
          </a:xfrm>
          <a:prstGeom prst="rect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Calibri"/>
              </a:rPr>
              <a:t>OFICINA GENERAL DE DEFENSA NACIONAL - MIN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1214280"/>
            <a:ext cx="734832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c0504d"/>
                </a:solidFill>
                <a:latin typeface="Calibri"/>
              </a:rPr>
              <a:t>Programa Presupuestal 104: “Reduccion de la Mortalidad por Emergencias y Urgencias Medicas” -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169236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3" descr="serpienteanimada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11280"/>
          </a:xfrm>
          <a:prstGeom prst="rect">
            <a:avLst/>
          </a:prstGeom>
          <a:ln w="0">
            <a:noFill/>
          </a:ln>
        </p:spPr>
      </p:pic>
      <p:pic>
        <p:nvPicPr>
          <p:cNvPr id="45" name="1 Imagen" descr=""/>
          <p:cNvPicPr/>
          <p:nvPr/>
        </p:nvPicPr>
        <p:blipFill>
          <a:blip r:embed="rId2"/>
          <a:stretch/>
        </p:blipFill>
        <p:spPr>
          <a:xfrm>
            <a:off x="1884240" y="291960"/>
            <a:ext cx="20764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518680" cy="79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Producto 3000281: ATENCIÓN MEDICA TELEFÓNICA DE LA EMERGENCIA Y DESPACHO DE LA UNIDAD MÓVIL SA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05228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s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recepción, evaluación, consejería y/o orientación de la necesidad de emergencia (prioridad I) o urgencia mayor (prioridad II), y verificación de la oferta de servicios de salud disponibles, indicando al personal de despacho la movilización del mejor recurso móvil de acuerdo a la prioridad del caso, disponibilidad y accesibilidad al lugar de la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recepción de la llamada telefónica para la evaluación  de la solicitud de la referencia de emergencia, quien a su vez verifica la oferta de servicios de salud disponible para la  coordinación con el posible establecimiento de destino y comunica la aceptación de la solicitud de la refer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también el despacho y monitorización del desplazamiento de la unidad móvil del SAMU, realizando las coordinaciones interinstitucionales (policía, serenazgos, bomberos, etc) para garantizar la seguridad del escenario de la emergencia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500279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MÉDICA TELEFÓNICA DE LA EMERG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002794  DESPACHO DE LA UNIDAD MÓVIL SA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6 Marcador de contenido"/>
          <p:cNvSpPr/>
          <p:nvPr/>
        </p:nvSpPr>
        <p:spPr>
          <a:xfrm>
            <a:off x="324000" y="1773360"/>
            <a:ext cx="8604000" cy="38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a Física:  Ate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enérica y Especifica de Gasto que contribuye al cumplimiento de la  meta Fís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6. 3  2. 3  3 Compra de Teléfono y Radio T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2. 2  1 SERVICIO DE TELEFONIA MOVILES (CELU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6.3.2.3.1,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Compra de computadoras, monitor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2. 2  3  SERVICIO D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4. 1  5,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Mantenimiento preventivo de equip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de …telecomunicación,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8. 1  1 y 2.3. 2  8. 1  2, CAS y Contribuciones a EsSalud de CAS. (MED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259920"/>
            <a:ext cx="8229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INSUMOS PRIORIZADOS</a:t>
            </a:r>
            <a:br>
              <a:rPr sz="2000"/>
            </a:b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Producto: 3000281: ATENCIÓN MEDICA TELEFÓNICA DE LA EMERGENCIA Y DESPACHO DE LA UNIDAD MÓVIL SA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br>
              <a:rPr sz="2000"/>
            </a:b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Producto: 3000281: ATENCIÓN MEDICA TELEFÓNICA DE LA EMERGENCIA Y DESPACHO DE LA UNIDAD MÓVIL SA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08000" y="1558800"/>
            <a:ext cx="8928000" cy="107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33200" y="3068640"/>
            <a:ext cx="8902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4 Rectángulo redondeado"/>
          <p:cNvSpPr/>
          <p:nvPr/>
        </p:nvSpPr>
        <p:spPr>
          <a:xfrm>
            <a:off x="108000" y="134136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4.-</a:t>
            </a: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ATENCIÓN PREHOSPITALARIA MÓVIL DE LA EMERGENCIA CON SOPORTE VITAL BÁSICO "SVB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 Rectángulo redondeado"/>
          <p:cNvSpPr/>
          <p:nvPr/>
        </p:nvSpPr>
        <p:spPr>
          <a:xfrm>
            <a:off x="5192640" y="2060640"/>
            <a:ext cx="374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Rectángulo redondeado"/>
          <p:cNvSpPr/>
          <p:nvPr/>
        </p:nvSpPr>
        <p:spPr>
          <a:xfrm>
            <a:off x="75564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Flecha derecha"/>
          <p:cNvSpPr/>
          <p:nvPr/>
        </p:nvSpPr>
        <p:spPr>
          <a:xfrm>
            <a:off x="4284720" y="148428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Flecha derecha"/>
          <p:cNvSpPr/>
          <p:nvPr/>
        </p:nvSpPr>
        <p:spPr>
          <a:xfrm>
            <a:off x="3780000" y="2870280"/>
            <a:ext cx="990360" cy="846000"/>
          </a:xfrm>
          <a:prstGeom prst="rightArrow">
            <a:avLst>
              <a:gd name="adj1" fmla="val 50000"/>
              <a:gd name="adj2" fmla="val 41357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0 Flecha derecha"/>
          <p:cNvSpPr/>
          <p:nvPr/>
        </p:nvSpPr>
        <p:spPr>
          <a:xfrm>
            <a:off x="3780000" y="5157720"/>
            <a:ext cx="971280" cy="83520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sp>
        <p:nvSpPr>
          <p:cNvPr id="118" name="15 Rectángulo redondeado"/>
          <p:cNvSpPr/>
          <p:nvPr/>
        </p:nvSpPr>
        <p:spPr>
          <a:xfrm>
            <a:off x="20520" y="393372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.-</a:t>
            </a: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ATENCIÓN PREHOSITALARIA MÓVIL DE LA EMERGENCIA CON SOPORTE VITAL AVANZADO "SV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24000" y="2558880"/>
            <a:ext cx="2808000" cy="11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34800" y="5111640"/>
            <a:ext cx="2797200" cy="962280"/>
          </a:xfrm>
          <a:prstGeom prst="rect">
            <a:avLst/>
          </a:prstGeom>
          <a:ln w="0">
            <a:noFill/>
          </a:ln>
        </p:spPr>
      </p:pic>
      <p:sp>
        <p:nvSpPr>
          <p:cNvPr id="121" name="16 Rectángulo redondeado"/>
          <p:cNvSpPr/>
          <p:nvPr/>
        </p:nvSpPr>
        <p:spPr>
          <a:xfrm>
            <a:off x="5235480" y="4680000"/>
            <a:ext cx="374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Rectángulo redondeado"/>
          <p:cNvSpPr/>
          <p:nvPr/>
        </p:nvSpPr>
        <p:spPr>
          <a:xfrm>
            <a:off x="108000" y="112536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6.-TRANSPORTE ASISTIDO (NO EMERGENCIA) DE PACIENTES ESTABLES (NO CRÍ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6 Rectángulo redondeado"/>
          <p:cNvSpPr/>
          <p:nvPr/>
        </p:nvSpPr>
        <p:spPr>
          <a:xfrm>
            <a:off x="4859280" y="1268280"/>
            <a:ext cx="410544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Rectángulo redondeado"/>
          <p:cNvSpPr/>
          <p:nvPr/>
        </p:nvSpPr>
        <p:spPr>
          <a:xfrm>
            <a:off x="755640" y="40464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3 Flecha derecha"/>
          <p:cNvSpPr/>
          <p:nvPr/>
        </p:nvSpPr>
        <p:spPr>
          <a:xfrm>
            <a:off x="4284720" y="148428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Flecha derecha"/>
          <p:cNvSpPr/>
          <p:nvPr/>
        </p:nvSpPr>
        <p:spPr>
          <a:xfrm>
            <a:off x="3924360" y="2870280"/>
            <a:ext cx="846000" cy="846000"/>
          </a:xfrm>
          <a:prstGeom prst="rightArrow">
            <a:avLst>
              <a:gd name="adj1" fmla="val 50000"/>
              <a:gd name="adj2" fmla="val 41361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0 Flecha derecha"/>
          <p:cNvSpPr/>
          <p:nvPr/>
        </p:nvSpPr>
        <p:spPr>
          <a:xfrm>
            <a:off x="3924360" y="5261040"/>
            <a:ext cx="815760" cy="834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sp>
        <p:nvSpPr>
          <p:cNvPr id="130" name="15 Rectángulo redondeado"/>
          <p:cNvSpPr/>
          <p:nvPr/>
        </p:nvSpPr>
        <p:spPr>
          <a:xfrm>
            <a:off x="20520" y="3716280"/>
            <a:ext cx="410364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7.- TRANSPORTE ASISTIDO (NO EMERGENCIA) DE PACIENTE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456000" cy="160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55680" y="4508640"/>
            <a:ext cx="3435120" cy="2166840"/>
          </a:xfrm>
          <a:prstGeom prst="rect">
            <a:avLst/>
          </a:prstGeom>
          <a:ln w="0">
            <a:noFill/>
          </a:ln>
        </p:spPr>
      </p:pic>
      <p:sp>
        <p:nvSpPr>
          <p:cNvPr id="133" name="16 Rectángulo redondeado"/>
          <p:cNvSpPr/>
          <p:nvPr/>
        </p:nvSpPr>
        <p:spPr>
          <a:xfrm>
            <a:off x="4822920" y="3716280"/>
            <a:ext cx="410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1 Objeto"/>
          <p:cNvGraphicFramePr/>
          <p:nvPr/>
        </p:nvGraphicFramePr>
        <p:xfrm>
          <a:off x="5076720" y="2276640"/>
          <a:ext cx="3672000" cy="1223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1 Objeto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2276640"/>
                    <a:ext cx="367200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2 Objeto"/>
          <p:cNvGraphicFramePr/>
          <p:nvPr/>
        </p:nvGraphicFramePr>
        <p:xfrm>
          <a:off x="5148360" y="4869000"/>
          <a:ext cx="3671640" cy="18064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7" name="2 Objeto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4869000"/>
                    <a:ext cx="367164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4 Rectángulo redondeado"/>
          <p:cNvSpPr/>
          <p:nvPr/>
        </p:nvSpPr>
        <p:spPr>
          <a:xfrm>
            <a:off x="108000" y="112536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3000287. ATENCION MEDICA DE LA EMERGENCIA O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Rectángulo redondeado"/>
          <p:cNvSpPr/>
          <p:nvPr/>
        </p:nvSpPr>
        <p:spPr>
          <a:xfrm>
            <a:off x="4859280" y="1268280"/>
            <a:ext cx="410544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5.- 3000686 ATENCIÓN DE LA EMERGENCIA O URGENCIA EN ESTABLECIMIENTO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Rectángulo redondeado"/>
          <p:cNvSpPr/>
          <p:nvPr/>
        </p:nvSpPr>
        <p:spPr>
          <a:xfrm>
            <a:off x="755640" y="40464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3 Flecha derecha"/>
          <p:cNvSpPr/>
          <p:nvPr/>
        </p:nvSpPr>
        <p:spPr>
          <a:xfrm>
            <a:off x="4284720" y="148428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4 Flecha derecha"/>
          <p:cNvSpPr/>
          <p:nvPr/>
        </p:nvSpPr>
        <p:spPr>
          <a:xfrm>
            <a:off x="3941640" y="2870280"/>
            <a:ext cx="846360" cy="846000"/>
          </a:xfrm>
          <a:prstGeom prst="rightArrow">
            <a:avLst>
              <a:gd name="adj1" fmla="val 50000"/>
              <a:gd name="adj2" fmla="val 41378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0 Flecha derecha"/>
          <p:cNvSpPr/>
          <p:nvPr/>
        </p:nvSpPr>
        <p:spPr>
          <a:xfrm>
            <a:off x="3971880" y="5261040"/>
            <a:ext cx="816120" cy="834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15 Rectángulo redondeado"/>
          <p:cNvSpPr/>
          <p:nvPr/>
        </p:nvSpPr>
        <p:spPr>
          <a:xfrm>
            <a:off x="42840" y="2168640"/>
            <a:ext cx="4103640" cy="828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9.- 3000288. ATENCION QUIRURGICA O DE TRAUMA DE LA EMERGENCIA O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2333520" y="3141720"/>
            <a:ext cx="1581120" cy="371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1757160" cy="37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1 Objeto"/>
          <p:cNvGraphicFramePr/>
          <p:nvPr/>
        </p:nvGraphicFramePr>
        <p:xfrm>
          <a:off x="5219640" y="2583000"/>
          <a:ext cx="3529080" cy="2933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1 Objeto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583000"/>
                    <a:ext cx="35290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Rectángulo redondeado"/>
          <p:cNvSpPr/>
          <p:nvPr/>
        </p:nvSpPr>
        <p:spPr>
          <a:xfrm>
            <a:off x="108000" y="907920"/>
            <a:ext cx="4103640" cy="1368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0.-(3000289) ATENCION AMBULATORIA DE URGENCIAS (PRIORIDAD III O IV) EN MODULOS HOSPITALARIOS DIFERENCIADOS AUTO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7 Rectángulo redondeado"/>
          <p:cNvSpPr/>
          <p:nvPr/>
        </p:nvSpPr>
        <p:spPr>
          <a:xfrm>
            <a:off x="755640" y="333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4 Flecha derecha"/>
          <p:cNvSpPr/>
          <p:nvPr/>
        </p:nvSpPr>
        <p:spPr>
          <a:xfrm>
            <a:off x="3924360" y="2870280"/>
            <a:ext cx="846000" cy="846000"/>
          </a:xfrm>
          <a:prstGeom prst="rightArrow">
            <a:avLst>
              <a:gd name="adj1" fmla="val 50000"/>
              <a:gd name="adj2" fmla="val 41361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Flecha derecha"/>
          <p:cNvSpPr/>
          <p:nvPr/>
        </p:nvSpPr>
        <p:spPr>
          <a:xfrm>
            <a:off x="3924360" y="5261040"/>
            <a:ext cx="815760" cy="834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sp>
        <p:nvSpPr>
          <p:cNvPr id="157" name="15 Rectángulo redondeado"/>
          <p:cNvSpPr/>
          <p:nvPr/>
        </p:nvSpPr>
        <p:spPr>
          <a:xfrm>
            <a:off x="20520" y="3716280"/>
            <a:ext cx="4103640" cy="936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1.-(3000290) ATENCION DE URGENCIAS (PRIORIDAD III O IV) EN MODULOS DE ATENCION AMBUL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35290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72960" y="4956120"/>
            <a:ext cx="3407040" cy="1425600"/>
          </a:xfrm>
          <a:prstGeom prst="rect">
            <a:avLst/>
          </a:prstGeom>
          <a:ln w="0">
            <a:noFill/>
          </a:ln>
        </p:spPr>
      </p:pic>
      <p:sp>
        <p:nvSpPr>
          <p:cNvPr id="160" name="16 Rectángulo redondeado"/>
          <p:cNvSpPr/>
          <p:nvPr/>
        </p:nvSpPr>
        <p:spPr>
          <a:xfrm>
            <a:off x="5192640" y="2060640"/>
            <a:ext cx="374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7 Rectángulo redondeado"/>
          <p:cNvSpPr/>
          <p:nvPr/>
        </p:nvSpPr>
        <p:spPr>
          <a:xfrm>
            <a:off x="5235480" y="4680000"/>
            <a:ext cx="374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44360" y="836640"/>
            <a:ext cx="8891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1280" y="1341360"/>
            <a:ext cx="896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PRODUCTOS Y ACTIVIDADES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0" y="5565600"/>
            <a:ext cx="914400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3106800" cy="1143000"/>
          </a:xfrm>
          <a:prstGeom prst="rect">
            <a:avLst/>
          </a:prstGeom>
          <a:solidFill>
            <a:srgbClr val="6688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DIPLOMA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27640" y="260280"/>
          <a:ext cx="3671640" cy="5964480"/>
        </p:xfrm>
        <a:graphic>
          <a:graphicData uri="http://schemas.openxmlformats.org/drawingml/2006/table">
            <a:tbl>
              <a:tblPr/>
              <a:tblGrid>
                <a:gridCol w="1915920"/>
                <a:gridCol w="175572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R 104. AÑO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ZO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378,85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574,5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URIM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QU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CU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988,34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JAMA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32,87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63,00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ANCAVE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198,35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ANU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200,79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011,95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LIBER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144,89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BAY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449,13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R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928,95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RE DE D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56,96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QUE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98,13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292,42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MB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AY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2,335,59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3,459,08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9,413,87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1 Título"/>
          <p:cNvGrpSpPr/>
          <p:nvPr/>
        </p:nvGrpSpPr>
        <p:grpSpPr>
          <a:xfrm>
            <a:off x="115920" y="4065480"/>
            <a:ext cx="9021600" cy="2901960"/>
            <a:chOff x="115920" y="4065480"/>
            <a:chExt cx="9021600" cy="2901960"/>
          </a:xfrm>
        </p:grpSpPr>
        <p:pic>
          <p:nvPicPr>
            <p:cNvPr id="171" name="1 Título" descr=""/>
            <p:cNvPicPr/>
            <p:nvPr/>
          </p:nvPicPr>
          <p:blipFill>
            <a:blip r:embed="rId1"/>
            <a:stretch/>
          </p:blipFill>
          <p:spPr>
            <a:xfrm>
              <a:off x="115920" y="4065480"/>
              <a:ext cx="902160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9280" y="4292640"/>
              <a:ext cx="871380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43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medicointegralygestion@gmail.com</a:t>
              </a:r>
              <a:br>
                <a:rPr sz="4300"/>
              </a:br>
              <a:br>
                <a:rPr sz="4300"/>
              </a:br>
              <a:br>
                <a:rPr sz="4300"/>
              </a:br>
              <a:r>
                <a:rPr b="1" lang="es-PE" sz="4300" spc="-1" strike="noStrike">
                  <a:solidFill>
                    <a:srgbClr val="000000"/>
                  </a:solidFill>
                  <a:latin typeface="Calibri"/>
                </a:rPr>
                <a:t>                                    Muchas gracias …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TRUCTURA FUNCIONAL PROGRAMATICA PP 104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5 Objeto"/>
          <p:cNvGraphicFramePr/>
          <p:nvPr/>
        </p:nvGraphicFramePr>
        <p:xfrm>
          <a:off x="395280" y="549360"/>
          <a:ext cx="8424720" cy="61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5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24720" cy="6119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8 Rectángulo"/>
          <p:cNvSpPr/>
          <p:nvPr/>
        </p:nvSpPr>
        <p:spPr>
          <a:xfrm>
            <a:off x="6300720" y="1341360"/>
            <a:ext cx="2664000" cy="4608720"/>
          </a:xfrm>
          <a:prstGeom prst="rect">
            <a:avLst/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7 Rectángulo"/>
          <p:cNvSpPr/>
          <p:nvPr/>
        </p:nvSpPr>
        <p:spPr>
          <a:xfrm>
            <a:off x="2843280" y="1341360"/>
            <a:ext cx="2808360" cy="4608720"/>
          </a:xfrm>
          <a:prstGeom prst="rect">
            <a:avLst/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Rectángulo redondeado"/>
          <p:cNvSpPr/>
          <p:nvPr/>
        </p:nvSpPr>
        <p:spPr>
          <a:xfrm>
            <a:off x="179280" y="2060640"/>
            <a:ext cx="2089080" cy="1584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DUC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Rectángulo redondeado"/>
          <p:cNvSpPr/>
          <p:nvPr/>
        </p:nvSpPr>
        <p:spPr>
          <a:xfrm>
            <a:off x="3132000" y="2205000"/>
            <a:ext cx="223200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0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1 ACCIÓN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Rectángulo redondeado"/>
          <p:cNvSpPr/>
          <p:nvPr/>
        </p:nvSpPr>
        <p:spPr>
          <a:xfrm>
            <a:off x="3132000" y="4149720"/>
            <a:ext cx="2232000" cy="15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38 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6 Rectángulo redondeado"/>
          <p:cNvSpPr/>
          <p:nvPr/>
        </p:nvSpPr>
        <p:spPr>
          <a:xfrm>
            <a:off x="6516720" y="2133720"/>
            <a:ext cx="23032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5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1 ACCION COM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Rectángulo redondeado"/>
          <p:cNvSpPr/>
          <p:nvPr/>
        </p:nvSpPr>
        <p:spPr>
          <a:xfrm>
            <a:off x="3132000" y="1484280"/>
            <a:ext cx="223200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 redondeado"/>
          <p:cNvSpPr/>
          <p:nvPr/>
        </p:nvSpPr>
        <p:spPr>
          <a:xfrm>
            <a:off x="6516720" y="1484280"/>
            <a:ext cx="2232000" cy="5032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9 Rectángulo redondeado"/>
          <p:cNvSpPr/>
          <p:nvPr/>
        </p:nvSpPr>
        <p:spPr>
          <a:xfrm>
            <a:off x="250920" y="404640"/>
            <a:ext cx="86421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ambios  en los Productos y Actividades del PpR 104 para  el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0 Rectángulo redondeado"/>
          <p:cNvSpPr/>
          <p:nvPr/>
        </p:nvSpPr>
        <p:spPr>
          <a:xfrm>
            <a:off x="6516720" y="4149720"/>
            <a:ext cx="230328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16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1 Rectángulo redondeado"/>
          <p:cNvSpPr/>
          <p:nvPr/>
        </p:nvSpPr>
        <p:spPr>
          <a:xfrm>
            <a:off x="179280" y="4005360"/>
            <a:ext cx="2089080" cy="1584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TIVIDADES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2 Flecha derecha"/>
          <p:cNvSpPr/>
          <p:nvPr/>
        </p:nvSpPr>
        <p:spPr>
          <a:xfrm>
            <a:off x="2340000" y="2565360"/>
            <a:ext cx="50472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3 Flecha derecha"/>
          <p:cNvSpPr/>
          <p:nvPr/>
        </p:nvSpPr>
        <p:spPr>
          <a:xfrm>
            <a:off x="2411280" y="4437000"/>
            <a:ext cx="503280" cy="719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5 Flecha derecha"/>
          <p:cNvSpPr/>
          <p:nvPr/>
        </p:nvSpPr>
        <p:spPr>
          <a:xfrm>
            <a:off x="5724360" y="2565360"/>
            <a:ext cx="50328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6 Flecha derecha"/>
          <p:cNvSpPr/>
          <p:nvPr/>
        </p:nvSpPr>
        <p:spPr>
          <a:xfrm>
            <a:off x="5724360" y="4508640"/>
            <a:ext cx="50328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 redondeado"/>
          <p:cNvSpPr/>
          <p:nvPr/>
        </p:nvSpPr>
        <p:spPr>
          <a:xfrm>
            <a:off x="108000" y="134136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.-ACCION COM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 redondeado"/>
          <p:cNvSpPr/>
          <p:nvPr/>
        </p:nvSpPr>
        <p:spPr>
          <a:xfrm>
            <a:off x="4859280" y="1268280"/>
            <a:ext cx="410544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1.- ACCION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Rectángulo redondeado"/>
          <p:cNvSpPr/>
          <p:nvPr/>
        </p:nvSpPr>
        <p:spPr>
          <a:xfrm>
            <a:off x="75564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3 Flecha derecha"/>
          <p:cNvSpPr/>
          <p:nvPr/>
        </p:nvSpPr>
        <p:spPr>
          <a:xfrm>
            <a:off x="4284720" y="148428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4 Flecha derecha"/>
          <p:cNvSpPr/>
          <p:nvPr/>
        </p:nvSpPr>
        <p:spPr>
          <a:xfrm>
            <a:off x="4206960" y="3141720"/>
            <a:ext cx="799920" cy="541440"/>
          </a:xfrm>
          <a:prstGeom prst="rightArrow">
            <a:avLst>
              <a:gd name="adj1" fmla="val 50000"/>
              <a:gd name="adj2" fmla="val 41346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Flecha derecha"/>
          <p:cNvSpPr/>
          <p:nvPr/>
        </p:nvSpPr>
        <p:spPr>
          <a:xfrm>
            <a:off x="4284720" y="5300640"/>
            <a:ext cx="50328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4 Flecha a la derecha con muesca"/>
          <p:cNvSpPr/>
          <p:nvPr/>
        </p:nvSpPr>
        <p:spPr>
          <a:xfrm rot="2407800">
            <a:off x="4334040" y="2585520"/>
            <a:ext cx="558720" cy="358920"/>
          </a:xfrm>
          <a:custGeom>
            <a:avLst/>
            <a:gdLst>
              <a:gd name="textAreaLeft" fmla="*/ 89640 w 558720"/>
              <a:gd name="textAreaRight" fmla="*/ 469080 w 558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66" y="5400"/>
                </a:lnTo>
                <a:lnTo>
                  <a:pt x="14666" y="0"/>
                </a:lnTo>
                <a:lnTo>
                  <a:pt x="21600" y="10800"/>
                </a:lnTo>
                <a:lnTo>
                  <a:pt x="14666" y="21600"/>
                </a:lnTo>
                <a:lnTo>
                  <a:pt x="14666" y="16200"/>
                </a:lnTo>
                <a:lnTo>
                  <a:pt x="0" y="16200"/>
                </a:lnTo>
                <a:lnTo>
                  <a:pt x="34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5 Flecha a la derecha con muesca"/>
          <p:cNvSpPr/>
          <p:nvPr/>
        </p:nvSpPr>
        <p:spPr>
          <a:xfrm rot="19527600">
            <a:off x="4230720" y="3846600"/>
            <a:ext cx="712800" cy="442800"/>
          </a:xfrm>
          <a:custGeom>
            <a:avLst/>
            <a:gdLst>
              <a:gd name="textAreaLeft" fmla="*/ 110520 w 712800"/>
              <a:gd name="textAreaRight" fmla="*/ 602280 w 71280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89" y="5400"/>
                </a:lnTo>
                <a:lnTo>
                  <a:pt x="14889" y="0"/>
                </a:lnTo>
                <a:lnTo>
                  <a:pt x="21600" y="10800"/>
                </a:lnTo>
                <a:lnTo>
                  <a:pt x="14889" y="21600"/>
                </a:lnTo>
                <a:lnTo>
                  <a:pt x="14889" y="16200"/>
                </a:lnTo>
                <a:lnTo>
                  <a:pt x="0" y="16200"/>
                </a:lnTo>
                <a:lnTo>
                  <a:pt x="33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08000" y="2379600"/>
            <a:ext cx="4032360" cy="414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1 Objeto"/>
          <p:cNvGraphicFramePr/>
          <p:nvPr/>
        </p:nvGraphicFramePr>
        <p:xfrm>
          <a:off x="5219640" y="2379600"/>
          <a:ext cx="3600360" cy="378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1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379600"/>
                    <a:ext cx="36003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Rectángulo redondeado"/>
          <p:cNvSpPr/>
          <p:nvPr/>
        </p:nvSpPr>
        <p:spPr>
          <a:xfrm>
            <a:off x="108000" y="134136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.-</a:t>
            </a: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ATENCIÓN DE LLAMADAS DE EMERGENCIAS "106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 Rectángulo redondeado"/>
          <p:cNvSpPr/>
          <p:nvPr/>
        </p:nvSpPr>
        <p:spPr>
          <a:xfrm>
            <a:off x="4859280" y="1197000"/>
            <a:ext cx="410544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2.- 3000684 ATENCIÓN TELEFONICA DE LA EMERGENCIA EN CENTRO REGUL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7 Rectángulo redondeado"/>
          <p:cNvSpPr/>
          <p:nvPr/>
        </p:nvSpPr>
        <p:spPr>
          <a:xfrm>
            <a:off x="75564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8 Rectángulo redondeado"/>
          <p:cNvSpPr/>
          <p:nvPr/>
        </p:nvSpPr>
        <p:spPr>
          <a:xfrm>
            <a:off x="5364000" y="549360"/>
            <a:ext cx="3024360" cy="503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4 Flecha derecha"/>
          <p:cNvSpPr/>
          <p:nvPr/>
        </p:nvSpPr>
        <p:spPr>
          <a:xfrm>
            <a:off x="3970440" y="2870280"/>
            <a:ext cx="799920" cy="541080"/>
          </a:xfrm>
          <a:prstGeom prst="rightArrow">
            <a:avLst>
              <a:gd name="adj1" fmla="val 50000"/>
              <a:gd name="adj2" fmla="val 41374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0 Flecha derecha"/>
          <p:cNvSpPr/>
          <p:nvPr/>
        </p:nvSpPr>
        <p:spPr>
          <a:xfrm rot="18876600">
            <a:off x="4027320" y="5235120"/>
            <a:ext cx="1063800" cy="542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5 Flecha a la derecha con muesca"/>
          <p:cNvSpPr/>
          <p:nvPr/>
        </p:nvSpPr>
        <p:spPr>
          <a:xfrm rot="18778200">
            <a:off x="4002840" y="4272120"/>
            <a:ext cx="1204920" cy="650880"/>
          </a:xfrm>
          <a:custGeom>
            <a:avLst/>
            <a:gdLst>
              <a:gd name="textAreaLeft" fmla="*/ 214200 w 1204920"/>
              <a:gd name="textAreaRight" fmla="*/ 990720 w 1204920"/>
              <a:gd name="textAreaTop" fmla="*/ 111240 h 650880"/>
              <a:gd name="textAreaBottom" fmla="*/ 5396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3691"/>
                </a:moveTo>
                <a:lnTo>
                  <a:pt x="15766" y="3691"/>
                </a:lnTo>
                <a:lnTo>
                  <a:pt x="15766" y="0"/>
                </a:lnTo>
                <a:lnTo>
                  <a:pt x="21600" y="10800"/>
                </a:lnTo>
                <a:lnTo>
                  <a:pt x="15766" y="21600"/>
                </a:lnTo>
                <a:lnTo>
                  <a:pt x="15766" y="17909"/>
                </a:lnTo>
                <a:lnTo>
                  <a:pt x="0" y="17909"/>
                </a:lnTo>
                <a:lnTo>
                  <a:pt x="3840" y="10800"/>
                </a:lnTo>
                <a:lnTo>
                  <a:pt x="0" y="369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  <p:sp>
        <p:nvSpPr>
          <p:cNvPr id="88" name="15 Rectángulo redondeado"/>
          <p:cNvSpPr/>
          <p:nvPr/>
        </p:nvSpPr>
        <p:spPr>
          <a:xfrm>
            <a:off x="20520" y="3933720"/>
            <a:ext cx="4103640" cy="863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3.-</a:t>
            </a: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ATENCIÓN MÉDICA TELEFÓNICA DE LA EMERGENCIA Y DESPACHO DE LA UNIDAD MÓVIL S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24000" y="2448000"/>
            <a:ext cx="3600360" cy="123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324000" y="5056200"/>
            <a:ext cx="3600360" cy="1541520"/>
          </a:xfrm>
          <a:prstGeom prst="rect">
            <a:avLst/>
          </a:prstGeom>
          <a:ln w="0">
            <a:noFill/>
          </a:ln>
        </p:spPr>
      </p:pic>
      <p:sp>
        <p:nvSpPr>
          <p:cNvPr id="91" name="16 Rectángulo redondeado"/>
          <p:cNvSpPr/>
          <p:nvPr/>
        </p:nvSpPr>
        <p:spPr>
          <a:xfrm>
            <a:off x="5126040" y="4154400"/>
            <a:ext cx="38386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3.- 3000685 DESPACHO  DE LA UNIDAD MOVIL Y COORDINACION DE LA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2 Objeto"/>
          <p:cNvGraphicFramePr/>
          <p:nvPr/>
        </p:nvGraphicFramePr>
        <p:xfrm>
          <a:off x="4915080" y="2205000"/>
          <a:ext cx="3904920" cy="1728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3" name="2 Objeto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15080" y="2205000"/>
                    <a:ext cx="39049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3 Objeto"/>
          <p:cNvGraphicFramePr/>
          <p:nvPr/>
        </p:nvGraphicFramePr>
        <p:xfrm>
          <a:off x="5126040" y="5207040"/>
          <a:ext cx="3838680" cy="1390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5" name="3 Objeto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26040" y="5207040"/>
                    <a:ext cx="38386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51868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Calibri"/>
              </a:rPr>
              <a:t>Producto  3000280: ATENCIÓN de llamadas  EMERGENCIA s «106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000"/>
            <a:ext cx="8445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Consiste en el servicio de atención de las llamadas telefónicas a cargo del operador, comprende la recepción, discriminación y/o derivación de las llamadas telefónicas de emergencias, urgencias o referencias al médico regulador del Centro Regulador del S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Incluye la organización, fortalecimiento de capacidades, equipamiento y puesta en marcha del Centro Regulador, que funciona de manera ininterrumpida las 24 horas del día durante todo el año con personal profesional y técnico capacitado, con recursos tecnológicos y de comunicación organizados; y cuyo contacto inicial de solicitud de atención lo realizan las personas a través del servicio de asistencia telefónica asignado con el número “106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ACTIVIDAD: 5002792 Servicio de Atención de las llamadas telefónicas al  «106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6 Marcador de contenido"/>
          <p:cNvSpPr/>
          <p:nvPr/>
        </p:nvSpPr>
        <p:spPr>
          <a:xfrm>
            <a:off x="179280" y="2708280"/>
            <a:ext cx="860436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a Física:  Ate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enérica y Especifica de Gasto que contribuye al cumplimiento de la  meta Fís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6.3.2.3.3 RADIOS VHF, UH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4. 1  1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Mejoramiento y Acondicionamiento de lo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6. 3  2. 3  3 Compra de Teléfono y equip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4. 1  5,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Mantenimiento preventivo de equip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de …telecomunicación,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3. 2  8. 1  1 y 2.3. 2  8. 1  2, CAS y Contribuciones a EsSalud de CAS. (OPER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Calibri"/>
              </a:rPr>
              <a:t>INSUMOS PRIORIZADOS</a:t>
            </a:r>
            <a:br>
              <a:rPr sz="2400"/>
            </a:br>
            <a:r>
              <a:rPr b="1" lang="es-PE" sz="2400" spc="-1" strike="noStrike">
                <a:solidFill>
                  <a:srgbClr val="ffffff"/>
                </a:solidFill>
                <a:latin typeface="Calibri"/>
              </a:rPr>
              <a:t>Producto  3000280: ATENCIÓN de llamadas  EMERGENCIA s </a:t>
            </a:r>
            <a:br>
              <a:rPr sz="2400"/>
            </a:br>
            <a:r>
              <a:rPr b="1" lang="es-PE" sz="2400" spc="-1" strike="noStrike">
                <a:solidFill>
                  <a:srgbClr val="ffffff"/>
                </a:solidFill>
                <a:latin typeface="Calibri"/>
              </a:rPr>
              <a:t>«106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8000" y="1558800"/>
            <a:ext cx="8928000" cy="107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3152880"/>
            <a:ext cx="8928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41:20Z</dcterms:created>
  <dc:creator>OTPDN</dc:creator>
  <dc:description/>
  <dc:language>en-US</dc:language>
  <cp:lastModifiedBy>www.intercambiosvirtuales.org</cp:lastModifiedBy>
  <dcterms:modified xsi:type="dcterms:W3CDTF">2014-06-20T16:31:32Z</dcterms:modified>
  <cp:revision>494</cp:revision>
  <dc:subject/>
  <dc:title>PPR 068</dc:title>
</cp:coreProperties>
</file>