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1.png" ContentType="image/png"/>
  <Override PartName="/ppt/media/image30.png" ContentType="image/png"/>
  <Override PartName="/ppt/media/image28.png" ContentType="image/png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41C-9BA9-4182-B385-9DA4AFB2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35F-D264-4575-99B9-556F0587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D60-9E88-4FBD-811C-97234FD4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128-89E5-47EF-B027-E162747D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CB5-EFD0-471F-BFC7-D0A8466B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2BD-6827-48EB-A58D-0E93ED2A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62E-A730-4927-BA9C-FF71C0F6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E94-A97E-492C-A432-C1E44885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3D8-92B3-4454-8EBE-AEA27BA4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428-AF85-4A83-9C48-DDCB52FC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FE4-1A90-4A7B-991C-C6B95BE8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007-008C-40E0-A3E0-77C8301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484E-1401-4172-8A31-5032927EA9BE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1480-4098-4F7C-909E-0C047F43D509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2" descr="DGSP"/>
          <p:cNvPicPr/>
          <p:nvPr/>
        </p:nvPicPr>
        <p:blipFill>
          <a:blip r:embed="rId1"/>
          <a:stretch/>
        </p:blipFill>
        <p:spPr>
          <a:xfrm>
            <a:off x="0" y="0"/>
            <a:ext cx="4356000" cy="706320"/>
          </a:xfrm>
          <a:prstGeom prst="rect">
            <a:avLst/>
          </a:prstGeom>
          <a:ln w="0">
            <a:noFill/>
          </a:ln>
        </p:spPr>
      </p:pic>
      <p:pic>
        <p:nvPicPr>
          <p:cNvPr id="42" name="4 Imagen" descr=""/>
          <p:cNvPicPr/>
          <p:nvPr/>
        </p:nvPicPr>
        <p:blipFill>
          <a:blip r:embed="rId2"/>
          <a:srcRect l="26329" t="14435" r="26622" b="17410"/>
          <a:stretch/>
        </p:blipFill>
        <p:spPr>
          <a:xfrm>
            <a:off x="2987640" y="2133720"/>
            <a:ext cx="3456000" cy="4390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1332000" y="770040"/>
            <a:ext cx="6588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PROGRAMA PRESUPUESTAL DE ENFERMEDADES METAXENICAS Y ZOON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1" lang="es-MX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(0017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alibri"/>
              </a:rPr>
              <a:t>PERSONA EXPUESTA A RABIA RECIBE ATENCIÓN INTEGRAL – PRE EXPOSI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3 Marcador de contenido" descr=""/>
          <p:cNvPicPr/>
          <p:nvPr/>
        </p:nvPicPr>
        <p:blipFill>
          <a:blip r:embed="rId1"/>
          <a:stretch/>
        </p:blipFill>
        <p:spPr>
          <a:xfrm>
            <a:off x="237960" y="1487520"/>
            <a:ext cx="5950080" cy="1652400"/>
          </a:xfrm>
          <a:prstGeom prst="rect">
            <a:avLst/>
          </a:prstGeom>
          <a:ln w="0">
            <a:noFill/>
          </a:ln>
        </p:spPr>
      </p:pic>
      <p:pic>
        <p:nvPicPr>
          <p:cNvPr id="109" name="4 Diagrama" descr=""/>
          <p:cNvPicPr/>
          <p:nvPr/>
        </p:nvPicPr>
        <p:blipFill>
          <a:blip r:embed="rId2"/>
          <a:stretch/>
        </p:blipFill>
        <p:spPr>
          <a:xfrm>
            <a:off x="3346560" y="3139920"/>
            <a:ext cx="2998800" cy="2810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ivargas\Pictures\Peru agrupado.png"/>
          <p:cNvPicPr/>
          <p:nvPr/>
        </p:nvPicPr>
        <p:blipFill>
          <a:blip r:embed="rId3"/>
          <a:stretch/>
        </p:blipFill>
        <p:spPr>
          <a:xfrm>
            <a:off x="6732720" y="3357720"/>
            <a:ext cx="1655640" cy="2282760"/>
          </a:xfrm>
          <a:prstGeom prst="rect">
            <a:avLst/>
          </a:prstGeom>
          <a:ln w="0">
            <a:noFill/>
          </a:ln>
        </p:spPr>
      </p:pic>
      <p:sp>
        <p:nvSpPr>
          <p:cNvPr id="111" name="5 CuadroTexto"/>
          <p:cNvSpPr/>
          <p:nvPr/>
        </p:nvSpPr>
        <p:spPr>
          <a:xfrm>
            <a:off x="6443640" y="530064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Áreas de riesgo de rabia silv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6 Rectángulo"/>
          <p:cNvSpPr/>
          <p:nvPr/>
        </p:nvSpPr>
        <p:spPr>
          <a:xfrm>
            <a:off x="7451640" y="5589720"/>
            <a:ext cx="289080" cy="71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8 Diagrama" descr=""/>
          <p:cNvPicPr/>
          <p:nvPr/>
        </p:nvPicPr>
        <p:blipFill>
          <a:blip r:embed="rId4"/>
          <a:stretch/>
        </p:blipFill>
        <p:spPr>
          <a:xfrm>
            <a:off x="324000" y="3486240"/>
            <a:ext cx="3095640" cy="2401920"/>
          </a:xfrm>
          <a:prstGeom prst="rect">
            <a:avLst/>
          </a:prstGeom>
          <a:ln w="0">
            <a:noFill/>
          </a:ln>
        </p:spPr>
      </p:pic>
      <p:pic>
        <p:nvPicPr>
          <p:cNvPr id="114" name="9 Imagen" descr=""/>
          <p:cNvPicPr/>
          <p:nvPr/>
        </p:nvPicPr>
        <p:blipFill>
          <a:blip r:embed="rId5"/>
          <a:stretch/>
        </p:blipFill>
        <p:spPr>
          <a:xfrm>
            <a:off x="6372360" y="1484280"/>
            <a:ext cx="2771640" cy="1773360"/>
          </a:xfrm>
          <a:prstGeom prst="rect">
            <a:avLst/>
          </a:prstGeom>
          <a:ln w="0">
            <a:noFill/>
          </a:ln>
        </p:spPr>
      </p:pic>
      <p:sp>
        <p:nvSpPr>
          <p:cNvPr id="115" name="9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F9C-D852-45FC-ACE7-058D99CAC40D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0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alibri"/>
              </a:rPr>
              <a:t>MANEJO PRIMARIO DE ACCIDENTES POR TODO TIPO DE ANIMALES PONZOÑO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4 Marcador de contenido" descr=""/>
          <p:cNvPicPr/>
          <p:nvPr/>
        </p:nvPicPr>
        <p:blipFill>
          <a:blip r:embed="rId1"/>
          <a:stretch/>
        </p:blipFill>
        <p:spPr>
          <a:xfrm>
            <a:off x="3267000" y="2914560"/>
            <a:ext cx="4975200" cy="3284640"/>
          </a:xfrm>
          <a:prstGeom prst="rect">
            <a:avLst/>
          </a:prstGeom>
          <a:ln w="0">
            <a:noFill/>
          </a:ln>
        </p:spPr>
      </p:pic>
      <p:pic>
        <p:nvPicPr>
          <p:cNvPr id="119" name="3 Marcador de contenido" descr=""/>
          <p:cNvPicPr/>
          <p:nvPr/>
        </p:nvPicPr>
        <p:blipFill>
          <a:blip r:embed="rId2"/>
          <a:stretch/>
        </p:blipFill>
        <p:spPr>
          <a:xfrm>
            <a:off x="444600" y="1554120"/>
            <a:ext cx="8265960" cy="1444680"/>
          </a:xfrm>
          <a:prstGeom prst="rect">
            <a:avLst/>
          </a:prstGeom>
          <a:ln w="0">
            <a:noFill/>
          </a:ln>
        </p:spPr>
      </p:pic>
      <p:pic>
        <p:nvPicPr>
          <p:cNvPr id="120" name="7 Diagrama" descr=""/>
          <p:cNvPicPr/>
          <p:nvPr/>
        </p:nvPicPr>
        <p:blipFill>
          <a:blip r:embed="rId3"/>
          <a:stretch/>
        </p:blipFill>
        <p:spPr>
          <a:xfrm>
            <a:off x="324000" y="3024360"/>
            <a:ext cx="3382920" cy="3174840"/>
          </a:xfrm>
          <a:prstGeom prst="rect">
            <a:avLst/>
          </a:prstGeom>
          <a:ln w="0">
            <a:noFill/>
          </a:ln>
        </p:spPr>
      </p:pic>
      <p:sp>
        <p:nvSpPr>
          <p:cNvPr id="121" name="5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FC69-C62C-4170-B58A-4EF8F07CE53D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6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alibri"/>
              </a:rPr>
              <a:t>DIAGNOSTICO DE PERSONAS CON SOSPECHA DE BRUCEL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547640"/>
            <a:ext cx="8321400" cy="1171800"/>
          </a:xfrm>
          <a:prstGeom prst="rect">
            <a:avLst/>
          </a:prstGeom>
          <a:ln w="0">
            <a:noFill/>
          </a:ln>
        </p:spPr>
      </p:pic>
      <p:pic>
        <p:nvPicPr>
          <p:cNvPr id="125" name="4 Diagrama" descr=""/>
          <p:cNvPicPr/>
          <p:nvPr/>
        </p:nvPicPr>
        <p:blipFill>
          <a:blip r:embed="rId2"/>
          <a:stretch/>
        </p:blipFill>
        <p:spPr>
          <a:xfrm>
            <a:off x="3133800" y="2779560"/>
            <a:ext cx="5156280" cy="3273480"/>
          </a:xfrm>
          <a:prstGeom prst="rect">
            <a:avLst/>
          </a:prstGeom>
          <a:ln w="0">
            <a:noFill/>
          </a:ln>
        </p:spPr>
      </p:pic>
      <p:pic>
        <p:nvPicPr>
          <p:cNvPr id="126" name="5 Diagrama" descr=""/>
          <p:cNvPicPr/>
          <p:nvPr/>
        </p:nvPicPr>
        <p:blipFill>
          <a:blip r:embed="rId3"/>
          <a:stretch/>
        </p:blipFill>
        <p:spPr>
          <a:xfrm>
            <a:off x="237960" y="2882880"/>
            <a:ext cx="3846600" cy="3292560"/>
          </a:xfrm>
          <a:prstGeom prst="rect">
            <a:avLst/>
          </a:prstGeom>
          <a:ln w="0">
            <a:noFill/>
          </a:ln>
        </p:spPr>
      </p:pic>
      <p:sp>
        <p:nvSpPr>
          <p:cNvPr id="127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9F32-9E9E-4A31-B3DC-CAE50EF503BE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alibri"/>
              </a:rPr>
              <a:t>DIAGNOSTICO DE PERSONAS CON SOSPECHA DE CARBUN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547640"/>
            <a:ext cx="8265960" cy="1171800"/>
          </a:xfrm>
          <a:prstGeom prst="rect">
            <a:avLst/>
          </a:prstGeom>
          <a:ln w="0">
            <a:noFill/>
          </a:ln>
        </p:spPr>
      </p:pic>
      <p:pic>
        <p:nvPicPr>
          <p:cNvPr id="131" name="4 Diagrama" descr=""/>
          <p:cNvPicPr/>
          <p:nvPr/>
        </p:nvPicPr>
        <p:blipFill>
          <a:blip r:embed="rId2"/>
          <a:stretch/>
        </p:blipFill>
        <p:spPr>
          <a:xfrm>
            <a:off x="3133800" y="2779560"/>
            <a:ext cx="5156280" cy="3273480"/>
          </a:xfrm>
          <a:prstGeom prst="rect">
            <a:avLst/>
          </a:prstGeom>
          <a:ln w="0">
            <a:noFill/>
          </a:ln>
        </p:spPr>
      </p:pic>
      <p:pic>
        <p:nvPicPr>
          <p:cNvPr id="132" name="5 Diagrama" descr=""/>
          <p:cNvPicPr/>
          <p:nvPr/>
        </p:nvPicPr>
        <p:blipFill>
          <a:blip r:embed="rId3"/>
          <a:stretch/>
        </p:blipFill>
        <p:spPr>
          <a:xfrm>
            <a:off x="225360" y="3213000"/>
            <a:ext cx="3846600" cy="2608200"/>
          </a:xfrm>
          <a:prstGeom prst="rect">
            <a:avLst/>
          </a:prstGeom>
          <a:ln w="0">
            <a:noFill/>
          </a:ln>
        </p:spPr>
      </p:pic>
      <p:sp>
        <p:nvSpPr>
          <p:cNvPr id="133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FF56-0234-4F1F-8FA3-744403571E22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7308720" y="2852640"/>
            <a:ext cx="1670040" cy="2305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alibri"/>
              </a:rPr>
              <a:t>DIAGNÓSTICO Y TRATAMIENTO DE PERSONAS CON SOSPECHA DE PE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3 Marcador de contenido" descr=""/>
          <p:cNvPicPr/>
          <p:nvPr/>
        </p:nvPicPr>
        <p:blipFill>
          <a:blip r:embed="rId2"/>
          <a:stretch/>
        </p:blipFill>
        <p:spPr>
          <a:xfrm>
            <a:off x="2773440" y="3213000"/>
            <a:ext cx="2590560" cy="2449440"/>
          </a:xfrm>
          <a:prstGeom prst="rect">
            <a:avLst/>
          </a:prstGeom>
          <a:ln w="0">
            <a:noFill/>
          </a:ln>
        </p:spPr>
      </p:pic>
      <p:pic>
        <p:nvPicPr>
          <p:cNvPr id="138" name="4 Diagrama" descr=""/>
          <p:cNvPicPr/>
          <p:nvPr/>
        </p:nvPicPr>
        <p:blipFill>
          <a:blip r:embed="rId3"/>
          <a:stretch/>
        </p:blipFill>
        <p:spPr>
          <a:xfrm>
            <a:off x="4645080" y="3067200"/>
            <a:ext cx="3382920" cy="2522520"/>
          </a:xfrm>
          <a:prstGeom prst="rect">
            <a:avLst/>
          </a:prstGeom>
          <a:ln w="0">
            <a:noFill/>
          </a:ln>
        </p:spPr>
      </p:pic>
      <p:pic>
        <p:nvPicPr>
          <p:cNvPr id="139" name="3 Marcador de contenido" descr=""/>
          <p:cNvPicPr/>
          <p:nvPr/>
        </p:nvPicPr>
        <p:blipFill>
          <a:blip r:embed="rId4"/>
          <a:stretch/>
        </p:blipFill>
        <p:spPr>
          <a:xfrm>
            <a:off x="457200" y="334800"/>
            <a:ext cx="8253360" cy="2732400"/>
          </a:xfrm>
          <a:prstGeom prst="rect">
            <a:avLst/>
          </a:prstGeom>
          <a:ln w="0">
            <a:noFill/>
          </a:ln>
        </p:spPr>
      </p:pic>
      <p:pic>
        <p:nvPicPr>
          <p:cNvPr id="140" name="5 Diagrama" descr=""/>
          <p:cNvPicPr/>
          <p:nvPr/>
        </p:nvPicPr>
        <p:blipFill>
          <a:blip r:embed="rId5"/>
          <a:stretch/>
        </p:blipFill>
        <p:spPr>
          <a:xfrm>
            <a:off x="109440" y="2914560"/>
            <a:ext cx="2737080" cy="3767400"/>
          </a:xfrm>
          <a:prstGeom prst="rect">
            <a:avLst/>
          </a:prstGeom>
          <a:ln w="0">
            <a:noFill/>
          </a:ln>
        </p:spPr>
      </p:pic>
      <p:pic>
        <p:nvPicPr>
          <p:cNvPr id="141" name="9 Diagrama" descr=""/>
          <p:cNvPicPr/>
          <p:nvPr/>
        </p:nvPicPr>
        <p:blipFill>
          <a:blip r:embed="rId6"/>
          <a:stretch/>
        </p:blipFill>
        <p:spPr>
          <a:xfrm>
            <a:off x="3133800" y="5389560"/>
            <a:ext cx="4535280" cy="1468440"/>
          </a:xfrm>
          <a:prstGeom prst="rect">
            <a:avLst/>
          </a:prstGeom>
          <a:ln w="0">
            <a:noFill/>
          </a:ln>
        </p:spPr>
      </p:pic>
      <p:sp>
        <p:nvSpPr>
          <p:cNvPr id="142" name="8 Marcador de fecha"/>
          <p:cNvSpPr/>
          <p:nvPr/>
        </p:nvSpPr>
        <p:spPr>
          <a:xfrm>
            <a:off x="457200" y="6593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779E-F6C8-4543-946A-135151140928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0 Marcador de pie de página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alibri"/>
              </a:rPr>
              <a:t>DIAGNOSTICO Y TRATAMIENTO DE PERSONAS CON SOSPECHA DE LEPTOSPI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259840" cy="1347840"/>
          </a:xfrm>
          <a:prstGeom prst="rect">
            <a:avLst/>
          </a:prstGeom>
          <a:ln w="0">
            <a:noFill/>
          </a:ln>
        </p:spPr>
      </p:pic>
      <p:pic>
        <p:nvPicPr>
          <p:cNvPr id="146" name="4 Diagrama" descr=""/>
          <p:cNvPicPr/>
          <p:nvPr/>
        </p:nvPicPr>
        <p:blipFill>
          <a:blip r:embed="rId2"/>
          <a:stretch/>
        </p:blipFill>
        <p:spPr>
          <a:xfrm>
            <a:off x="3133800" y="2779560"/>
            <a:ext cx="5156280" cy="3273480"/>
          </a:xfrm>
          <a:prstGeom prst="rect">
            <a:avLst/>
          </a:prstGeom>
          <a:ln w="0">
            <a:noFill/>
          </a:ln>
        </p:spPr>
      </p:pic>
      <p:pic>
        <p:nvPicPr>
          <p:cNvPr id="147" name="5 Diagrama" descr=""/>
          <p:cNvPicPr/>
          <p:nvPr/>
        </p:nvPicPr>
        <p:blipFill>
          <a:blip r:embed="rId3"/>
          <a:stretch/>
        </p:blipFill>
        <p:spPr>
          <a:xfrm>
            <a:off x="311040" y="2998800"/>
            <a:ext cx="3743280" cy="3041640"/>
          </a:xfrm>
          <a:prstGeom prst="rect">
            <a:avLst/>
          </a:prstGeom>
          <a:ln w="0">
            <a:noFill/>
          </a:ln>
        </p:spPr>
      </p:pic>
      <p:sp>
        <p:nvSpPr>
          <p:cNvPr id="148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78F1-4B1E-498A-89B7-0BFDAED2F66D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Tamizaje en áreas de riesgo de Fasciol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255680"/>
            <a:ext cx="8253360" cy="1390680"/>
          </a:xfrm>
          <a:prstGeom prst="rect">
            <a:avLst/>
          </a:prstGeom>
          <a:ln w="0">
            <a:noFill/>
          </a:ln>
        </p:spPr>
      </p:pic>
      <p:pic>
        <p:nvPicPr>
          <p:cNvPr id="152" name="4 Diagrama" descr=""/>
          <p:cNvPicPr/>
          <p:nvPr/>
        </p:nvPicPr>
        <p:blipFill>
          <a:blip r:embed="rId2"/>
          <a:stretch/>
        </p:blipFill>
        <p:spPr>
          <a:xfrm>
            <a:off x="3133800" y="2925720"/>
            <a:ext cx="5156280" cy="3273480"/>
          </a:xfrm>
          <a:prstGeom prst="rect">
            <a:avLst/>
          </a:prstGeom>
          <a:ln w="0">
            <a:noFill/>
          </a:ln>
        </p:spPr>
      </p:pic>
      <p:pic>
        <p:nvPicPr>
          <p:cNvPr id="153" name="5 Diagrama" descr=""/>
          <p:cNvPicPr/>
          <p:nvPr/>
        </p:nvPicPr>
        <p:blipFill>
          <a:blip r:embed="rId3"/>
          <a:stretch/>
        </p:blipFill>
        <p:spPr>
          <a:xfrm>
            <a:off x="457200" y="3213000"/>
            <a:ext cx="3670200" cy="3168720"/>
          </a:xfrm>
          <a:prstGeom prst="rect">
            <a:avLst/>
          </a:prstGeom>
          <a:ln w="0">
            <a:noFill/>
          </a:ln>
        </p:spPr>
      </p:pic>
      <p:sp>
        <p:nvSpPr>
          <p:cNvPr id="154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7C62-011A-4F9C-A7F3-CB2871FE33FC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Tamizaje de personas con sospecha de Teniasis en zonas de riesgo de Teniasis/ Cisticercosis (439842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542960"/>
            <a:ext cx="8265960" cy="1219320"/>
          </a:xfrm>
          <a:prstGeom prst="rect">
            <a:avLst/>
          </a:prstGeom>
          <a:ln w="0">
            <a:noFill/>
          </a:ln>
        </p:spPr>
      </p:pic>
      <p:pic>
        <p:nvPicPr>
          <p:cNvPr id="158" name="4 Diagrama" descr=""/>
          <p:cNvPicPr/>
          <p:nvPr/>
        </p:nvPicPr>
        <p:blipFill>
          <a:blip r:embed="rId2"/>
          <a:stretch/>
        </p:blipFill>
        <p:spPr>
          <a:xfrm>
            <a:off x="2987640" y="2925720"/>
            <a:ext cx="5162760" cy="3273480"/>
          </a:xfrm>
          <a:prstGeom prst="rect">
            <a:avLst/>
          </a:prstGeom>
          <a:ln w="0">
            <a:noFill/>
          </a:ln>
        </p:spPr>
      </p:pic>
      <p:pic>
        <p:nvPicPr>
          <p:cNvPr id="159" name="5 Diagrama" descr=""/>
          <p:cNvPicPr/>
          <p:nvPr/>
        </p:nvPicPr>
        <p:blipFill>
          <a:blip r:embed="rId3"/>
          <a:stretch/>
        </p:blipFill>
        <p:spPr>
          <a:xfrm>
            <a:off x="530280" y="2852640"/>
            <a:ext cx="3408480" cy="3456000"/>
          </a:xfrm>
          <a:prstGeom prst="rect">
            <a:avLst/>
          </a:prstGeom>
          <a:ln w="0">
            <a:noFill/>
          </a:ln>
        </p:spPr>
      </p:pic>
      <p:sp>
        <p:nvSpPr>
          <p:cNvPr id="160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2611-F1CD-466F-9041-3A76FE04AF46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Tamizaje de población en áreas de riesgo de  Equinococosis (439842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3 Marcador de contenido" descr=""/>
          <p:cNvPicPr/>
          <p:nvPr/>
        </p:nvPicPr>
        <p:blipFill>
          <a:blip r:embed="rId1"/>
          <a:stretch/>
        </p:blipFill>
        <p:spPr>
          <a:xfrm>
            <a:off x="457200" y="969840"/>
            <a:ext cx="8253360" cy="1998720"/>
          </a:xfrm>
          <a:prstGeom prst="rect">
            <a:avLst/>
          </a:prstGeom>
          <a:ln w="0">
            <a:noFill/>
          </a:ln>
        </p:spPr>
      </p:pic>
      <p:pic>
        <p:nvPicPr>
          <p:cNvPr id="164" name="4 Diagrama" descr=""/>
          <p:cNvPicPr/>
          <p:nvPr/>
        </p:nvPicPr>
        <p:blipFill>
          <a:blip r:embed="rId2"/>
          <a:stretch/>
        </p:blipFill>
        <p:spPr>
          <a:xfrm>
            <a:off x="3565440" y="2925720"/>
            <a:ext cx="5157720" cy="3273480"/>
          </a:xfrm>
          <a:prstGeom prst="rect">
            <a:avLst/>
          </a:prstGeom>
          <a:ln w="0">
            <a:noFill/>
          </a:ln>
        </p:spPr>
      </p:pic>
      <p:pic>
        <p:nvPicPr>
          <p:cNvPr id="165" name="5 Diagrama" descr=""/>
          <p:cNvPicPr/>
          <p:nvPr/>
        </p:nvPicPr>
        <p:blipFill>
          <a:blip r:embed="rId3"/>
          <a:stretch/>
        </p:blipFill>
        <p:spPr>
          <a:xfrm>
            <a:off x="438120" y="2852640"/>
            <a:ext cx="3852720" cy="3603600"/>
          </a:xfrm>
          <a:prstGeom prst="rect">
            <a:avLst/>
          </a:prstGeom>
          <a:ln w="0">
            <a:noFill/>
          </a:ln>
        </p:spPr>
      </p:pic>
      <p:sp>
        <p:nvSpPr>
          <p:cNvPr id="166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4C4A-0756-47A1-B7FF-9649210A20FD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alibri"/>
              </a:rPr>
              <a:t>CARTERA DE SERV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898989"/>
                </a:solidFill>
                <a:latin typeface="Calibri"/>
              </a:rPr>
              <a:t>PRODUCTOS 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898989"/>
                </a:solidFill>
                <a:latin typeface="Calibri"/>
              </a:rPr>
              <a:t>SUBPRODUCTOS TRAZ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4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5CA7-5BC6-4AFB-ADD0-49F29F4F430D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95280" y="260280"/>
          <a:ext cx="4537080" cy="60213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62244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02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00001. Acciones comu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3977. Familia con prácticas saludables para la prevención de enfermedades Metaxénicas y Zoonó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3978. Instituciones educativas que promueven practicas saludables para la prevención de enfermedades Metaxénicas y Zoonó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3979. Municipios participando en disminución de la transmisión de enfermedades Metaxénicas y Zoonó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3980. Pobladores de áreas con riesgo de transmisión informada conoce los mecanismos de transmisión de enfermedades Metaxénicas y Zoonó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3981. Viviendas protegidas de los principales condicionantes del riesgo en las áreas de alto y muy alto riesgo de enfermedades Metaxénicas y zoon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3982. Vacunación de animales domés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3983. Diagnóstico y tratamiento de enfermedades Metaxén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3984. Diagnóstico y tratamiento de casos de enfermedades Zoonó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44119. Comunidad con factores de riesgo control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364000" y="1341360"/>
          <a:ext cx="3213360" cy="1203480"/>
        </p:xfrm>
        <a:graphic>
          <a:graphicData uri="http://schemas.openxmlformats.org/drawingml/2006/table">
            <a:tbl>
              <a:tblPr/>
              <a:tblGrid>
                <a:gridCol w="3213360"/>
              </a:tblGrid>
              <a:tr h="22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DUCTO</a:t>
                      </a: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Familias que desarrollan Prácticas Saludables para la prevención y control de enfermedades Metaxénicas (43977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Familias que desarrollan Prácticas Saludables para la prevención y control de enfermedades Zoonóticas (439770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364000" y="1989000"/>
          <a:ext cx="3213360" cy="1851120"/>
        </p:xfrm>
        <a:graphic>
          <a:graphicData uri="http://schemas.openxmlformats.org/drawingml/2006/table">
            <a:tbl>
              <a:tblPr/>
              <a:tblGrid>
                <a:gridCol w="3213360"/>
              </a:tblGrid>
              <a:tr h="22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DUCTO</a:t>
                      </a: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Institución Educativa (CONEI) con Practicas Saludables frente a las enfermedades Metaxénicas y Zoonóticas (43978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ocentes de Instituciones Educativas capacitados en Prácticas Saludables para prevenir Enfermedades Metaxénicas y Zoonóticas (439780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sociación de padres de familia (APAFAs)  desarrollan acciones para la promoción de prácticas y entornos saludables frente a las enfermedades Metaxénicas y Zoono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64000" y="2565360"/>
          <a:ext cx="3213360" cy="1031760"/>
        </p:xfrm>
        <a:graphic>
          <a:graphicData uri="http://schemas.openxmlformats.org/drawingml/2006/table">
            <a:tbl>
              <a:tblPr/>
              <a:tblGrid>
                <a:gridCol w="3213360"/>
              </a:tblGrid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DUCTO</a:t>
                      </a: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Municipios con Prácticas Saludables para reducir la trasmisión de enfermedades Metaxénicas y Zoonóticas. (43979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mité Multisectorial capacitado para promover Prácticas Saludables. (439790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364000" y="2924280"/>
          <a:ext cx="3319560" cy="1689120"/>
        </p:xfrm>
        <a:graphic>
          <a:graphicData uri="http://schemas.openxmlformats.org/drawingml/2006/table">
            <a:tbl>
              <a:tblPr/>
              <a:tblGrid>
                <a:gridCol w="3319560"/>
              </a:tblGrid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DUCTO</a:t>
                      </a: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oblación informada en prevención y control de enfermedades Metaxénicas y Zoonóticas x medios masivos. (439800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oblación informada sobre prevención y control de las enfermedades Metaxénicas y Zoonóticas  por medios alternativos (4398002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municadores y periodistas informados sobre prevención y control de las enfermedades Metaxénicas y Zoonóticas. (4398003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8 Llamada rectangular"/>
          <p:cNvSpPr/>
          <p:nvPr/>
        </p:nvSpPr>
        <p:spPr>
          <a:xfrm>
            <a:off x="5508720" y="3500280"/>
            <a:ext cx="2232000" cy="720720"/>
          </a:xfrm>
          <a:prstGeom prst="wedgeRectCallout">
            <a:avLst>
              <a:gd name="adj1" fmla="val -74268"/>
              <a:gd name="adj2" fmla="val 2070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15 Sub productos – 6 traz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9 Llamada rectangular"/>
          <p:cNvSpPr/>
          <p:nvPr/>
        </p:nvSpPr>
        <p:spPr>
          <a:xfrm>
            <a:off x="5580000" y="4508640"/>
            <a:ext cx="2160720" cy="720720"/>
          </a:xfrm>
          <a:prstGeom prst="wedgeRectCallout">
            <a:avLst>
              <a:gd name="adj1" fmla="val -77805"/>
              <a:gd name="adj2" fmla="val 4321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20 Sub productos  – 8 traz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0 Llamada rectangular"/>
          <p:cNvSpPr/>
          <p:nvPr/>
        </p:nvSpPr>
        <p:spPr>
          <a:xfrm>
            <a:off x="5651640" y="5516640"/>
            <a:ext cx="2089080" cy="720720"/>
          </a:xfrm>
          <a:prstGeom prst="wedgeRectCallout">
            <a:avLst>
              <a:gd name="adj1" fmla="val -82930"/>
              <a:gd name="adj2" fmla="val -27513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30 Sub productos – 10 Traz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64000" y="5084640"/>
          <a:ext cx="3213360" cy="1195560"/>
        </p:xfrm>
        <a:graphic>
          <a:graphicData uri="http://schemas.openxmlformats.org/drawingml/2006/table">
            <a:tbl>
              <a:tblPr/>
              <a:tblGrid>
                <a:gridCol w="3213360"/>
              </a:tblGrid>
              <a:tr h="22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DUCTO</a:t>
                      </a:r>
                      <a:r>
                        <a:rPr b="0" lang="es-P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Junta vecinal comunal capacitada que promueve acciones de promoción de la salud para la prevención y control de las enfermedades Metaxénicas y Zoono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gentes comunitarios de salud capacitados que promueve acciones de promoción de la salud para la prevención y control de las enfermedades Metaxénicas y Zoono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12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2923-F044-4A80-9FBA-50BFE3A26F7A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rcRect l="4452" t="5846" r="18596" b="8337"/>
          <a:stretch/>
        </p:blipFill>
        <p:spPr>
          <a:xfrm>
            <a:off x="65160" y="44280"/>
            <a:ext cx="9043920" cy="6409080"/>
          </a:xfrm>
          <a:prstGeom prst="rect">
            <a:avLst/>
          </a:prstGeom>
          <a:ln w="0">
            <a:noFill/>
          </a:ln>
        </p:spPr>
      </p:pic>
      <p:sp>
        <p:nvSpPr>
          <p:cNvPr id="173" name="2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7669-C73C-46A5-9C03-616A906AA27E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Marcador de pie de página"/>
          <p:cNvSpPr/>
          <p:nvPr/>
        </p:nvSpPr>
        <p:spPr>
          <a:xfrm>
            <a:off x="3132000" y="6492960"/>
            <a:ext cx="37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"/>
          <p:cNvPicPr/>
          <p:nvPr/>
        </p:nvPicPr>
        <p:blipFill>
          <a:blip r:embed="rId1"/>
          <a:srcRect l="3934" t="4720" r="25717" b="20002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sp>
        <p:nvSpPr>
          <p:cNvPr id="176" name="2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2D4E-4624-45FC-9A50-1ECFEA45A702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Marcador de pie de página"/>
          <p:cNvSpPr/>
          <p:nvPr/>
        </p:nvSpPr>
        <p:spPr>
          <a:xfrm>
            <a:off x="3132000" y="649296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"/>
          <p:cNvPicPr/>
          <p:nvPr/>
        </p:nvPicPr>
        <p:blipFill>
          <a:blip r:embed="rId1"/>
          <a:srcRect l="3934" t="4720" r="25717" b="11280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4333" t="5443" r="18596" b="6250"/>
          <a:stretch/>
        </p:blipFill>
        <p:spPr>
          <a:xfrm>
            <a:off x="108000" y="115920"/>
            <a:ext cx="89708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rcRect l="4098" t="27397" r="18480" b="45212"/>
          <a:stretch/>
        </p:blipFill>
        <p:spPr>
          <a:xfrm>
            <a:off x="179280" y="1125360"/>
            <a:ext cx="8844120" cy="2303640"/>
          </a:xfrm>
          <a:prstGeom prst="rect">
            <a:avLst/>
          </a:prstGeom>
          <a:ln w="0">
            <a:noFill/>
          </a:ln>
        </p:spPr>
      </p:pic>
      <p:sp>
        <p:nvSpPr>
          <p:cNvPr id="181" name="2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C7C0-99A9-408D-ABF6-8E575B37D99F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56D0-9B8E-44B3-975A-6AA10CCBAE27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3 Rectángulo" descr=""/>
          <p:cNvPicPr/>
          <p:nvPr/>
        </p:nvPicPr>
        <p:blipFill>
          <a:blip r:embed="rId1"/>
          <a:stretch/>
        </p:blipFill>
        <p:spPr>
          <a:xfrm>
            <a:off x="1066680" y="2066760"/>
            <a:ext cx="65898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000000"/>
                </a:solidFill>
                <a:latin typeface="Calibri"/>
              </a:rPr>
              <a:t>ESTRATEGIA SANITARIA NACIONAL DE ZOO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898989"/>
                </a:solidFill>
                <a:latin typeface="Calibri"/>
              </a:rPr>
              <a:t>DEFINICIONES OPERACIONALES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898989"/>
                </a:solidFill>
                <a:latin typeface="Calibri"/>
              </a:rPr>
              <a:t>Criterios de programación de Subproductos traza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agen 2" descr="DGSP"/>
          <p:cNvPicPr/>
          <p:nvPr/>
        </p:nvPicPr>
        <p:blipFill>
          <a:blip r:embed="rId1"/>
          <a:stretch/>
        </p:blipFill>
        <p:spPr>
          <a:xfrm>
            <a:off x="0" y="0"/>
            <a:ext cx="43560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Modelo explicativo de las enfermedades Zoonó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3 Imagen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400720"/>
          </a:xfrm>
          <a:prstGeom prst="rect">
            <a:avLst/>
          </a:prstGeom>
          <a:ln w="0">
            <a:noFill/>
          </a:ln>
        </p:spPr>
      </p:pic>
      <p:pic>
        <p:nvPicPr>
          <p:cNvPr id="60" name="4 Imagen" descr=""/>
          <p:cNvPicPr/>
          <p:nvPr/>
        </p:nvPicPr>
        <p:blipFill>
          <a:blip r:embed="rId2"/>
          <a:stretch/>
        </p:blipFill>
        <p:spPr>
          <a:xfrm>
            <a:off x="195120" y="549360"/>
            <a:ext cx="8624880" cy="5753160"/>
          </a:xfrm>
          <a:prstGeom prst="rect">
            <a:avLst/>
          </a:prstGeom>
          <a:ln w="0">
            <a:noFill/>
          </a:ln>
        </p:spPr>
      </p:pic>
      <p:sp>
        <p:nvSpPr>
          <p:cNvPr id="61" name="5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3577-CDC2-4A3C-A368-EFD2BC2D079A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Calibri"/>
              </a:rPr>
              <a:t>Enfermedades Zoonóticas de importancia en Salud Pública en el Per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353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Rab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Urba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Silves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Exposici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Accidentes por animales ponzoño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Arácnid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Ofíd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Calibri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Brucel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Carbun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Pe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Leptospir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Fasciolosis hep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Teniasis-Cisticerc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Equinococosis quís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708360" y="981000"/>
          <a:ext cx="5184720" cy="1606680"/>
        </p:xfrm>
        <a:graphic>
          <a:graphicData uri="http://schemas.openxmlformats.org/drawingml/2006/table">
            <a:tbl>
              <a:tblPr/>
              <a:tblGrid>
                <a:gridCol w="750960"/>
                <a:gridCol w="2476440"/>
                <a:gridCol w="1957320"/>
              </a:tblGrid>
              <a:tr h="14760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PRODUCT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 rowSpan="4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VIVIENDAS PROTEGIDAS DE LOS PRINCIPALES CONDICIONANTES DEL RIESGO EN LAS AREAS DE ALTO Y MUY ALTO RIESGO DE ENFERMEDADES METAXENICAS Y ZOONOSIS (30439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Viviendas protegidas de los principales condicionantes en las áreas de riesgo de trasmisión de Rabia Silvestre (4398112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VACUNACION ANIMALES DOMESTICOS (30439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anes vacunados contra la Rabia (4398201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CASOS DE ENFERMEDADES ZOONÓTICAS (30439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sona expuesta a Rabia recibe atención Integral  (439840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sona expuesta a rabia con diagnostico confirmatorio (439840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708360" y="3376440"/>
          <a:ext cx="5184720" cy="987480"/>
        </p:xfrm>
        <a:graphic>
          <a:graphicData uri="http://schemas.openxmlformats.org/drawingml/2006/table">
            <a:tbl>
              <a:tblPr/>
              <a:tblGrid>
                <a:gridCol w="743040"/>
                <a:gridCol w="2496960"/>
                <a:gridCol w="1944720"/>
              </a:tblGrid>
              <a:tr h="144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PRODUCT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UCELO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CASOS DE ENFERMEDADES ZOONÓTICAS (30439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de personas con sospecha de Brucelosis (43984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especializado de Brucelosis (43984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sonas tratadas con diagnóstico de Brucelosis (439841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708360" y="3429000"/>
          <a:ext cx="5184720" cy="1268280"/>
        </p:xfrm>
        <a:graphic>
          <a:graphicData uri="http://schemas.openxmlformats.org/drawingml/2006/table">
            <a:tbl>
              <a:tblPr/>
              <a:tblGrid>
                <a:gridCol w="731880"/>
                <a:gridCol w="2508120"/>
                <a:gridCol w="1944720"/>
              </a:tblGrid>
              <a:tr h="144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PRODUCT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 rowSpan="4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UN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CASOS DE ENFERMEDADES ZOONÓTICAS (30439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ostico de personas con sospecha de Carbunco (43984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ostico confirmatorio de Carbunco (439841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sonas tratadas con diagnóstico de Carbunco (43984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sona tratada con diagnóstico de Carbunco complicado (43984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708360" y="4111560"/>
          <a:ext cx="5184720" cy="1262160"/>
        </p:xfrm>
        <a:graphic>
          <a:graphicData uri="http://schemas.openxmlformats.org/drawingml/2006/table">
            <a:tbl>
              <a:tblPr/>
              <a:tblGrid>
                <a:gridCol w="720720"/>
                <a:gridCol w="2519280"/>
                <a:gridCol w="1944720"/>
              </a:tblGrid>
              <a:tr h="144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PRODUCT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VIVIENDAS PROTEGIDAS DE LOS PRINCIPALES CONDICIONANTES DEL RIESGO EN LAS AREAS DE ALTO Y MUY ALTO RIESGO DE ENFERMEDADES METAXENICAS Y ZOONOSIS (30439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Viviendas protegidas de los principales condicionantes en las aéreas de riesgo de trasmisión de peste (4398113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CASOS DE ENFERMEDADES ZOONÓTICAS (30439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personas con sospecha de peste (43984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ostico confirmatorio de peste (439841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564000" y="4581360"/>
          <a:ext cx="5329080" cy="981360"/>
        </p:xfrm>
        <a:graphic>
          <a:graphicData uri="http://schemas.openxmlformats.org/drawingml/2006/table">
            <a:tbl>
              <a:tblPr/>
              <a:tblGrid>
                <a:gridCol w="855720"/>
                <a:gridCol w="2528640"/>
                <a:gridCol w="1944720"/>
              </a:tblGrid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PRODU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PTOSPIRO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CASOS DE ENFERMEDADES ZOONÓTICAS (30439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personas con sospecha de Leptospirosis (439841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confirmatorio de Leptospirosis. (439841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sona tratada con diagnóstico de Leptospirosis complicada (439842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564000" y="4896000"/>
          <a:ext cx="5303880" cy="981000"/>
        </p:xfrm>
        <a:graphic>
          <a:graphicData uri="http://schemas.openxmlformats.org/drawingml/2006/table">
            <a:tbl>
              <a:tblPr/>
              <a:tblGrid>
                <a:gridCol w="855720"/>
                <a:gridCol w="2503440"/>
                <a:gridCol w="1944720"/>
              </a:tblGrid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PRODU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CIOLO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CASOS DE ENFERMEDADES ZOONÓTICAS (30439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amizaje en áreas de riesgo de Fasciolosis (439842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especializado de Fasciolosis en laboratorios de referencia (439842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sona tratada con diagnóstico de  Fasciolosis (43984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564000" y="4869000"/>
          <a:ext cx="5329080" cy="1400040"/>
        </p:xfrm>
        <a:graphic>
          <a:graphicData uri="http://schemas.openxmlformats.org/drawingml/2006/table">
            <a:tbl>
              <a:tblPr/>
              <a:tblGrid>
                <a:gridCol w="855720"/>
                <a:gridCol w="2528640"/>
                <a:gridCol w="1944720"/>
              </a:tblGrid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PRODU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 row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IASIS-CISTICERCO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CASOS DE ENFERMEDADES ZOONÓTICAS (30439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amizaje de personas con sospecha de Teniasis en zonas de riesgo de Teniasis Cisticercosis (439842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tamiento de personas con Teniasis (43984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Cisticercosis (439842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confirmatorio de Cisticercosis (439842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516480" y="5157720"/>
          <a:ext cx="5375160" cy="1106640"/>
        </p:xfrm>
        <a:graphic>
          <a:graphicData uri="http://schemas.openxmlformats.org/drawingml/2006/table">
            <a:tbl>
              <a:tblPr/>
              <a:tblGrid>
                <a:gridCol w="914400"/>
                <a:gridCol w="2517480"/>
                <a:gridCol w="1943280"/>
              </a:tblGrid>
              <a:tr h="128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PRODU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rowSpan="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NOCOCOS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CASOS DE ENFERMEDADES ZOONÓTICAS (30439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amizaje de población en áreas de riesgo de Equinococosis (43984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confirmatorio de Equinococosis en laboratorio referencial (439842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sona tratada con diagnóstico de Equinococosis (439843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276720" y="1574640"/>
          <a:ext cx="5664240" cy="2359080"/>
        </p:xfrm>
        <a:graphic>
          <a:graphicData uri="http://schemas.openxmlformats.org/drawingml/2006/table">
            <a:tbl>
              <a:tblPr/>
              <a:tblGrid>
                <a:gridCol w="1152360"/>
                <a:gridCol w="2567160"/>
                <a:gridCol w="1944720"/>
              </a:tblGrid>
              <a:tr h="128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PRODU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rowSpan="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. POR ANIM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NZOÑO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AGNÓSTICO Y TRATAMIENTO DE CASOS DE ENFERMEDADES ZOONÓTICAS (30439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Manejo primario de accidentes por todo tipo de animales ponzoñosos (439840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tamiento de personas con diagnóstico de accidente por arácnidos (439840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tamiento de las complicaciones por accidente de arácnidos (439840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tamiento de personas con diagnostico de accidente por ofidismo  (43984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tamiento de las complicaciones por accidentes de ofídicos (43984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tamiento de personas con diagnóstico de accidente por otras especies de animales  ponzoñosas (439840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1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FE16-D62F-4899-AEFB-6E3EEFB92BF6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Viviendas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protegida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 los principales condicionantes en las áreas de riesgo de trasmisión de Rabia Silvestre (4398112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268280"/>
            <a:ext cx="826596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5 Diagrama" descr=""/>
          <p:cNvPicPr/>
          <p:nvPr/>
        </p:nvPicPr>
        <p:blipFill>
          <a:blip r:embed="rId2"/>
          <a:stretch/>
        </p:blipFill>
        <p:spPr>
          <a:xfrm>
            <a:off x="3706920" y="2852640"/>
            <a:ext cx="2590560" cy="3243240"/>
          </a:xfrm>
          <a:prstGeom prst="rect">
            <a:avLst/>
          </a:prstGeom>
          <a:ln w="0">
            <a:noFill/>
          </a:ln>
        </p:spPr>
      </p:pic>
      <p:pic>
        <p:nvPicPr>
          <p:cNvPr id="79" name="6 Diagrama" descr=""/>
          <p:cNvPicPr/>
          <p:nvPr/>
        </p:nvPicPr>
        <p:blipFill>
          <a:blip r:embed="rId3"/>
          <a:stretch/>
        </p:blipFill>
        <p:spPr>
          <a:xfrm>
            <a:off x="469800" y="3060720"/>
            <a:ext cx="3456000" cy="318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6372360" y="3078000"/>
            <a:ext cx="2419200" cy="3337200"/>
          </a:xfrm>
          <a:prstGeom prst="rect">
            <a:avLst/>
          </a:prstGeom>
          <a:ln w="0">
            <a:noFill/>
          </a:ln>
        </p:spPr>
      </p:pic>
      <p:sp>
        <p:nvSpPr>
          <p:cNvPr id="8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E927-615E-4697-856F-9B3281B9610B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VIVIENDAS PROTEGIDAS DE LOS PRINCIPALES CONDICIONANTES EN LAS ÁREAS DE RIESGO DE TRANSMISION DE PES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268280"/>
            <a:ext cx="826596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5 Diagrama" descr=""/>
          <p:cNvPicPr/>
          <p:nvPr/>
        </p:nvPicPr>
        <p:blipFill>
          <a:blip r:embed="rId2"/>
          <a:stretch/>
        </p:blipFill>
        <p:spPr>
          <a:xfrm>
            <a:off x="3852720" y="2852640"/>
            <a:ext cx="2590920" cy="324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6372360" y="2852640"/>
            <a:ext cx="2217600" cy="3059280"/>
          </a:xfrm>
          <a:prstGeom prst="rect">
            <a:avLst/>
          </a:prstGeom>
          <a:ln w="0">
            <a:noFill/>
          </a:ln>
        </p:spPr>
      </p:pic>
      <p:pic>
        <p:nvPicPr>
          <p:cNvPr id="87" name="6 Diagrama" descr=""/>
          <p:cNvPicPr/>
          <p:nvPr/>
        </p:nvPicPr>
        <p:blipFill>
          <a:blip r:embed="rId4"/>
          <a:stretch/>
        </p:blipFill>
        <p:spPr>
          <a:xfrm>
            <a:off x="311040" y="2706840"/>
            <a:ext cx="3627720" cy="3528720"/>
          </a:xfrm>
          <a:prstGeom prst="rect">
            <a:avLst/>
          </a:prstGeom>
          <a:ln w="0">
            <a:noFill/>
          </a:ln>
        </p:spPr>
      </p:pic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939F-2ACF-463F-9778-94E00B042A56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7 Gráfico"/>
          <p:cNvGraphicFramePr/>
          <p:nvPr/>
        </p:nvGraphicFramePr>
        <p:xfrm>
          <a:off x="3635280" y="2924280"/>
          <a:ext cx="3816360" cy="30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7 Gráfic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924280"/>
                    <a:ext cx="38163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alibri"/>
              </a:rPr>
              <a:t>CANES VACUNADOS CONTRA LA RAB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3 Marcador de contenido" descr=""/>
          <p:cNvPicPr/>
          <p:nvPr/>
        </p:nvPicPr>
        <p:blipFill>
          <a:blip r:embed="rId3"/>
          <a:stretch/>
        </p:blipFill>
        <p:spPr>
          <a:xfrm>
            <a:off x="433440" y="1268280"/>
            <a:ext cx="8277120" cy="1511280"/>
          </a:xfrm>
          <a:prstGeom prst="rect">
            <a:avLst/>
          </a:prstGeom>
          <a:ln w="0">
            <a:noFill/>
          </a:ln>
        </p:spPr>
      </p:pic>
      <p:pic>
        <p:nvPicPr>
          <p:cNvPr id="94" name="5 Diagrama" descr=""/>
          <p:cNvPicPr/>
          <p:nvPr/>
        </p:nvPicPr>
        <p:blipFill>
          <a:blip r:embed="rId4"/>
          <a:stretch/>
        </p:blipFill>
        <p:spPr>
          <a:xfrm>
            <a:off x="6662880" y="2779560"/>
            <a:ext cx="2371680" cy="2163960"/>
          </a:xfrm>
          <a:prstGeom prst="rect">
            <a:avLst/>
          </a:prstGeom>
          <a:ln w="0">
            <a:noFill/>
          </a:ln>
        </p:spPr>
      </p:pic>
      <p:pic>
        <p:nvPicPr>
          <p:cNvPr id="95" name="6 Diagrama" descr=""/>
          <p:cNvPicPr/>
          <p:nvPr/>
        </p:nvPicPr>
        <p:blipFill>
          <a:blip r:embed="rId5"/>
          <a:stretch/>
        </p:blipFill>
        <p:spPr>
          <a:xfrm>
            <a:off x="55440" y="2779560"/>
            <a:ext cx="3705480" cy="3602160"/>
          </a:xfrm>
          <a:prstGeom prst="rect">
            <a:avLst/>
          </a:prstGeom>
          <a:ln w="0">
            <a:noFill/>
          </a:ln>
        </p:spPr>
      </p:pic>
      <p:sp>
        <p:nvSpPr>
          <p:cNvPr id="96" name="8 CuadroTexto"/>
          <p:cNvSpPr/>
          <p:nvPr/>
        </p:nvSpPr>
        <p:spPr>
          <a:xfrm>
            <a:off x="4643280" y="38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9 CuadroTexto"/>
          <p:cNvSpPr/>
          <p:nvPr/>
        </p:nvSpPr>
        <p:spPr>
          <a:xfrm>
            <a:off x="5370480" y="44276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1 Flecha circular"/>
          <p:cNvSpPr/>
          <p:nvPr/>
        </p:nvSpPr>
        <p:spPr>
          <a:xfrm rot="20617800">
            <a:off x="5508360" y="3284280"/>
            <a:ext cx="1079280" cy="865080"/>
          </a:xfrm>
          <a:custGeom>
            <a:avLst/>
            <a:gdLst/>
            <a:ahLst/>
            <a:rect l="l" t="t" r="r" b="b"/>
            <a:pathLst>
              <a:path w="1079500" h="865187">
                <a:moveTo>
                  <a:pt x="54074" y="432594"/>
                </a:moveTo>
                <a:cubicBezTo>
                  <a:pt x="54074" y="240106"/>
                  <a:pt x="239431" y="78270"/>
                  <a:pt x="484828" y="56503"/>
                </a:cubicBezTo>
                <a:cubicBezTo>
                  <a:pt x="704931" y="36979"/>
                  <a:pt x="914095" y="136005"/>
                  <a:pt x="993311" y="297237"/>
                </a:cubicBezTo>
                <a:lnTo>
                  <a:pt x="1040145" y="297236"/>
                </a:lnTo>
                <a:lnTo>
                  <a:pt x="971352" y="432593"/>
                </a:lnTo>
                <a:lnTo>
                  <a:pt x="823848" y="297236"/>
                </a:lnTo>
                <a:lnTo>
                  <a:pt x="866560" y="297236"/>
                </a:lnTo>
                <a:cubicBezTo>
                  <a:pt x="789437" y="201732"/>
                  <a:pt x="639024" y="149366"/>
                  <a:pt x="486512" y="164924"/>
                </a:cubicBezTo>
                <a:cubicBezTo>
                  <a:pt x="300455" y="183904"/>
                  <a:pt x="162223" y="298001"/>
                  <a:pt x="162223" y="432593"/>
                </a:cubicBezTo>
                <a:lnTo>
                  <a:pt x="54074" y="43259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9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86CB-1A6B-4A11-8874-18D9AD1352F4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0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alibri"/>
              </a:rPr>
              <a:t>PERSONA EXPUESTA A RABIA RECIBE ATENCIÓN INTEGRAL – POS EXPOSI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401840"/>
            <a:ext cx="8265960" cy="1244520"/>
          </a:xfrm>
          <a:prstGeom prst="rect">
            <a:avLst/>
          </a:prstGeom>
          <a:ln w="0">
            <a:noFill/>
          </a:ln>
        </p:spPr>
      </p:pic>
      <p:pic>
        <p:nvPicPr>
          <p:cNvPr id="103" name="4 Diagrama" descr=""/>
          <p:cNvPicPr/>
          <p:nvPr/>
        </p:nvPicPr>
        <p:blipFill>
          <a:blip r:embed="rId2"/>
          <a:stretch/>
        </p:blipFill>
        <p:spPr>
          <a:xfrm>
            <a:off x="5724360" y="2925720"/>
            <a:ext cx="3071880" cy="2548080"/>
          </a:xfrm>
          <a:prstGeom prst="rect">
            <a:avLst/>
          </a:prstGeom>
          <a:ln w="0">
            <a:noFill/>
          </a:ln>
        </p:spPr>
      </p:pic>
      <p:pic>
        <p:nvPicPr>
          <p:cNvPr id="104" name="5 Diagrama" descr=""/>
          <p:cNvPicPr/>
          <p:nvPr/>
        </p:nvPicPr>
        <p:blipFill>
          <a:blip r:embed="rId3"/>
          <a:stretch/>
        </p:blipFill>
        <p:spPr>
          <a:xfrm>
            <a:off x="384120" y="2736720"/>
            <a:ext cx="4700520" cy="3859200"/>
          </a:xfrm>
          <a:prstGeom prst="rect">
            <a:avLst/>
          </a:prstGeom>
          <a:ln w="0">
            <a:noFill/>
          </a:ln>
        </p:spPr>
      </p:pic>
      <p:sp>
        <p:nvSpPr>
          <p:cNvPr id="105" name="6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3A39-DD8D-42D7-8A71-7978FD8DAA9C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7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ESTRATEGIA SANITARIA NACIONAL DE ZOO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12:24:42Z</dcterms:created>
  <dc:creator>ivargas</dc:creator>
  <dc:description/>
  <dc:language>en-US</dc:language>
  <cp:lastModifiedBy>GUIMO</cp:lastModifiedBy>
  <dcterms:modified xsi:type="dcterms:W3CDTF">2014-06-24T03:33:36Z</dcterms:modified>
  <cp:revision>119</cp:revision>
  <dc:subject/>
  <dc:title>ESTRATEGIA SANITARIA NACIONAL DE ZOONOSIS</dc:title>
</cp:coreProperties>
</file>