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6.png" ContentType="image/png"/>
  <Override PartName="/ppt/media/image3.png" ContentType="image/png"/>
  <Override PartName="/ppt/media/image33.png" ContentType="image/png"/>
  <Override PartName="/ppt/media/image8.png" ContentType="image/png"/>
  <Override PartName="/ppt/media/image6.jpeg" ContentType="image/jpeg"/>
  <Override PartName="/ppt/media/image10.png" ContentType="image/png"/>
  <Override PartName="/ppt/media/image15.wmf" ContentType="image/x-wmf"/>
  <Override PartName="/ppt/media/image7.png" ContentType="image/png"/>
  <Override PartName="/ppt/media/image28.png" ContentType="image/png"/>
  <Override PartName="/ppt/media/image13.wmf" ContentType="image/x-wmf"/>
  <Override PartName="/ppt/media/image30.png" ContentType="image/png"/>
  <Override PartName="/ppt/media/image35.png" ContentType="image/png"/>
  <Override PartName="/ppt/media/image11.wmf" ContentType="image/x-wmf"/>
  <Override PartName="/ppt/media/image5.jpeg" ContentType="image/jpeg"/>
  <Override PartName="/ppt/media/image12.png" ContentType="image/png"/>
  <Override PartName="/ppt/media/image36.png" ContentType="image/png"/>
  <Override PartName="/ppt/media/image9.wmf" ContentType="image/x-wmf"/>
  <Override PartName="/ppt/media/image14.png" ContentType="image/png"/>
  <Override PartName="/ppt/media/image17.wmf" ContentType="image/x-wmf"/>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31.png" ContentType="image/png"/>
  <Override PartName="/ppt/media/image1.png" ContentType="image/png"/>
  <Override PartName="/ppt/media/image16.png" ContentType="image/png"/>
  <Override PartName="/ppt/media/image18.wmf" ContentType="image/x-wmf"/>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2C63B-522D-4878-816F-700BA7A98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BB3F-3A27-4FA1-A155-438C9DBB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7FE36-BDC0-4F11-95C6-C8D8E989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B6EF5-802B-4468-B9FD-07148CFC3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233D6-0A42-4E34-86E6-D04553A97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D4EAF-73DF-4999-9D7D-D86BB8984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A7316-A4AC-4299-9A22-758AE1404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F34EA-F6C4-41E8-8365-168F74C1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E7DF8-E395-408B-96BE-762F36D46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9FC18-0ABE-4A35-9AA0-40007789C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862D3-3E5C-4A80-B3EB-1B21F022A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41FA-3DD2-4E16-ADD3-58BA5718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0FFDC-F545-45F3-90EE-4DEF765A2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6B29F-EB54-472B-AC6B-9462902A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CBA0-B3FB-4803-B983-CD5A19058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5B0DA-865B-40E8-8D83-71C0A71FB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352A2-467A-4EA8-BD68-39D795AE1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34283-AEA3-400F-B0FB-689EA12385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A066C-F468-4F7E-B642-8E378AAF2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B5603-381C-419B-AFE0-E2170A4E2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B86D2-C82E-4776-9ED1-BE7632FE8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74D48-18AB-4AA8-8936-CF007E69F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172EB-C01A-45CC-9340-20EAAD106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8917B-BC68-4ED2-BA14-E32F5F508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F63E5-5AE4-4588-8756-86BC5C6C2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6D27D-2AFF-447A-A03D-6F550DC5C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7477B-C8FD-4569-9198-977976146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EB53A-88CC-41E2-9831-420A163B3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4F2608-C4EC-4A7F-8AD0-165077C52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DC641-8FF0-4CB4-9A5B-D3EC7A58EC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6A58E4-9E56-464F-899B-9B4F947FE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E2B70-3FDA-4B38-8096-CCCD7A022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AC4F2-8DF9-4EAE-91A1-E62A4717D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04C7-EEE8-404A-A8AA-C6ACEF88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8509A-2730-499D-BBF7-6CFA37AA1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6A78F-BDB8-4DD3-BAF9-24A5F5BC2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26F7A-2ECA-462C-9F5A-C11ABE570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FF700-8B96-4445-A377-C2A84DC1F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09731-20DC-4ACD-8169-5307AB6D9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B5002-6BBC-493E-B585-BDAF3CF6D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EBC6F-9CE8-47F1-B324-8497B2E18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E3CB5E-3D5C-4DFD-AD9A-D9C057F612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9369C-1C4D-4457-B81D-21045809F9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354B7B-8B98-4C88-AE99-1BDC1294EC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FB3BF-45F7-4573-B85D-EE3B0660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DADC9-DAE7-494D-8831-1A429C32C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2219F-4B43-4492-AF7B-80B2AEBD2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E8371-776D-4DA5-A3C8-3878207A0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82822-DFE9-417D-9DAA-229699813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7ACB6-41F3-4B97-B20B-87CC5580D4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0951A-8915-49E5-BFE9-F532D5CC6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3798A-106D-4023-B511-E3968A775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95189-CB79-42D0-B7EE-707F4879F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3F1B8-C9D7-445B-8ED8-0A69F9CF6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69502-016B-4E8C-ADAC-134B19D48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92A5-ED07-4783-A7B1-B20C78D3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536D5-741A-4055-8DD9-16E924352C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5D2DE-5C55-48BF-AF87-DF266CB3C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74C002-C652-4A9C-8236-8B991FA90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DCD67-D443-4790-9808-F4BA095EA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BB150-3939-4DF2-879A-19BD761BAE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C2794-CD68-477A-9160-FDDC60934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0D375-BDE5-4CB6-8DBA-43696484C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2CA46-0F3A-491A-9E5F-9323E55B2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DFAE9-C9B6-4CDD-A220-6EB1878E4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1C6EE-8003-454B-A0EB-BCCA4198E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33AA-F8CC-43BB-9FFE-A36DC159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00257-593D-4161-86DA-1C5DE2E0A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CFC9A7-F56A-45CE-AE4B-F6B23B4E81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D9D4BE-52D3-4583-ACA9-B7C1DF822C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D9C6AC-B18A-4C73-AEF7-1EF98D7A3D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BE843-616F-48FC-A87C-36C954A40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8543C-7A0E-4977-80F2-D30D91CB0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86778-AD8B-484E-8EE4-A0DB01D73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FB737-3AC0-426F-A133-97B91978B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A7A52-E337-49AD-A446-72739D5B4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01F72-1E98-4BAF-905F-90B231F97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24E4B-A2EF-45D8-A175-A63AF161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25892-19A9-474B-A5DF-EA366A3C0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6FC90-92B3-438B-9DED-337853AE5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70522-BB3D-49E0-9B96-AD0BF6ED2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4253DA-082F-4284-BCEF-2450E30BD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91EC52-D8F8-4C58-A97F-65ADAA05EE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C672CA-9E00-48F2-926C-DD93D782D9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32797-0BCC-4A72-B0F0-608A25A2B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9E601F-FA97-4A70-A085-D613D40A59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E640E-5A3D-4462-8C95-BEE322D9E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EC883-914A-4A87-9D42-9A150A802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40B9-56CD-4A9C-8459-2B577AC34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A6DBF4-770E-4CDF-9612-FFB8C13EA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DE44B-E28F-4264-98B1-0A6EE4CE7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C56FA-6E92-4A87-BC55-EBB754DF8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26135-63CC-4775-936E-629D9DBD21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7CFCA4-885B-40D2-9E2D-D06B83446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5A889F-79EB-447D-8F54-DC162A975E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A297D7-5788-4B89-BB9C-FB8E257A54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82DB-C57C-41B9-A727-D878E0A2AD29}"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15 Grupo"/>
          <p:cNvGrpSpPr/>
          <p:nvPr/>
        </p:nvGrpSpPr>
        <p:grpSpPr>
          <a:xfrm>
            <a:off x="-3240" y="4952880"/>
            <a:ext cx="9147240" cy="1911600"/>
            <a:chOff x="-3240" y="4952880"/>
            <a:chExt cx="9147240" cy="1911600"/>
          </a:xfrm>
        </p:grpSpPr>
        <p:sp>
          <p:nvSpPr>
            <p:cNvPr id="49" name="15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18 Forma libre"/>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1" name="18 Forma libre"/>
            <p:cNvGrpSpPr/>
            <p:nvPr/>
          </p:nvGrpSpPr>
          <p:grpSpPr>
            <a:xfrm>
              <a:off x="8640" y="4998600"/>
              <a:ext cx="9135360" cy="1865880"/>
              <a:chOff x="8640" y="4998600"/>
              <a:chExt cx="9135360" cy="1865880"/>
            </a:xfrm>
          </p:grpSpPr>
          <p:pic>
            <p:nvPicPr>
              <p:cNvPr id="52" name="18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19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9B95-78F9-4ACB-89C0-7EE5BB31D603}"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11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FFA6-46D6-46AC-BF3E-A613DF0DEC6F}"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14CB-508A-4732-A33B-C4E258A570FF}"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7E17-DBC4-4C3D-AF09-859989E41DC0}"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6E17-DBCD-4769-9796-F1B592CF856D}"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E9C8-909A-42B2-BCC3-B1F61456BC4D}"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3" name="15 Triángulo rectángulo"/>
          <p:cNvGrpSpPr/>
          <p:nvPr/>
        </p:nvGrpSpPr>
        <p:grpSpPr>
          <a:xfrm>
            <a:off x="-6480" y="5791320"/>
            <a:ext cx="3402000" cy="1079280"/>
            <a:chOff x="-6480" y="5791320"/>
            <a:chExt cx="3402000" cy="1079280"/>
          </a:xfrm>
        </p:grpSpPr>
        <p:pic>
          <p:nvPicPr>
            <p:cNvPr id="324" name="15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16 Conector recto" descr=""/>
          <p:cNvPicPr/>
          <p:nvPr/>
        </p:nvPicPr>
        <p:blipFill>
          <a:blip r:embed="rId4"/>
          <a:stretch/>
        </p:blipFill>
        <p:spPr>
          <a:xfrm>
            <a:off x="-19080" y="5778360"/>
            <a:ext cx="3414600" cy="1098720"/>
          </a:xfrm>
          <a:prstGeom prst="rect">
            <a:avLst/>
          </a:prstGeom>
          <a:ln w="0">
            <a:noFill/>
          </a:ln>
        </p:spPr>
      </p:pic>
      <p:sp>
        <p:nvSpPr>
          <p:cNvPr id="327" name="18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19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9FC6-99B6-4299-8ED5-F375C1E91490}"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324000" y="652320"/>
            <a:ext cx="8496000" cy="3426120"/>
          </a:xfrm>
          <a:prstGeom prst="rect">
            <a:avLst/>
          </a:prstGeom>
          <a:ln w="0">
            <a:noFill/>
          </a:ln>
        </p:spPr>
      </p:pic>
      <p:sp>
        <p:nvSpPr>
          <p:cNvPr id="371" name="PlaceHolder 1"/>
          <p:cNvSpPr>
            <a:spLocks noGrp="1"/>
          </p:cNvSpPr>
          <p:nvPr>
            <p:ph type="subTitle"/>
          </p:nvPr>
        </p:nvSpPr>
        <p:spPr>
          <a:xfrm>
            <a:off x="2879280" y="4941360"/>
            <a:ext cx="6264360" cy="107964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ff"/>
                </a:solidFill>
                <a:latin typeface="Arial"/>
                <a:ea typeface="Arial"/>
              </a:rPr>
              <a:t>ESN PyC ENFERMEDADES METAXENICA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457200" y="692280"/>
            <a:ext cx="843588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2 Título" descr=""/>
          <p:cNvPicPr/>
          <p:nvPr/>
        </p:nvPicPr>
        <p:blipFill>
          <a:blip r:embed="rId1"/>
          <a:stretch/>
        </p:blipFill>
        <p:spPr>
          <a:xfrm>
            <a:off x="384120" y="762120"/>
            <a:ext cx="868680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1 Marcador de contenido" descr=""/>
          <p:cNvPicPr/>
          <p:nvPr/>
        </p:nvPicPr>
        <p:blipFill>
          <a:blip r:embed="rId1"/>
          <a:stretch/>
        </p:blipFill>
        <p:spPr>
          <a:xfrm>
            <a:off x="324000" y="615960"/>
            <a:ext cx="8326440" cy="5479920"/>
          </a:xfrm>
          <a:prstGeom prst="rect">
            <a:avLst/>
          </a:prstGeom>
          <a:ln w="0">
            <a:noFill/>
          </a:ln>
        </p:spPr>
      </p:pic>
      <p:pic>
        <p:nvPicPr>
          <p:cNvPr id="388" name="2 Título" descr=""/>
          <p:cNvPicPr/>
          <p:nvPr/>
        </p:nvPicPr>
        <p:blipFill>
          <a:blip r:embed="rId2"/>
          <a:stretch/>
        </p:blipFill>
        <p:spPr>
          <a:xfrm>
            <a:off x="457200" y="115920"/>
            <a:ext cx="8229600" cy="506520"/>
          </a:xfrm>
          <a:prstGeom prst="rect">
            <a:avLst/>
          </a:prstGeom>
          <a:ln w="0">
            <a:noFill/>
          </a:ln>
        </p:spPr>
      </p:pic>
      <p:pic>
        <p:nvPicPr>
          <p:cNvPr id="389" name="3 Imagen" descr=""/>
          <p:cNvPicPr/>
          <p:nvPr/>
        </p:nvPicPr>
        <p:blipFill>
          <a:blip r:embed="rId3"/>
          <a:srcRect l="3176" t="0" r="4002" b="12091"/>
          <a:stretch/>
        </p:blipFill>
        <p:spPr>
          <a:xfrm>
            <a:off x="2268360" y="4149720"/>
            <a:ext cx="612000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404640"/>
            <a:ext cx="8229600" cy="56023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da1f28"/>
                </a:solidFill>
                <a:latin typeface="Lucida Sans Unicode"/>
              </a:rPr>
              <a:t>Evaluación Programa de Metaxénicas y Zoonosis (4397503</a:t>
            </a:r>
            <a:r>
              <a:rPr b="1" lang="es-PE" sz="2700" spc="-1" strike="noStrike">
                <a:solidFill>
                  <a:srgbClr val="da1f28"/>
                </a:solidFill>
                <a:latin typeface="Lucida Sans Unicode"/>
              </a:rPr>
              <a:t>) </a:t>
            </a:r>
            <a:endParaRPr b="0" lang="en-US" sz="27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alibri"/>
              </a:rPr>
              <a:t>Proceso que tiene como finalidad determinar el grado de eficacia, efectividad y eficiencia, del programa presupuestal Metaxénicas y Zoonosis en relación con sus objetivos y los recursos destinados para alcanzarlos; mediante el análisis de su ejecución, resultados e impacto con metodologías rigurosas, que permitan determinar las desviaciones y la adopción de medidas correctivas que garanticen el cumplimiento de las metas programadas y alcanzar los cambios en la población objetivo</a:t>
            </a:r>
            <a:r>
              <a:rPr b="0" lang="es-PE" sz="2700" spc="-1" strike="noStrike">
                <a:solidFill>
                  <a:srgbClr val="000000"/>
                </a:solidFill>
                <a:latin typeface="Lucida Sans Unicode"/>
              </a:rPr>
              <a:t>.</a:t>
            </a:r>
            <a:endParaRPr b="0" lang="en-US" sz="2700" spc="-1" strike="noStrike">
              <a:solidFill>
                <a:srgbClr val="000000"/>
              </a:solidFill>
              <a:latin typeface="Lucida Sans Unicode"/>
            </a:endParaRPr>
          </a:p>
          <a:p>
            <a:pPr marL="1080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3 Imagen" descr=""/>
          <p:cNvPicPr/>
          <p:nvPr/>
        </p:nvPicPr>
        <p:blipFill>
          <a:blip r:embed="rId1"/>
          <a:srcRect l="3200" t="0" r="2815" b="3590"/>
          <a:stretch/>
        </p:blipFill>
        <p:spPr>
          <a:xfrm>
            <a:off x="1835280" y="3716280"/>
            <a:ext cx="6565680" cy="244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88640"/>
            <a:ext cx="8229600" cy="5817960"/>
          </a:xfrm>
          <a:prstGeom prst="rect">
            <a:avLst/>
          </a:prstGeom>
          <a:noFill/>
          <a:ln w="0">
            <a:noFill/>
          </a:ln>
        </p:spPr>
        <p:txBody>
          <a:bodyPr anchor="t">
            <a:normAutofit/>
          </a:bodyPr>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da1f28"/>
                </a:solidFill>
                <a:latin typeface="Calibri"/>
              </a:rPr>
              <a:t>Supervisión Programa de Metaxénicas y Zoonosis (4397504)</a:t>
            </a:r>
            <a:endParaRPr b="0" lang="en-US" sz="24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Calibri"/>
              </a:rPr>
              <a:t>Definición operacional</a:t>
            </a:r>
            <a:r>
              <a:rPr b="0" lang="es-MX" sz="2400" spc="-1" strike="noStrike">
                <a:solidFill>
                  <a:srgbClr val="000000"/>
                </a:solidFill>
                <a:latin typeface="Calibri"/>
              </a:rPr>
              <a:t>.-</a:t>
            </a:r>
            <a:endParaRPr b="0" lang="en-US" sz="24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s un proceso de interacción personal individual o grupal, basado en la enseñanza y aprendizaje entre supervisor(es) y supervisado(s) con el propósito de generar, transferir o fortalecer capacidades mutuas, orientadas a mejorar el desempeño del personal, verificar la calidad de los procesos de gestión, organización y prestación a nivel regional y local; articulando los componentes de la gestión.</a:t>
            </a:r>
            <a:endParaRPr b="0" lang="en-US" sz="24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3" name="Picture 4" descr=""/>
          <p:cNvPicPr/>
          <p:nvPr/>
        </p:nvPicPr>
        <p:blipFill>
          <a:blip r:embed="rId1"/>
          <a:srcRect l="1654" t="0" r="8166" b="30648"/>
          <a:stretch/>
        </p:blipFill>
        <p:spPr>
          <a:xfrm>
            <a:off x="971640" y="3573360"/>
            <a:ext cx="762480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404640"/>
            <a:ext cx="8229600" cy="5602320"/>
          </a:xfrm>
          <a:prstGeom prst="rect">
            <a:avLst/>
          </a:prstGeom>
          <a:noFill/>
          <a:ln w="0">
            <a:noFill/>
          </a:ln>
        </p:spPr>
        <p:txBody>
          <a:bodyPr anchor="t">
            <a:normAutofit fontScale="97000"/>
          </a:bodyPr>
          <a:p>
            <a:pPr marL="104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da1f28"/>
                </a:solidFill>
                <a:latin typeface="Calibri"/>
              </a:rPr>
              <a:t>Desarrollo de normas y Guías Técnicas en Metaxénicas y Zoonosis (4397601)</a:t>
            </a:r>
            <a:endParaRPr b="0" lang="en-US" sz="2800" spc="-1" strike="noStrike">
              <a:solidFill>
                <a:srgbClr val="000000"/>
              </a:solidFill>
              <a:latin typeface="Lucida Sans Unicode"/>
            </a:endParaRPr>
          </a:p>
          <a:p>
            <a:pPr marL="104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Calibri"/>
              </a:rPr>
              <a:t>Definición operacional</a:t>
            </a:r>
            <a:endParaRPr b="0" lang="en-US" sz="2400" spc="-1" strike="noStrike">
              <a:solidFill>
                <a:srgbClr val="000000"/>
              </a:solidFill>
              <a:latin typeface="Lucida Sans Unicode"/>
            </a:endParaRPr>
          </a:p>
          <a:p>
            <a:pPr marL="104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roceso de formulación de documentos normativos dirigidos a establecer criterios técnicos y administrativos, que contribuyan a mejorar las intervenciones y optimizar resultados para la salud pública, tanto desde los servicios como fuera de los servicios, es desarrollada por profesionales de salud capacitados en el nivel nacional y la adecuación en el  regional que tienen por función la elaboración, validación, aprobación, difusión, implementación y evaluación de los documentos técnicos normativos, en el marco de Programa Estratégico intervenido.</a:t>
            </a:r>
            <a:endParaRPr b="0" lang="en-US" sz="2400" spc="-1" strike="noStrike">
              <a:solidFill>
                <a:srgbClr val="000000"/>
              </a:solidFill>
              <a:latin typeface="Lucida Sans Unicode"/>
            </a:endParaRPr>
          </a:p>
          <a:p>
            <a:pPr marL="104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Lucida Sans Unicode"/>
              </a:rPr>
              <a:t>Contempla Los 03 niveles : Nacional</a:t>
            </a:r>
            <a:r>
              <a:rPr b="0" lang="es-PE" sz="1400" spc="-1" strike="noStrike">
                <a:solidFill>
                  <a:srgbClr val="000000"/>
                </a:solidFill>
                <a:latin typeface="Lucida Sans Unicode"/>
              </a:rPr>
              <a:t>, </a:t>
            </a:r>
            <a:r>
              <a:rPr b="1" lang="es-PE" sz="1400" spc="-1" strike="noStrike">
                <a:solidFill>
                  <a:srgbClr val="000000"/>
                </a:solidFill>
                <a:latin typeface="Lucida Sans Unicode"/>
              </a:rPr>
              <a:t>regional y local.</a:t>
            </a:r>
            <a:endParaRPr b="0" lang="en-US" sz="1400" spc="-1" strike="noStrike">
              <a:solidFill>
                <a:srgbClr val="000000"/>
              </a:solidFill>
              <a:latin typeface="Lucida Sans Unicode"/>
            </a:endParaRPr>
          </a:p>
          <a:p>
            <a:pPr marL="1047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ff"/>
                </a:solidFill>
                <a:latin typeface="Lucida Sans Unicode"/>
              </a:rPr>
              <a:t>Nivel nacional: Igual al número de documentos Técnico normativos que se tiene previsto aprobar.</a:t>
            </a:r>
            <a:endParaRPr b="0" lang="en-US" sz="1600" spc="-1" strike="noStrike">
              <a:solidFill>
                <a:srgbClr val="000000"/>
              </a:solidFill>
              <a:latin typeface="Lucida Sans Unicode"/>
            </a:endParaRPr>
          </a:p>
          <a:p>
            <a:pPr marL="1047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ff"/>
                </a:solidFill>
                <a:latin typeface="Lucida Sans Unicode"/>
              </a:rPr>
              <a:t>Nivel regional: Igual al número de documentos Técnico normativos aprobados</a:t>
            </a:r>
            <a:endParaRPr b="0" lang="en-US" sz="1600" spc="-1" strike="noStrike">
              <a:solidFill>
                <a:srgbClr val="000000"/>
              </a:solidFill>
              <a:latin typeface="Lucida Sans Unicode"/>
            </a:endParaRPr>
          </a:p>
        </p:txBody>
      </p:sp>
      <p:sp>
        <p:nvSpPr>
          <p:cNvPr id="395" name="3 CuadroTexto"/>
          <p:cNvSpPr/>
          <p:nvPr/>
        </p:nvSpPr>
        <p:spPr>
          <a:xfrm>
            <a:off x="1835280" y="6237360"/>
            <a:ext cx="3713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125000"/>
            <a:ext cx="8229600" cy="5040360"/>
          </a:xfrm>
          <a:prstGeom prst="rect">
            <a:avLst/>
          </a:prstGeom>
          <a:noFill/>
          <a:ln w="0">
            <a:noFill/>
          </a:ln>
        </p:spPr>
        <p:txBody>
          <a:bodyPr anchor="t">
            <a:normAutofit fontScale="96000"/>
          </a:bodyPr>
          <a:p>
            <a:pPr marL="10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da1f28"/>
                </a:solidFill>
                <a:latin typeface="Calibri"/>
              </a:rPr>
              <a:t>Familias que desarrollan Prácticas Saludables para la prevención y control de enfermedades Metaxénicas (4397701)</a:t>
            </a:r>
            <a:r>
              <a:rPr b="1" lang="es-MX" sz="1800" spc="-1" strike="noStrike">
                <a:solidFill>
                  <a:srgbClr val="da1f28"/>
                </a:solidFill>
                <a:latin typeface="Calibri"/>
              </a:rPr>
              <a:t> </a:t>
            </a:r>
            <a:endParaRPr b="0" lang="en-US" sz="1800" spc="-1" strike="noStrike">
              <a:solidFill>
                <a:srgbClr val="000000"/>
              </a:solidFill>
              <a:latin typeface="Lucida Sans Unicode"/>
            </a:endParaRPr>
          </a:p>
          <a:p>
            <a:pPr marL="10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Esta actividad está dirigida a las familias de sectores priorizados (mapa de sectorización) de los distritos con población  en riesgo de  enfermedades metaxénicas (priorizando familias con algún miembro con factor de riesgo), la cual consiste en realizar sesiones educativas y demostrativas a un grupo máximo de 15 familias para promover prácticas (comportamientos saludables: hábitos y conductas saludables) y entornos (con énfasis en vivienda) saludables  para contribuir a la disminución de las enfermedades metaxénicas, en temas como: almacenamiento adecuado de agua, recojo de criaderos (inservibles), limpieza y refacción de viviendas, implementación de medidas preventivas (uso de mosquiteros, uso de ropa apropiada y repelentes e identificación de signos de alarma), entre otros. Esta actividad es realizada por el personal de salud capacitado, en la vivienda de alguna de las familias, en el local comunal u otro que considere pertinente.</a:t>
            </a:r>
            <a:endParaRPr b="0" lang="en-US" sz="1600" spc="-1" strike="noStrike">
              <a:solidFill>
                <a:srgbClr val="000000"/>
              </a:solidFill>
              <a:latin typeface="Lucida Sans Unicode"/>
            </a:endParaRPr>
          </a:p>
          <a:p>
            <a:pPr marL="10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riterio de programación:</a:t>
            </a:r>
            <a:endParaRPr b="0" lang="en-US" sz="1600" spc="-1" strike="noStrike">
              <a:solidFill>
                <a:srgbClr val="000000"/>
              </a:solidFill>
              <a:latin typeface="Lucida Sans Unicode"/>
            </a:endParaRPr>
          </a:p>
          <a:p>
            <a:pPr marL="10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100 % de familias de sectores priorizados (mapa de sectorización) de los distritos en riesgo de enfermedades metaxénicas (determinado por las instancias correspondientes de la Dirección              Regional de Salud o quien haga sus veces) .</a:t>
            </a:r>
            <a:endParaRPr b="0" lang="en-US" sz="1600" spc="-1" strike="noStrike">
              <a:solidFill>
                <a:srgbClr val="000000"/>
              </a:solidFill>
              <a:latin typeface="Lucida Sans Unicode"/>
            </a:endParaRPr>
          </a:p>
          <a:p>
            <a:pPr marL="10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464646"/>
                </a:solidFill>
                <a:latin typeface="Calibri"/>
              </a:rPr>
              <a:t>La programación de esta actividad corresponderá a los Establecimientos de Salud del primer nivel de atención  de categoría I-1 a I-4 y equipos AISPED. Establecimientos de salud del segundo nivel de atención que tengan población asignada</a:t>
            </a:r>
            <a:endParaRPr b="0" lang="en-US" sz="1600" spc="-1" strike="noStrike">
              <a:solidFill>
                <a:srgbClr val="000000"/>
              </a:solidFill>
              <a:latin typeface="Lucida Sans Unicode"/>
            </a:endParaRPr>
          </a:p>
        </p:txBody>
      </p:sp>
      <p:pic>
        <p:nvPicPr>
          <p:cNvPr id="397" name="2 Título" descr=""/>
          <p:cNvPicPr/>
          <p:nvPr/>
        </p:nvPicPr>
        <p:blipFill>
          <a:blip r:embed="rId1"/>
          <a:stretch/>
        </p:blipFill>
        <p:spPr>
          <a:xfrm>
            <a:off x="457200" y="274680"/>
            <a:ext cx="8229600" cy="70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08000" y="259920"/>
            <a:ext cx="8928000" cy="5746680"/>
          </a:xfrm>
          <a:prstGeom prst="rect">
            <a:avLst/>
          </a:prstGeom>
          <a:noFill/>
          <a:ln w="0">
            <a:noFill/>
          </a:ln>
        </p:spPr>
        <p:txBody>
          <a:bodyPr anchor="t">
            <a:normAutofit fontScale="97000"/>
          </a:bodyPr>
          <a:p>
            <a:pPr marL="104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a1f28"/>
                </a:solidFill>
                <a:latin typeface="Calibri"/>
              </a:rPr>
              <a:t>Familias que desarrollan Prácticas Saludables para la prevención y control de enfermedades Zoonóticas (4397702)</a:t>
            </a:r>
            <a:endParaRPr b="0" lang="en-US" sz="1800" spc="-1" strike="noStrike">
              <a:solidFill>
                <a:srgbClr val="000000"/>
              </a:solidFill>
              <a:latin typeface="Lucida Sans Unicode"/>
            </a:endParaRPr>
          </a:p>
          <a:p>
            <a:pPr marL="104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4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Esta actividad está dirigida a las familias de sectores priorizados (mapa de sectorización) de los distritos con población  en riesgo de  enfermedades zoonóticas (priorizando familias con algún miembro con factor de riesgo), la cual consiste en realizar sesiones educativas a un grupo máximo de 15 familias para promover prácticas (comportamientos saludables: hábitos y conductas saludables) y entornos (con énfasis en vivienda) saludables  para contribuir a la disminución de las enfermedades zoonóticas, en temas como: higiene personal, higiene de los alimentos, uso de ropa adecuada, limpieza y refacción de viviendas, disposición de residuos sólidos, almacenamiento adecuado de granos, e implementación de medidas preventivas (uso de mosquiteros, tenencia adecuada de animales, vacunación, eliminación de excretas y espacios adecuados para los animales en la vivienda), control de roedores e identificación de situaciones de riesgo, entre otros. Esta actividad es realizada por el personal de salud capacitado, en la vivienda de alguna de las familias, en el local comunal u otro que considere pertinente.</a:t>
            </a:r>
            <a:endParaRPr b="0" lang="en-US" sz="1800" spc="-1" strike="noStrike">
              <a:solidFill>
                <a:srgbClr val="000000"/>
              </a:solidFill>
              <a:latin typeface="Lucida Sans Unicode"/>
            </a:endParaRPr>
          </a:p>
          <a:p>
            <a:pPr marL="104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Criterio de programación:</a:t>
            </a:r>
            <a:endParaRPr b="0" lang="en-US" sz="1800" spc="-1" strike="noStrike">
              <a:solidFill>
                <a:srgbClr val="000000"/>
              </a:solidFill>
              <a:latin typeface="Lucida Sans Unicode"/>
            </a:endParaRPr>
          </a:p>
          <a:p>
            <a:pPr marL="104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100 % de familias (mapa de sectorización) de los distritos en riesgo de enfermedades zoonóticas (determinado por las instancias correspondientes de la Dirección Regional de Salud o quien haga sus veces). </a:t>
            </a:r>
            <a:endParaRPr b="0" lang="en-US" sz="1800" spc="-1" strike="noStrike">
              <a:solidFill>
                <a:srgbClr val="000000"/>
              </a:solidFill>
              <a:latin typeface="Lucida Sans Unicode"/>
            </a:endParaRPr>
          </a:p>
          <a:p>
            <a:pPr marL="104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Lucida Sans Unicode"/>
              </a:rPr>
              <a:t> </a:t>
            </a:r>
            <a:endParaRPr b="0" lang="en-US" sz="2000" spc="-1" strike="noStrike">
              <a:solidFill>
                <a:srgbClr val="000000"/>
              </a:solidFill>
              <a:latin typeface="Lucida Sans Unicode"/>
            </a:endParaRPr>
          </a:p>
          <a:p>
            <a:pPr marL="10476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476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476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052640"/>
            <a:ext cx="8229600" cy="4954320"/>
          </a:xfrm>
          <a:prstGeom prst="rect">
            <a:avLst/>
          </a:prstGeom>
          <a:noFill/>
          <a:ln w="0">
            <a:noFill/>
          </a:ln>
        </p:spPr>
        <p:txBody>
          <a:bodyPr anchor="t">
            <a:normAutofit fontScale="95000"/>
          </a:bodyPr>
          <a:p>
            <a:pPr marL="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a1f28"/>
                </a:solidFill>
                <a:latin typeface="Calibri"/>
              </a:rPr>
              <a:t>Institución Educativa (CONEI) con Practicas Saludables frente a las enfermedades Metaxénicas y Zoonóticas (4397801)</a:t>
            </a:r>
            <a:endParaRPr b="0" lang="en-US" sz="1800" spc="-1" strike="noStrike">
              <a:solidFill>
                <a:srgbClr val="000000"/>
              </a:solidFill>
              <a:latin typeface="Lucida Sans Unicode"/>
            </a:endParaRPr>
          </a:p>
          <a:p>
            <a:pPr marL="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rPr>
              <a:t>Definición operacional</a:t>
            </a:r>
            <a:endParaRPr b="0" lang="en-US" sz="1600" spc="-1" strike="noStrike">
              <a:solidFill>
                <a:srgbClr val="000000"/>
              </a:solidFill>
              <a:latin typeface="Lucida Sans Unicode"/>
            </a:endParaRPr>
          </a:p>
          <a:p>
            <a:pPr marL="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Se considera una Institución educativa a los centros de educación básica regular estatal, que está registrada en el Padrón del Ministerio de Educación con un código modular que la identifica y un código del local escolar donde funciona. Esta puede ser del Nivel Inicial, Primario o Secundario. Esta actividad está dirigida a los directivos,  responsables de áreas y programas y al Consejo Educativo Institucional (CONEI) de la institución educativa, quienes realizarán acuerdos y  elaborarán un plan de trabajo que permita promover prácticas y entornos saludables para la prevención a las enfermedades metaxénicas y zoonosis. La actividad consiste en incorporar la promoción de  prácticas y entornos saludables para la prevención de las enfermedades metaxénicas y zoonosis en la gestión pedagógica a través de la diversificación curricular y el desarrollo de proyectos educativos; así como en la gestión institucional mediante un proyecto educativo institucional y un plan de trabajo anual.  Esta actividad es realizada por el personal de salud capacitado, en el local de la institución educativa,  local comunal u otros que se considere pertinente.</a:t>
            </a:r>
            <a:endParaRPr b="0" lang="en-US" sz="1600" spc="-1" strike="noStrike">
              <a:solidFill>
                <a:srgbClr val="000000"/>
              </a:solidFill>
              <a:latin typeface="Lucida Sans Unicode"/>
            </a:endParaRPr>
          </a:p>
          <a:p>
            <a:pPr marL="102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alibri"/>
              </a:rPr>
              <a:t>Criterio de programación</a:t>
            </a:r>
            <a:r>
              <a:rPr b="1" lang="es-PE" sz="1600" spc="-1" strike="noStrike" u="sng">
                <a:solidFill>
                  <a:srgbClr val="000000"/>
                </a:solidFill>
                <a:uFillTx/>
                <a:latin typeface="Calibri"/>
              </a:rPr>
              <a:t>:</a:t>
            </a:r>
            <a:endParaRPr b="0" lang="en-US" sz="1600" spc="-1" strike="noStrike">
              <a:solidFill>
                <a:srgbClr val="000000"/>
              </a:solidFill>
              <a:latin typeface="Lucida Sans Unicode"/>
            </a:endParaRPr>
          </a:p>
          <a:p>
            <a:pPr marL="102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Lucida Sans Unicode"/>
              </a:rPr>
              <a:t>100% de las instituciones educativas estatales (integradas o del nivel inicial, primario y secundario) de los distritos de riesgo de enfermedades metaxénicas y zoonosis, de acuerdo a la programación de distritos del producto de municipios saludables.</a:t>
            </a:r>
            <a:endParaRPr b="0" lang="en-US" sz="1600" spc="-1" strike="noStrike">
              <a:solidFill>
                <a:srgbClr val="000000"/>
              </a:solidFill>
              <a:latin typeface="Lucida Sans Unicode"/>
            </a:endParaRPr>
          </a:p>
          <a:p>
            <a:pPr marL="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2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0" name="2 Título" descr=""/>
          <p:cNvPicPr/>
          <p:nvPr/>
        </p:nvPicPr>
        <p:blipFill>
          <a:blip r:embed="rId1"/>
          <a:stretch/>
        </p:blipFill>
        <p:spPr>
          <a:xfrm>
            <a:off x="457200" y="274680"/>
            <a:ext cx="8229600" cy="85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333360"/>
            <a:ext cx="8229600" cy="5673600"/>
          </a:xfrm>
          <a:prstGeom prst="rect">
            <a:avLst/>
          </a:prstGeom>
          <a:noFill/>
          <a:ln w="0">
            <a:noFill/>
          </a:ln>
        </p:spPr>
        <p:txBody>
          <a:bodyPr anchor="t">
            <a:normAutofit/>
          </a:bodyPr>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a1f28"/>
                </a:solidFill>
                <a:latin typeface="Calibri"/>
              </a:rPr>
              <a:t>Docentes de Instituciones Educativas capacitados en Prácticas Saludables para prevenir Enfermedades Metaxénicas y Zoonóticas (4397802)</a:t>
            </a:r>
            <a:endParaRPr b="0" lang="en-US" sz="2400" spc="-1" strike="noStrike">
              <a:solidFill>
                <a:srgbClr val="000000"/>
              </a:solidFill>
              <a:latin typeface="Lucida Sans Unicode"/>
            </a:endParaRPr>
          </a:p>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Se refiere a los Docentes de las Instituciones Educativas estatales integradas o del nivel inicial, primario y secundario que han sido capacitados. Esta actividad consiste en realizar sesiones educativas para fortalecer las capacidades para planificar y ejecutar acciones educativas que complementan las desarrolladas por el CONEI o quien haga sus veces, logrando, a través del desarrollo del plan de trabajo anual y el currículo escolar,  la promoción de prácticas y entornos saludables para contribuir a la prevención de las enfermedades metaxénicas y zoonosis.</a:t>
            </a:r>
            <a:br>
              <a:rPr sz="1600"/>
            </a:br>
            <a:r>
              <a:rPr b="0" lang="es-PE" sz="1600" spc="-1" strike="noStrike">
                <a:solidFill>
                  <a:srgbClr val="000000"/>
                </a:solidFill>
                <a:latin typeface="Calibri"/>
              </a:rPr>
              <a:t>Esta actividad es  realizada por el personal de salud, en la institución educativa o en los espacios de la comunidad</a:t>
            </a:r>
            <a:r>
              <a:rPr b="0" lang="es-PE" sz="1800" spc="-1" strike="noStrike">
                <a:solidFill>
                  <a:srgbClr val="000000"/>
                </a:solidFill>
                <a:latin typeface="Lucida Sans Unicode"/>
              </a:rPr>
              <a:t>.</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riterio de programación:</a:t>
            </a: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50% de docentes de las instituciones educativas estatales integradas o del nivel inicial y primario y 70% de docentes de nivel secundario, según IE programada</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2 Título" descr=""/>
          <p:cNvPicPr/>
          <p:nvPr/>
        </p:nvPicPr>
        <p:blipFill>
          <a:blip r:embed="rId1"/>
          <a:stretch/>
        </p:blipFill>
        <p:spPr>
          <a:xfrm>
            <a:off x="334800" y="274680"/>
            <a:ext cx="8352000" cy="1146240"/>
          </a:xfrm>
          <a:prstGeom prst="rect">
            <a:avLst/>
          </a:prstGeom>
          <a:ln w="0">
            <a:noFill/>
          </a:ln>
        </p:spPr>
      </p:pic>
      <p:pic>
        <p:nvPicPr>
          <p:cNvPr id="373" name="Picture 2" descr=""/>
          <p:cNvPicPr/>
          <p:nvPr/>
        </p:nvPicPr>
        <p:blipFill>
          <a:blip r:embed="rId2"/>
          <a:stretch/>
        </p:blipFill>
        <p:spPr>
          <a:xfrm>
            <a:off x="457200" y="1341360"/>
            <a:ext cx="8229600" cy="454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475920"/>
            <a:ext cx="8229600" cy="5530680"/>
          </a:xfrm>
          <a:prstGeom prst="rect">
            <a:avLst/>
          </a:prstGeom>
          <a:noFill/>
          <a:ln w="0">
            <a:noFill/>
          </a:ln>
        </p:spPr>
        <p:txBody>
          <a:bodyPr anchor="t">
            <a:normAutofit/>
          </a:bodyPr>
          <a:p>
            <a:pPr lvl="2"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92d050"/>
                </a:solidFill>
                <a:latin typeface="Calibri"/>
              </a:rPr>
              <a:t>Asociación de padres de familia (APAFAs)  desarrollan acciones para la promoción de prácticas y entornos saludables frente a las enfermedades metaxénicas y zoonosis</a:t>
            </a:r>
            <a:endParaRPr b="0" lang="en-US" sz="2400" spc="-1" strike="noStrike">
              <a:solidFill>
                <a:srgbClr val="000000"/>
              </a:solidFill>
              <a:latin typeface="Lucida Sans Unicode"/>
            </a:endParaRPr>
          </a:p>
          <a:p>
            <a:pPr lvl="2"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rPr>
              <a:t>Definición operacional</a:t>
            </a: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Esta actividad está dirigida a los padres, madres, tutores  y/o cuidadores de los escolares de la institución educativa. Consiste  en  realizar reuniones para fortalecer capacidades que permitan implementar prácticas y entornos saludables frente a las enfermedades Metaxénicas y Zoonosis.  Esta actividad es realizada por el personal de salud, en el local de la institución educativa.</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riterio de programación:</a:t>
            </a: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100% de las APAFAs de las instituciones educativas estatales integradas o del nivel inicial, primario y secundario, según IE programada.</a:t>
            </a:r>
            <a:endParaRPr b="0" lang="en-US" sz="18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24000" y="980640"/>
            <a:ext cx="8496000" cy="587700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Municipios con Prácticas Saludables para reducir la transmisión de Enfermedades Metaxénicas y Zoonóticas (4397901</a:t>
            </a:r>
            <a:r>
              <a:rPr b="1" lang="es-PE" sz="2000" spc="-1" strike="noStrike">
                <a:solidFill>
                  <a:srgbClr val="da1f28"/>
                </a:solidFill>
                <a:latin typeface="Lucida Sans Unicode"/>
              </a:rPr>
              <a:t>)</a:t>
            </a:r>
            <a:endParaRPr b="0" lang="en-US" sz="2000" spc="-1" strike="noStrike">
              <a:solidFill>
                <a:srgbClr val="000000"/>
              </a:solidFill>
              <a:latin typeface="Lucida Sans Unicode"/>
            </a:endParaRPr>
          </a:p>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La actividad está dirigida al alcalde y los regidores, integrantes del concejo municipal o provincial,  y además con la participación de gerentes u otros funcionarios, de la municipalidad distrital o provincial de los distritos  de zonas de riesgo para las enfermedades metaxénicas y zoonosis,  la cual consiste en realizar reuniones de abogacía para informar, acerca de las enfermedades metaxénicas y zoonosis presente en el territorio, con el objetivo de motivar y despertar interés para establecer acuerdos y compromisos que permitan llevar a cabo intervenciones  efectivas de salud pública orientadas a promover prácticas y generar entornos saludables para la disminución de las enfermedades metaxénicas y zoonosis. Es realizada por el jefe/a  del establecimiento de salud y personal de salud capacitado, en el local municipal u otro lugar donde sesiones el concejo municipal.</a:t>
            </a: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u="sng">
                <a:solidFill>
                  <a:srgbClr val="000000"/>
                </a:solidFill>
                <a:uFillTx/>
                <a:latin typeface="Calibri"/>
              </a:rPr>
              <a:t>Criterio de programación:</a:t>
            </a:r>
            <a:endParaRPr b="0" lang="en-US" sz="20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100% de los Concejos municipales de los distritos con población de riesgo de enfermedades metaxénicas (de acuerdo a la priorización que realice las instancias correspondientes de la Dirección Regional de Salud o quien haga sus veces).</a:t>
            </a:r>
            <a:endParaRPr b="0" lang="en-US" sz="16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 </a:t>
            </a:r>
            <a:endParaRPr b="0" lang="en-US" sz="16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4" name="2 Título" descr=""/>
          <p:cNvPicPr/>
          <p:nvPr/>
        </p:nvPicPr>
        <p:blipFill>
          <a:blip r:embed="rId1"/>
          <a:stretch/>
        </p:blipFill>
        <p:spPr>
          <a:xfrm>
            <a:off x="457200" y="189000"/>
            <a:ext cx="8229600" cy="79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68360" y="259920"/>
            <a:ext cx="8229600" cy="574668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Comité Multisectorial capacitado para promover Prácticas Saludables. (4397902)</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Esta actividad está dirigida a los representantes de la municipalidad  distrital o provincial, representantes de los sectores del Estado, organizaciones sociales  e instituciones privadas, integrantes del Comité Multisectorial, liderado por el Alcalde, la cual consiste en realizar reuniones de abogacía para informar, motivar, despertar interés en el tema y contar con un comité multisectorial para realizar talleres de capacitación, monitoreo y evaluación de intervenciones efectivas de salud pública orientado a promover prácticas y entornos saludables para prevenir y controlar las enfermedades metaxénicas y zoonosis. Es realizada por el jefe/a del establecimiento de salud y personal de salud capacitado, en el local municipal o comunal u otro donde se realice las </a:t>
            </a:r>
            <a:r>
              <a:rPr b="0" lang="es-PE" sz="1800" spc="-1" strike="noStrike">
                <a:solidFill>
                  <a:srgbClr val="000000"/>
                </a:solidFill>
                <a:latin typeface="Calibri"/>
              </a:rPr>
              <a:t>reuniones del Comité </a:t>
            </a:r>
            <a:r>
              <a:rPr b="0" lang="es-PE" sz="1600" spc="-1" strike="noStrike">
                <a:solidFill>
                  <a:srgbClr val="000000"/>
                </a:solidFill>
                <a:latin typeface="Calibri"/>
              </a:rPr>
              <a:t>multisectorial</a:t>
            </a:r>
            <a:r>
              <a:rPr b="0" lang="es-PE" sz="1600" spc="-1" strike="noStrike">
                <a:solidFill>
                  <a:srgbClr val="000000"/>
                </a:solidFill>
                <a:latin typeface="Lucida Sans Unicode"/>
              </a:rPr>
              <a:t>.</a:t>
            </a:r>
            <a:endParaRPr b="0" lang="en-US" sz="16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riterio de programación:</a:t>
            </a:r>
            <a:endParaRPr b="0" lang="en-US" sz="16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100% de los Comités Multisectoriales de los distritos con población de riesgo de enfermedades metaxénicas y zoonóticas (de acuerdo a la priorización que realice las instancias correspondientes de la Dirección Regional de Salud o quien haga sus veces</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08000" y="1125000"/>
            <a:ext cx="8856720" cy="5543640"/>
          </a:xfrm>
          <a:prstGeom prst="rect">
            <a:avLst/>
          </a:prstGeom>
          <a:noFill/>
          <a:ln w="0">
            <a:noFill/>
          </a:ln>
        </p:spPr>
        <p:txBody>
          <a:bodyPr anchor="t">
            <a:normAutofit/>
          </a:bodyPr>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P</a:t>
            </a:r>
            <a:r>
              <a:rPr b="1" lang="es-MX" sz="2000" spc="-1" strike="noStrike">
                <a:solidFill>
                  <a:srgbClr val="da1f28"/>
                </a:solidFill>
                <a:latin typeface="Calibri"/>
              </a:rPr>
              <a:t>oblación informada en prevención y control de enfermedades Metaxénicas y Zoonóticas x medios masivos. </a:t>
            </a:r>
            <a:r>
              <a:rPr b="1" lang="es-PE" sz="2000" spc="-1" strike="noStrike">
                <a:solidFill>
                  <a:srgbClr val="da1f28"/>
                </a:solidFill>
                <a:latin typeface="Calibri"/>
              </a:rPr>
              <a:t>(4398001):</a:t>
            </a:r>
            <a:endParaRPr b="0" lang="en-US" sz="2000" spc="-1" strike="noStrike">
              <a:solidFill>
                <a:srgbClr val="000000"/>
              </a:solidFill>
              <a:latin typeface="Lucida Sans Unicode"/>
            </a:endParaRPr>
          </a:p>
          <a:p>
            <a:pPr lvl="2" marL="630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Definición operacional.-</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alibri"/>
              </a:rPr>
              <a:t>Es aquella población que recibe los mensajes sobre las medidas de prevención, promoción y control de las enfermedades metaxénicas y zoonóticas, a través de los medios masivos de comunicación en las áreas endémicas. </a:t>
            </a:r>
            <a:endParaRPr b="0" lang="en-US" sz="20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alibri"/>
              </a:rPr>
              <a:t>Estos mensajes serán propuestos por la Oficina General de Comunicaciones a las oficinas de Comunicaciones regionales, que deberán adaptar los mensajes a su entorno, con la asesoría técnica de la Estrategia Sanitaria correspondiente, para la producción y difusión a través de spots radiales, spots televisivos y la publicación de avisos en prensa escrita (cintillos, comunicados, avisos con mensajes preventivos), según escenarios de riesgo para las enfermedades metaxénicas y zoonóticas.</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riterio de programación:</a:t>
            </a: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ff"/>
                </a:solidFill>
                <a:latin typeface="Calibri"/>
              </a:rPr>
              <a:t>5</a:t>
            </a:r>
            <a:r>
              <a:rPr b="0" lang="es-PE" sz="1800" spc="-1" strike="noStrike">
                <a:solidFill>
                  <a:srgbClr val="0000ff"/>
                </a:solidFill>
                <a:latin typeface="Calibri"/>
              </a:rPr>
              <a:t>0% de la población que accede a medios de comunicación masivos y recibe la información sobre las medidas de pr</a:t>
            </a:r>
            <a:r>
              <a:rPr b="0" lang="es-PE" sz="1600" spc="-1" strike="noStrike">
                <a:solidFill>
                  <a:srgbClr val="0000ff"/>
                </a:solidFill>
                <a:latin typeface="Calibri"/>
              </a:rPr>
              <a:t>evención contra las enfermedades metaxénicas y zoonóticas, a través de las siguientes acciones</a:t>
            </a:r>
            <a:endParaRPr b="0" lang="en-US" sz="1600" spc="-1" strike="noStrike">
              <a:solidFill>
                <a:srgbClr val="000000"/>
              </a:solidFill>
              <a:latin typeface="Lucida Sans Unicode"/>
            </a:endParaRPr>
          </a:p>
        </p:txBody>
      </p:sp>
      <p:pic>
        <p:nvPicPr>
          <p:cNvPr id="407" name="2 Título" descr=""/>
          <p:cNvPicPr/>
          <p:nvPr/>
        </p:nvPicPr>
        <p:blipFill>
          <a:blip r:embed="rId1"/>
          <a:stretch/>
        </p:blipFill>
        <p:spPr>
          <a:xfrm>
            <a:off x="457200" y="26208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259920"/>
            <a:ext cx="8229600" cy="648180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da1f28"/>
                </a:solidFill>
                <a:latin typeface="Calibri"/>
              </a:rPr>
              <a:t>Población informada sobre prevención y control de las enfermedades Metaxénicas y Zoonoticas  por medios alternativos (4398002</a:t>
            </a:r>
            <a:r>
              <a:rPr b="1" lang="es-PE" sz="2400" spc="-1" strike="noStrike">
                <a:solidFill>
                  <a:srgbClr val="da1f28"/>
                </a:solidFill>
                <a:latin typeface="Lucida Sans Unicode"/>
              </a:rPr>
              <a:t>):</a:t>
            </a:r>
            <a:endParaRPr b="0" lang="en-US" sz="2400" spc="-1" strike="noStrike">
              <a:solidFill>
                <a:srgbClr val="000000"/>
              </a:solidFill>
              <a:latin typeface="Lucida Sans Unicode"/>
            </a:endParaRPr>
          </a:p>
          <a:p>
            <a:pPr lvl="2" marL="630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rPr>
              <a:t>Definición operacional</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alibri"/>
              </a:rPr>
              <a:t>Es aquella población que recibe los mensajes sobre las medidas de promoción de medidas y hábitos protectores, prevención y control de las enfermedades metaxénicas y zoonóticas, a través de medios y estrategias de comunicación alternativa como: la movilización social, la animación sociocultural, publicidad alternativa, así como el diseño, impresión y distribución de materiales.</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rPr>
              <a:t>Criterios de programación</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alibri"/>
              </a:rPr>
              <a:t>80% de la población objetivo conoce los mensajes preventivos a través de los medios y estrategias de comunicación alternativ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23640" y="115920"/>
            <a:ext cx="8569080" cy="6337440"/>
          </a:xfrm>
          <a:prstGeom prst="rect">
            <a:avLst/>
          </a:prstGeom>
          <a:noFill/>
          <a:ln w="0">
            <a:noFill/>
          </a:ln>
        </p:spPr>
        <p:txBody>
          <a:bodyPr anchor="t">
            <a:normAutofit/>
          </a:bodyPr>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1faecd"/>
                </a:solidFill>
                <a:latin typeface="Calibri"/>
              </a:rPr>
              <a:t>VIVIENDAS PROTEGIDAS DE LOS PRINCIPALES CONDICIONANTES DEL RIESGO EN LAS AREAS DE ALTO Y MUY ALTO RIESGO DE ENFERMEDADES METAXENICASS (3043981</a:t>
            </a:r>
            <a:endParaRPr b="0" lang="en-US" sz="2000" spc="-1" strike="noStrike">
              <a:solidFill>
                <a:srgbClr val="000000"/>
              </a:solidFill>
              <a:latin typeface="Lucida Sans Unicode"/>
            </a:endParaRPr>
          </a:p>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da1f28"/>
                </a:solidFill>
                <a:latin typeface="Calibri"/>
              </a:rPr>
              <a:t>Viviendas de áreas de riesgo de transmisión de Malaria implementadas con medidas de protección personal y familiar (4398101):</a:t>
            </a:r>
            <a:endParaRPr b="0" lang="en-US" sz="24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Arial"/>
              </a:rPr>
              <a:t>Definición Operacional</a:t>
            </a:r>
            <a:r>
              <a:rPr b="1" lang="es-PE" sz="1800" spc="-1" strike="noStrike">
                <a:solidFill>
                  <a:srgbClr val="000000"/>
                </a:solidFill>
                <a:latin typeface="Arial"/>
              </a:rPr>
              <a:t>:</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 el grupo de intervenciones dirigidas a brindar protección de las viviendas en las áreas de alto y mediano riesgo de transmisión de la Malaria, viviendas de tipo A (vivienda con techo, sin paredes), B (Viviendas con techo, 2 paredes, sin puerta, sin ventanas), y C (Vivienda con techo, paredes, sin puertas ni ventanas) en las zonas rurales de regiones de costa con mediano y/o alto endemismo e Índice Parasitario Anual  &gt; 10 x 1000 hab. Según nicho eco epidemiológico, realizado por profesional de salud y/o técnico de los EESS y promotores de salud:  </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1" lang="es-MX" sz="1800" spc="-1" strike="noStrike" u="sng">
                <a:solidFill>
                  <a:srgbClr val="000000"/>
                </a:solidFill>
                <a:uFillTx/>
                <a:latin typeface="Calibri"/>
              </a:rPr>
              <a:t>Criterio de programación:</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ntrega de mosquiteros al 100% de viviendas tipo A, B y C de localidades de alto y mediano riesgo de transmisión de malaria (Amazonía y zonas rurales de la Costa), 3 mosquiteros por familia cada 3 años. Visitas trimestrales de seguimiento  para evaluar el uso del mosquitero en tres loca</a:t>
            </a:r>
            <a:r>
              <a:rPr b="0" lang="es-MX" sz="1600" spc="-1" strike="noStrike">
                <a:solidFill>
                  <a:srgbClr val="000000"/>
                </a:solidFill>
                <a:latin typeface="Calibri"/>
              </a:rPr>
              <a:t>lidades</a:t>
            </a:r>
            <a:endParaRPr b="0" lang="en-US" sz="16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Calibri"/>
              </a:rPr>
              <a:t> </a:t>
            </a:r>
            <a:endParaRPr b="0" lang="en-US" sz="16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259920"/>
            <a:ext cx="8229600" cy="574668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Viviendas de áreas de alto y muy alto riesgo de transmisión de malaria protegidas con plaguicidas (4398103):</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Definición Operacional</a:t>
            </a:r>
            <a:r>
              <a:rPr b="1" lang="es-PE" sz="1800" spc="-1" strike="noStrike">
                <a:solidFill>
                  <a:srgbClr val="000000"/>
                </a:solidFill>
                <a:latin typeface="Calibri"/>
              </a:rPr>
              <a:t>.-</a:t>
            </a:r>
            <a:r>
              <a:rPr b="0" lang="es-MX" sz="1800" spc="-1" strike="noStrike">
                <a:solidFill>
                  <a:srgbClr val="000000"/>
                </a:solidFill>
                <a:latin typeface="Calibri"/>
              </a:rPr>
              <a:t>Es el grupo de intervenciones ejecutadas por el personal de los EESS y promotores  de salud capacitados, con el objetivo de proteger las viviendas con rociamiento residual, en viviendas  de tipo A (solo en la Amazonia), B, (B=Viviendas con 2 paredes, sin puerta, sin ventanas), C y D (C= vivienda con paredes y techo sin puertas ni ventanas, D= vivienda completa) en las áreas de alto y mediano riesgo</a:t>
            </a:r>
            <a:r>
              <a:rPr b="0" lang="es-MX" sz="2400" spc="-1" strike="noStrike">
                <a:solidFill>
                  <a:srgbClr val="000000"/>
                </a:solidFill>
                <a:latin typeface="Calibri"/>
              </a:rPr>
              <a:t> </a:t>
            </a:r>
            <a:r>
              <a:rPr b="0" lang="es-MX" sz="1800" spc="-1" strike="noStrike">
                <a:solidFill>
                  <a:srgbClr val="000000"/>
                </a:solidFill>
                <a:latin typeface="Calibri"/>
              </a:rPr>
              <a:t>ó Índice Parasitario Anual  &gt; 10 x 1000 hab., según nicho eco epidemiológico, mediante:  </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 </a:t>
            </a:r>
            <a:endParaRPr b="0" lang="en-US" sz="18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CRITERIO DE PROGRAMACIÓN: </a:t>
            </a:r>
            <a:endParaRPr b="0" lang="en-US" sz="18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tamiento residual al 100% de viviendas tipo A, B, C y D de localidades de alto y mediano riesgo,2  veces al año.</a:t>
            </a:r>
            <a:endParaRPr b="0" lang="en-US" sz="18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333360"/>
            <a:ext cx="8229600" cy="5673600"/>
          </a:xfrm>
          <a:prstGeom prst="rect">
            <a:avLst/>
          </a:prstGeom>
          <a:noFill/>
          <a:ln w="0">
            <a:noFill/>
          </a:ln>
        </p:spPr>
        <p:txBody>
          <a:bodyPr anchor="t">
            <a:normAutofit/>
          </a:bodyPr>
          <a:p>
            <a:pPr lvl="2" marL="630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1faecd"/>
                </a:solidFill>
                <a:latin typeface="Calibri"/>
              </a:rPr>
              <a:t>VIVIENDAS PROTEGIDAS DE LOS PRINCIPALES CONDICIONANTES DEL RIESGO EN LAS AREAS DE ALTO Y MUY ALTO RIESGO DE ENFERMEDADES METAXENICASS (3043981</a:t>
            </a:r>
            <a:endParaRPr b="0" lang="en-US" sz="2000" spc="-1" strike="noStrike">
              <a:solidFill>
                <a:srgbClr val="000000"/>
              </a:solidFill>
              <a:latin typeface="Lucida Sans Unicode"/>
            </a:endParaRPr>
          </a:p>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Viviendas ubicadas en escenario II y III de transmisión de Dengue protegidas con tratamiento focal y control físico (4398106</a:t>
            </a:r>
            <a:r>
              <a:rPr b="1" lang="es-PE" sz="1800" spc="-1" strike="noStrike">
                <a:solidFill>
                  <a:srgbClr val="da1f28"/>
                </a:solidFill>
                <a:latin typeface="Calibri"/>
              </a:rPr>
              <a:t>):</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Definición Operacional</a:t>
            </a:r>
            <a:r>
              <a:rPr b="1" lang="es-PE" sz="1800" spc="-1" strike="noStrike">
                <a:solidFill>
                  <a:srgbClr val="000000"/>
                </a:solidFill>
                <a:latin typeface="Calibri"/>
              </a:rPr>
              <a:t>.- </a:t>
            </a:r>
            <a:r>
              <a:rPr b="0" lang="es-MX" sz="1800" spc="-1" strike="noStrike">
                <a:solidFill>
                  <a:srgbClr val="000000"/>
                </a:solidFill>
                <a:latin typeface="Calibri"/>
              </a:rPr>
              <a:t>Conjunto de actividades que desarrolla el personal de salud de los EESS de las áreas de riesgo de transmisión de dengue, se realizará La visita domiciliaria al 100% de viviendas en forma trimestral (cada 3 meses) para la inspección de los criaderos positivos y/o potenciales de Aedes aegypti  en el intra y peri domicilio, la aplicación de control físico mediante la destrucción y/o protección de criaderos y químico con aplicación de larvicida de probada eficacia, (de acuerdo a los resultados de vigilancia de la susceptibilidad y resistencia a los insecticidas), con un rendimiento de 25 viviendas por día por inspector, brindando educación sanitaria y acciones demostrativas de limpieza, cepillado, tapado de recipiente, así como la conservación y mantenimiento del larvicida.</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Calibri"/>
              </a:rPr>
              <a:t>Criterio de programación: </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ntrol químico y físico al 100% de viviendas en forma trimensual (cada 3 meses) con un rendimiento de 25 viviendas por día por inspector</a:t>
            </a:r>
            <a:r>
              <a:rPr b="0" lang="es-MX" sz="1600" spc="-1" strike="noStrike">
                <a:solidFill>
                  <a:srgbClr val="000000"/>
                </a:solidFill>
                <a:latin typeface="Calibri"/>
              </a:rPr>
              <a:t>.</a:t>
            </a:r>
            <a:endParaRPr b="0" lang="en-US" sz="16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250920" y="259920"/>
            <a:ext cx="8663040" cy="659772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da1f28"/>
                </a:solidFill>
                <a:latin typeface="Calibri"/>
              </a:rPr>
              <a:t>Viviendas en áreas de transmisión de Bartonelosis y/o Leishmaniosis protegidas con tratamiento residual (4398109</a:t>
            </a:r>
            <a:r>
              <a:rPr b="1" lang="es-PE" sz="1600" spc="-1" strike="noStrike">
                <a:solidFill>
                  <a:srgbClr val="da1f28"/>
                </a:solidFill>
                <a:latin typeface="Calibri"/>
              </a:rPr>
              <a:t>)</a:t>
            </a:r>
            <a:r>
              <a:rPr b="1" lang="es-PE" sz="2400" spc="-1" strike="noStrike">
                <a:solidFill>
                  <a:srgbClr val="000000"/>
                </a:solidFill>
                <a:latin typeface="Calibri"/>
              </a:rPr>
              <a:t>:</a:t>
            </a:r>
            <a:endParaRPr b="0" lang="en-US" sz="2400" spc="-1" strike="noStrike">
              <a:solidFill>
                <a:srgbClr val="000000"/>
              </a:solidFill>
              <a:latin typeface="Lucida Sans Unicode"/>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Lucida Sans Unicode"/>
              </a:rPr>
              <a:t> </a:t>
            </a:r>
            <a:r>
              <a:rPr b="1" lang="es-PE" sz="1800" spc="-1" strike="noStrike" u="sng">
                <a:solidFill>
                  <a:srgbClr val="000000"/>
                </a:solidFill>
                <a:uFillTx/>
                <a:latin typeface="Calibri"/>
              </a:rPr>
              <a:t>Definicion operacional</a:t>
            </a:r>
            <a:r>
              <a:rPr b="1" lang="es-PE" sz="3200" spc="-1" strike="noStrike">
                <a:solidFill>
                  <a:srgbClr val="000000"/>
                </a:solidFill>
                <a:latin typeface="Calibri"/>
              </a:rPr>
              <a:t>:</a:t>
            </a:r>
            <a:endParaRPr b="0" lang="en-US" sz="32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on las intervenciones que realiza el personal de los EESS de las áreas de transmisión de Bartonelosis y Leishmaniosis, mediante el control preventivo con aplicación de insecticidas de uso en salud pública de efecto residual de acuerdo a los resultados de vigilancia de la susceptibilidad y resistencia de Lutzomyias a los plaguicidas; con el objetivo de proteger a la vivienda, utilizando una bomba aspersora manual de uso en salud en publica, según el nicho eco epidemiológico.</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CRITERIO DE PROGRAMACIÓN: </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alibri"/>
              </a:rPr>
              <a:t> </a:t>
            </a:r>
            <a:endParaRPr b="0" lang="en-US" sz="18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tamiento residual al 100% de viviendas en localidades con transmisión autóctona o se conoce que es endémica, 2 veces al año en las épocas pre estacional y post estacional.</a:t>
            </a:r>
            <a:endParaRPr b="0" lang="en-US" sz="18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476280"/>
            <a:ext cx="8229600" cy="5905440"/>
          </a:xfrm>
          <a:prstGeom prst="rect">
            <a:avLst/>
          </a:prstGeom>
          <a:noFill/>
          <a:ln w="0">
            <a:noFill/>
          </a:ln>
        </p:spPr>
        <p:txBody>
          <a:bodyPr anchor="t">
            <a:normAutofit/>
          </a:bodyPr>
          <a:p>
            <a:pPr lvl="2" marL="630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da1f28"/>
                </a:solidFill>
                <a:latin typeface="Calibri"/>
              </a:rPr>
              <a:t>Viviendas en </a:t>
            </a:r>
            <a:r>
              <a:rPr b="1" lang="es-MX" sz="2000" spc="-1" strike="noStrike">
                <a:solidFill>
                  <a:srgbClr val="da1f28"/>
                </a:solidFill>
                <a:latin typeface="Calibri"/>
              </a:rPr>
              <a:t>áreas</a:t>
            </a:r>
            <a:r>
              <a:rPr b="1" lang="es-PE" sz="2000" spc="-1" strike="noStrike">
                <a:solidFill>
                  <a:srgbClr val="da1f28"/>
                </a:solidFill>
                <a:latin typeface="Calibri"/>
              </a:rPr>
              <a:t> de transmisión de Chagas protegidas con tratamiento residual (4398111):</a:t>
            </a:r>
            <a:endParaRPr b="0" lang="en-US" sz="20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alibri"/>
              </a:rPr>
              <a:t> </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Definición operacional: </a:t>
            </a:r>
            <a:r>
              <a:rPr b="0" lang="es-MX" sz="1800" spc="-1" strike="noStrike">
                <a:solidFill>
                  <a:srgbClr val="000000"/>
                </a:solidFill>
                <a:latin typeface="Calibri"/>
              </a:rPr>
              <a:t>Conjunto de acciones que desarrollo el personal de los EESS, en las áreas endémicas de transmisión de la enfermedad de Chagas y en áreas con presencia del vector con aplicación de insecticidas de uso en salud pública de efecto residual (de acuerdo a los resultados de vigilancia de la susceptibilidad y resistencia de Triatominos a los insecticidas); con el objetivo de proteger a la vivienda, utilizando una bomba aspersora manual de uso en salud en publica, en las siguientes situaciones:</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CRITERIO DE PROGRAMACIÓN:</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En las zonas nor oriental y centro del país, rociamiento residual al 100% de viviendas de la localidad, 1 aplicación cada 6 meses. </a:t>
            </a:r>
            <a:endParaRPr b="0" lang="en-US" sz="18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En las zonas del sur del país, rociamiento residual al 100% de las viviendas, 1 aplicación una vez al año. </a:t>
            </a:r>
            <a:endParaRPr b="0" lang="en-US" sz="18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Lucida Sans Unicode"/>
              </a:rPr>
              <a:t> </a:t>
            </a:r>
            <a:endParaRPr b="0" lang="en-US" sz="32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2 Título" descr=""/>
          <p:cNvPicPr/>
          <p:nvPr/>
        </p:nvPicPr>
        <p:blipFill>
          <a:blip r:embed="rId1"/>
          <a:stretch/>
        </p:blipFill>
        <p:spPr>
          <a:xfrm>
            <a:off x="304920" y="274680"/>
            <a:ext cx="8381880" cy="1146240"/>
          </a:xfrm>
          <a:prstGeom prst="rect">
            <a:avLst/>
          </a:prstGeom>
          <a:ln w="0">
            <a:noFill/>
          </a:ln>
        </p:spPr>
      </p:pic>
      <p:pic>
        <p:nvPicPr>
          <p:cNvPr id="375" name="Picture 2" descr=""/>
          <p:cNvPicPr/>
          <p:nvPr/>
        </p:nvPicPr>
        <p:blipFill>
          <a:blip r:embed="rId2"/>
          <a:stretch/>
        </p:blipFill>
        <p:spPr>
          <a:xfrm>
            <a:off x="468360" y="1481040"/>
            <a:ext cx="8207280" cy="4900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1 Título" descr=""/>
          <p:cNvPicPr/>
          <p:nvPr/>
        </p:nvPicPr>
        <p:blipFill>
          <a:blip r:embed="rId1"/>
          <a:stretch/>
        </p:blipFill>
        <p:spPr>
          <a:xfrm>
            <a:off x="0" y="281160"/>
            <a:ext cx="8461440" cy="1657080"/>
          </a:xfrm>
          <a:prstGeom prst="rect">
            <a:avLst/>
          </a:prstGeom>
          <a:ln w="0">
            <a:noFill/>
          </a:ln>
        </p:spPr>
      </p:pic>
      <p:sp>
        <p:nvSpPr>
          <p:cNvPr id="415" name=""/>
          <p:cNvSpPr txBox="1"/>
          <p:nvPr/>
        </p:nvSpPr>
        <p:spPr>
          <a:xfrm>
            <a:off x="178920" y="1988640"/>
            <a:ext cx="8280360" cy="424836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u="sng">
                <a:solidFill>
                  <a:srgbClr val="000000"/>
                </a:solidFill>
                <a:uFillTx/>
                <a:latin typeface="Arial"/>
                <a:ea typeface="Arial"/>
              </a:rPr>
              <a:t>Definición Operacional</a:t>
            </a:r>
            <a:r>
              <a:rPr b="1" lang="es-PE" sz="2000" spc="-1" strike="noStrike">
                <a:solidFill>
                  <a:srgbClr val="000000"/>
                </a:solidFill>
                <a:latin typeface="Arial"/>
                <a:ea typeface="Arial"/>
              </a:rPr>
              <a:t>:</a:t>
            </a: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0" lang="es-PE" sz="2000" spc="-1" strike="noStrike">
                <a:solidFill>
                  <a:srgbClr val="000000"/>
                </a:solidFill>
                <a:latin typeface="Arial"/>
                <a:ea typeface="Arial"/>
              </a:rPr>
              <a:t>Es el conjunto de acciones que desarrolla el personal de salud y agentes comunitarios de salud destinados a la localización </a:t>
            </a:r>
            <a:r>
              <a:rPr b="0" lang="es-MX" sz="2000" spc="-1" strike="noStrike">
                <a:solidFill>
                  <a:srgbClr val="000000"/>
                </a:solidFill>
                <a:latin typeface="Arial"/>
                <a:ea typeface="Arial"/>
              </a:rPr>
              <a:t>precoz</a:t>
            </a:r>
            <a:r>
              <a:rPr b="0" lang="es-PE" sz="2000" spc="-1" strike="noStrike">
                <a:solidFill>
                  <a:srgbClr val="000000"/>
                </a:solidFill>
                <a:latin typeface="Arial"/>
                <a:ea typeface="Arial"/>
              </a:rPr>
              <a:t> y oportuna de los casos de malaria durante la atención de salud, en el intra y extra muro, así como el control de colateral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2060"/>
                </a:solidFill>
                <a:uFillTx/>
                <a:latin typeface="Arial"/>
                <a:ea typeface="Arial"/>
              </a:rPr>
              <a:t>Criterio de programacion: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2060"/>
                </a:solidFill>
                <a:latin typeface="Arial"/>
                <a:ea typeface="Arial"/>
              </a:rPr>
              <a:t>   </a:t>
            </a:r>
            <a:r>
              <a:rPr b="0" lang="es-PE" sz="2400" spc="-1" strike="noStrike">
                <a:solidFill>
                  <a:srgbClr val="002060"/>
                </a:solidFill>
                <a:latin typeface="Arial"/>
                <a:ea typeface="Arial"/>
              </a:rPr>
              <a:t>Programar de acuerdo a los distritos según estrato de riesgo (AR= 30%, MR=10% y BR el 5% de la población en riesgo); o según la tendencia de los últimos 3 años. Considerar examen por GG al 100 % de los febriles identificados; y en áreas de limitado acceso; como en la Amazonía programar 30 % para PDR.</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628560" y="249120"/>
            <a:ext cx="7601040" cy="1171800"/>
          </a:xfrm>
          <a:prstGeom prst="rect">
            <a:avLst/>
          </a:prstGeom>
          <a:ln w="0">
            <a:noFill/>
          </a:ln>
        </p:spPr>
      </p:pic>
      <p:sp>
        <p:nvSpPr>
          <p:cNvPr id="417" name=""/>
          <p:cNvSpPr txBox="1"/>
          <p:nvPr/>
        </p:nvSpPr>
        <p:spPr>
          <a:xfrm>
            <a:off x="0" y="1599840"/>
            <a:ext cx="8229600" cy="4530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u="sng">
                <a:solidFill>
                  <a:srgbClr val="000000"/>
                </a:solidFill>
                <a:uFillTx/>
                <a:latin typeface="Arial"/>
                <a:ea typeface="Arial"/>
              </a:rPr>
              <a:t>Definición Operacional</a:t>
            </a:r>
            <a:r>
              <a:rPr b="1" lang="es-PE" sz="2000" spc="-1" strike="noStrike">
                <a:solidFill>
                  <a:srgbClr val="000000"/>
                </a:solidFill>
                <a:latin typeface="Arial"/>
                <a:ea typeface="Arial"/>
              </a:rPr>
              <a:t>:</a:t>
            </a:r>
            <a:endParaRPr b="0" lang="en-US" sz="2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0" lang="es-PE" sz="2000" spc="-1" strike="noStrike">
                <a:solidFill>
                  <a:srgbClr val="000000"/>
                </a:solidFill>
                <a:latin typeface="Arial"/>
                <a:ea typeface="Arial"/>
              </a:rPr>
              <a:t>Actividades que realiza el personal de salud: médico, enfermera, biólogo, técnico de </a:t>
            </a:r>
            <a:r>
              <a:rPr b="0" lang="es-MX" sz="2000" spc="-1" strike="noStrike">
                <a:solidFill>
                  <a:srgbClr val="000000"/>
                </a:solidFill>
                <a:latin typeface="Arial"/>
                <a:ea typeface="Arial"/>
              </a:rPr>
              <a:t>enfermería</a:t>
            </a:r>
            <a:r>
              <a:rPr b="0" lang="es-PE" sz="2000" spc="-1" strike="noStrike">
                <a:solidFill>
                  <a:srgbClr val="000000"/>
                </a:solidFill>
                <a:latin typeface="Arial"/>
                <a:ea typeface="Arial"/>
              </a:rPr>
              <a:t>, de los EESS, según  el escenario de riesgo epidemiológico, para desarrollar acciones de detección y diagnóstico de casos de dengue. Se estima que el 10% de la población en riesgo responde a la definición de febriles esperados para el año.</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2060"/>
                </a:solidFill>
                <a:uFillTx/>
                <a:latin typeface="Arial"/>
                <a:ea typeface="Arial"/>
              </a:rPr>
              <a:t>CRITERIO</a:t>
            </a:r>
            <a:r>
              <a:rPr b="1" lang="es-PE" sz="2400" spc="-1" strike="noStrike" u="sng">
                <a:solidFill>
                  <a:srgbClr val="002060"/>
                </a:solidFill>
                <a:uFillTx/>
                <a:latin typeface="Arial"/>
                <a:ea typeface="Arial"/>
              </a:rPr>
              <a:t> DE PROGRAMAC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2060"/>
                </a:solidFill>
                <a:latin typeface="Arial"/>
                <a:ea typeface="Arial"/>
              </a:rPr>
              <a:t>    </a:t>
            </a:r>
            <a:r>
              <a:rPr b="0" lang="es-PE" sz="2400" spc="-1" strike="noStrike">
                <a:solidFill>
                  <a:srgbClr val="002060"/>
                </a:solidFill>
                <a:latin typeface="Arial"/>
                <a:ea typeface="Arial"/>
              </a:rPr>
              <a:t>10% de los febriles esperados para el año serán examinados por laboratorio.</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1 Título" descr=""/>
          <p:cNvPicPr/>
          <p:nvPr/>
        </p:nvPicPr>
        <p:blipFill>
          <a:blip r:embed="rId1"/>
          <a:stretch/>
        </p:blipFill>
        <p:spPr>
          <a:xfrm>
            <a:off x="-122400" y="208080"/>
            <a:ext cx="8352000" cy="1212840"/>
          </a:xfrm>
          <a:prstGeom prst="rect">
            <a:avLst/>
          </a:prstGeom>
          <a:ln w="0">
            <a:noFill/>
          </a:ln>
        </p:spPr>
      </p:pic>
      <p:sp>
        <p:nvSpPr>
          <p:cNvPr id="419" name=""/>
          <p:cNvSpPr txBox="1"/>
          <p:nvPr/>
        </p:nvSpPr>
        <p:spPr>
          <a:xfrm>
            <a:off x="0" y="1599840"/>
            <a:ext cx="8229600" cy="4530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u="sng">
                <a:solidFill>
                  <a:srgbClr val="000000"/>
                </a:solidFill>
                <a:uFillTx/>
                <a:latin typeface="Arial"/>
                <a:ea typeface="Arial"/>
              </a:rPr>
              <a:t>Definición Operacional</a:t>
            </a:r>
            <a:r>
              <a:rPr b="1" lang="es-PE" sz="2000" spc="-1" strike="noStrike">
                <a:solidFill>
                  <a:srgbClr val="000000"/>
                </a:solidFill>
                <a:latin typeface="Arial"/>
                <a:ea typeface="Arial"/>
              </a:rPr>
              <a:t>: </a:t>
            </a:r>
            <a:endParaRPr b="0" lang="en-US" sz="2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0" lang="es-PE" sz="2000" spc="-1" strike="noStrike">
                <a:solidFill>
                  <a:srgbClr val="000000"/>
                </a:solidFill>
                <a:latin typeface="Arial"/>
                <a:ea typeface="Arial"/>
              </a:rPr>
              <a:t>Son las intervenciones que realiza el personal de salud profesional y no profesional en los </a:t>
            </a:r>
            <a:r>
              <a:rPr b="0" lang="es-MX" sz="2000" spc="-1" strike="noStrike">
                <a:solidFill>
                  <a:srgbClr val="000000"/>
                </a:solidFill>
                <a:latin typeface="Arial"/>
                <a:ea typeface="Arial"/>
              </a:rPr>
              <a:t>diferentes</a:t>
            </a:r>
            <a:r>
              <a:rPr b="0" lang="es-PE" sz="2000" spc="-1" strike="noStrike">
                <a:solidFill>
                  <a:srgbClr val="000000"/>
                </a:solidFill>
                <a:latin typeface="Arial"/>
                <a:ea typeface="Arial"/>
              </a:rPr>
              <a:t> niveles de atención con la participación del agente comunitario de salud, la participación de cada actor dependerá de la localización /categoría, capacidad resolutiva del establecimiento  y el nicho eco epidemiológico, para detectar y diagnosticar los casos de Enfermedad de Carrión. </a:t>
            </a:r>
            <a:endParaRPr b="0" lang="en-US" sz="2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2060"/>
                </a:solidFill>
                <a:uFillTx/>
                <a:latin typeface="Arial"/>
                <a:ea typeface="Arial"/>
              </a:rPr>
              <a:t>Criterio programac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2060"/>
                </a:solidFill>
                <a:latin typeface="Arial"/>
                <a:ea typeface="Arial"/>
              </a:rPr>
              <a:t>    </a:t>
            </a:r>
            <a:r>
              <a:rPr b="0" lang="es-PE" sz="2400" spc="-1" strike="noStrike">
                <a:solidFill>
                  <a:srgbClr val="002060"/>
                </a:solidFill>
                <a:latin typeface="Arial"/>
                <a:ea typeface="Arial"/>
              </a:rPr>
              <a:t>Estimar según tendencia de los últimos 5 años =, Numero de caso x 5.</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2 Rectángulo"/>
          <p:cNvSpPr/>
          <p:nvPr/>
        </p:nvSpPr>
        <p:spPr>
          <a:xfrm>
            <a:off x="395280" y="1052640"/>
            <a:ext cx="835344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a1f28"/>
                </a:solidFill>
                <a:latin typeface="Verdana"/>
              </a:rPr>
              <a:t>Persona protegida con Vacuna Antiamarilica (4398312)</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Verdana"/>
              </a:rPr>
              <a:t>Definición Operacional</a:t>
            </a:r>
            <a:r>
              <a:rPr b="1" lang="es-ES" sz="2000" spc="-1" strike="noStrike">
                <a:solidFill>
                  <a:srgbClr val="000000"/>
                </a:solidFill>
                <a:latin typeface="Verdana"/>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on las actividades que realiza el personal de los establecimientos de salud en el marco de la atención integral de las personas (niño, adolescente, adulto y adulto mayor), para garantizar la protección de enfermedad de fiebre amarilla, a través de la vacuna antiamarilica, un virus atenuado, que requiere conservación a temperatura de + 2º C a + 8º C y la conservación del frasco multidosis una vez abierto es de 6 hora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Verdana"/>
              </a:rPr>
              <a:t>Criterio de programación</a:t>
            </a:r>
            <a:r>
              <a:rPr b="0" lang="es-ES" sz="2000" spc="-1" strike="noStrike" u="sng">
                <a:solidFill>
                  <a:srgbClr val="000099"/>
                </a:solidFill>
                <a:uFillTx/>
                <a:latin typeface="Verdana"/>
              </a:rPr>
              <a:t>:</a:t>
            </a:r>
            <a:r>
              <a:rPr b="0" lang="es-ES" sz="2000" spc="-1" strike="noStrike">
                <a:solidFill>
                  <a:srgbClr val="000099"/>
                </a:solidFill>
                <a:latin typeface="Verdana"/>
              </a:rPr>
              <a:t> 100% de la población mayor de 2 años susceptibles que habitan en regiones endémicas o expulsoras para fiebre amarill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0" y="212760"/>
            <a:ext cx="8229600" cy="1208160"/>
          </a:xfrm>
          <a:prstGeom prst="rect">
            <a:avLst/>
          </a:prstGeom>
          <a:ln w="0">
            <a:noFill/>
          </a:ln>
        </p:spPr>
      </p:pic>
      <p:sp>
        <p:nvSpPr>
          <p:cNvPr id="422" name=""/>
          <p:cNvSpPr txBox="1"/>
          <p:nvPr/>
        </p:nvSpPr>
        <p:spPr>
          <a:xfrm>
            <a:off x="0" y="1599840"/>
            <a:ext cx="8229600" cy="4530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0000"/>
                </a:solidFill>
                <a:uFillTx/>
                <a:latin typeface="Arial"/>
                <a:ea typeface="Arial"/>
              </a:rPr>
              <a:t>Definición Operacional</a:t>
            </a:r>
            <a:r>
              <a:rPr b="1" lang="es-PE" sz="2400" spc="-1" strike="noStrike">
                <a:solidFill>
                  <a:srgbClr val="000000"/>
                </a:solidFill>
                <a:latin typeface="Arial"/>
                <a:ea typeface="Arial"/>
              </a:rPr>
              <a:t>: </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    </a:t>
            </a:r>
            <a:r>
              <a:rPr b="0" lang="es-PE" sz="2400" spc="-1" strike="noStrike">
                <a:solidFill>
                  <a:srgbClr val="000000"/>
                </a:solidFill>
                <a:latin typeface="Arial"/>
                <a:ea typeface="Arial"/>
              </a:rPr>
              <a:t>Es el conjunto de acciones que desarrollan los establecimientos de salud y las AISPED con el objetivo de prevenir y controlar la transmisión de fiebre amaril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002060"/>
                </a:solidFill>
                <a:uFillTx/>
                <a:latin typeface="Arial"/>
                <a:ea typeface="Arial"/>
              </a:rPr>
              <a:t>CRITERIO DE PROGRAMACION:</a:t>
            </a:r>
            <a:endParaRPr b="0" lang="en-US" sz="2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2060"/>
                </a:solidFill>
                <a:latin typeface="Arial"/>
                <a:ea typeface="Arial"/>
              </a:rPr>
              <a:t>    </a:t>
            </a:r>
            <a:r>
              <a:rPr b="0" lang="es-PE" sz="2800" spc="-1" strike="noStrike">
                <a:solidFill>
                  <a:srgbClr val="002060"/>
                </a:solidFill>
                <a:latin typeface="Arial"/>
                <a:ea typeface="Arial"/>
              </a:rPr>
              <a:t>Al 100  % de febriles ictéricos con signos de alarma residentes o procedentes de áreas de riesgo de transmisión de fiebre amarilla, según tendencia histórica de los 5 últimos años.</a:t>
            </a:r>
            <a:endParaRPr b="0" lang="en-US" sz="2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285840" y="360360"/>
            <a:ext cx="8858160" cy="1212840"/>
          </a:xfrm>
          <a:prstGeom prst="rect">
            <a:avLst/>
          </a:prstGeom>
          <a:ln w="0">
            <a:noFill/>
          </a:ln>
        </p:spPr>
      </p:pic>
      <p:sp>
        <p:nvSpPr>
          <p:cNvPr id="424" name=""/>
          <p:cNvSpPr txBox="1"/>
          <p:nvPr/>
        </p:nvSpPr>
        <p:spPr>
          <a:xfrm>
            <a:off x="250920" y="1628640"/>
            <a:ext cx="8229600" cy="4686480"/>
          </a:xfrm>
          <a:prstGeom prst="rect">
            <a:avLst/>
          </a:prstGeom>
          <a:noFill/>
          <a:ln w="0">
            <a:noFill/>
          </a:ln>
        </p:spPr>
        <p:txBody>
          <a:bodyPr anchor="t">
            <a:normAutofit/>
          </a:bodyPr>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0000"/>
                </a:solidFill>
                <a:uFillTx/>
                <a:latin typeface="Arial"/>
                <a:ea typeface="Arial"/>
              </a:rPr>
              <a:t>Definición Operacional</a:t>
            </a:r>
            <a:r>
              <a:rPr b="1" lang="es-PE" sz="2400" spc="-1" strike="noStrike">
                <a:solidFill>
                  <a:srgbClr val="000000"/>
                </a:solidFill>
                <a:latin typeface="Arial"/>
                <a:ea typeface="Arial"/>
              </a:rPr>
              <a:t>:</a:t>
            </a:r>
            <a:endParaRPr b="0" lang="en-US" sz="24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   </a:t>
            </a:r>
            <a:r>
              <a:rPr b="0" lang="es-PE" sz="2000" spc="-1" strike="noStrike">
                <a:solidFill>
                  <a:srgbClr val="000000"/>
                </a:solidFill>
                <a:latin typeface="Arial"/>
                <a:ea typeface="Arial"/>
              </a:rPr>
              <a:t>Actividad realizada por el personal de salud y agente comunitario capacitado en  la atención intra y extramuro para la identificación de las personas  con lesiones sospechosas de leishmaniosis, residentes ó procedentes de zonas endémicas. El diagnostico es principalmente clínico epidemiológico y de acuerdo al nivel de atención, a través de exámenes laboratoriales: parasitológico, (frotis, cultivo in vitro) y/o prueba de intradermorreacción. </a:t>
            </a:r>
            <a:endParaRPr b="0" lang="en-US" sz="20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u="sng">
                <a:solidFill>
                  <a:srgbClr val="002060"/>
                </a:solidFill>
                <a:uFillTx/>
                <a:latin typeface="Arial"/>
                <a:ea typeface="Arial"/>
              </a:rPr>
              <a:t>CRITERIO DE PROGRAMACION:</a:t>
            </a:r>
            <a:endParaRPr b="0" lang="en-US" sz="2000" spc="-1" strike="noStrike">
              <a:solidFill>
                <a:srgbClr val="000000"/>
              </a:solidFill>
              <a:latin typeface="Lucida Sans Unicode"/>
            </a:endParaRPr>
          </a:p>
          <a:p>
            <a:pPr marL="108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ea typeface="Arial"/>
              </a:rPr>
              <a:t>  </a:t>
            </a:r>
            <a:r>
              <a:rPr b="0" lang="es-PE" sz="2000" spc="-1" strike="noStrike">
                <a:solidFill>
                  <a:srgbClr val="002060"/>
                </a:solidFill>
                <a:latin typeface="Arial"/>
                <a:ea typeface="Arial"/>
              </a:rPr>
              <a:t>Total de casos de leishmaniosis, según tendencia mínima de 5 años anteriores x</a:t>
            </a:r>
            <a:r>
              <a:rPr b="0" lang="es-PE" sz="1600" spc="-1" strike="noStrike">
                <a:solidFill>
                  <a:srgbClr val="002060"/>
                </a:solidFill>
                <a:latin typeface="Arial"/>
                <a:ea typeface="Arial"/>
              </a:rPr>
              <a:t> </a:t>
            </a:r>
            <a:r>
              <a:rPr b="0" lang="es-PE" sz="2000" spc="-1" strike="noStrike">
                <a:solidFill>
                  <a:srgbClr val="002060"/>
                </a:solidFill>
                <a:latin typeface="Arial"/>
                <a:ea typeface="Arial"/>
              </a:rPr>
              <a:t>5.</a:t>
            </a:r>
            <a:endParaRPr b="0" lang="en-US" sz="2000" spc="-1" strike="noStrike">
              <a:solidFill>
                <a:srgbClr val="000000"/>
              </a:solidFill>
              <a:latin typeface="Lucida Sans Unicode"/>
            </a:endParaRPr>
          </a:p>
          <a:p>
            <a:pPr marL="108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128520" y="285840"/>
            <a:ext cx="8358120" cy="1135080"/>
          </a:xfrm>
          <a:prstGeom prst="rect">
            <a:avLst/>
          </a:prstGeom>
          <a:ln w="0">
            <a:noFill/>
          </a:ln>
        </p:spPr>
      </p:pic>
      <p:sp>
        <p:nvSpPr>
          <p:cNvPr id="426" name=""/>
          <p:cNvSpPr txBox="1"/>
          <p:nvPr/>
        </p:nvSpPr>
        <p:spPr>
          <a:xfrm>
            <a:off x="0" y="1599840"/>
            <a:ext cx="8229600" cy="4530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000000"/>
                </a:solidFill>
                <a:uFillTx/>
                <a:latin typeface="Arial"/>
                <a:ea typeface="Arial"/>
              </a:rPr>
              <a:t>Definición Operacional</a:t>
            </a:r>
            <a:r>
              <a:rPr b="1" lang="es-PE" sz="2200" spc="-1" strike="noStrike">
                <a:solidFill>
                  <a:srgbClr val="000000"/>
                </a:solidFill>
                <a:latin typeface="Arial"/>
                <a:ea typeface="Arial"/>
              </a:rPr>
              <a:t>: </a:t>
            </a:r>
            <a:endParaRPr b="0" lang="en-US" sz="22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a:ea typeface="Arial"/>
              </a:rPr>
              <a:t>    </a:t>
            </a:r>
            <a:r>
              <a:rPr b="0" lang="es-PE" sz="2200" spc="-1" strike="noStrike">
                <a:solidFill>
                  <a:srgbClr val="000000"/>
                </a:solidFill>
                <a:latin typeface="Arial"/>
                <a:ea typeface="Arial"/>
              </a:rPr>
              <a:t>Es el conjunto de intervenciones que realiza el personal de salud en la atención intra y extramuro para  la  </a:t>
            </a:r>
            <a:r>
              <a:rPr b="0" lang="es-MX" sz="2200" spc="-1" strike="noStrike">
                <a:solidFill>
                  <a:srgbClr val="000000"/>
                </a:solidFill>
                <a:latin typeface="Arial"/>
                <a:ea typeface="Arial"/>
              </a:rPr>
              <a:t>identificación</a:t>
            </a:r>
            <a:r>
              <a:rPr b="0" lang="es-PE" sz="2200" spc="-1" strike="noStrike">
                <a:solidFill>
                  <a:srgbClr val="000000"/>
                </a:solidFill>
                <a:latin typeface="Arial"/>
                <a:ea typeface="Arial"/>
              </a:rPr>
              <a:t> de las personas con sospecha clínica de la enfermedad de Chagas  en su fase asintomática o sintomático  y que reside o procede de zonas de transmisión. </a:t>
            </a:r>
            <a:endParaRPr b="0" lang="en-US" sz="22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002060"/>
                </a:solidFill>
                <a:uFillTx/>
                <a:latin typeface="Arial"/>
                <a:ea typeface="Arial"/>
              </a:rPr>
              <a:t>CRITERIOS DE PROGRAMACION:</a:t>
            </a:r>
            <a:endParaRPr b="0" lang="en-US" sz="2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2060"/>
                </a:solidFill>
                <a:latin typeface="Arial"/>
                <a:ea typeface="Arial"/>
              </a:rPr>
              <a:t>   </a:t>
            </a:r>
            <a:r>
              <a:rPr b="0" lang="es-PE" sz="2600" spc="-1" strike="noStrike">
                <a:solidFill>
                  <a:srgbClr val="002060"/>
                </a:solidFill>
                <a:latin typeface="Arial"/>
                <a:ea typeface="Arial"/>
              </a:rPr>
              <a:t>Según tendencia mínima de 5 años anteriores x 4.</a:t>
            </a:r>
            <a:endParaRPr b="0" lang="en-US" sz="2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Lucida Sans Unicode"/>
              </a:rPr>
              <a:t> </a:t>
            </a:r>
            <a:endParaRPr b="0" lang="en-US" sz="22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1 Rectángulo"/>
          <p:cNvSpPr/>
          <p:nvPr/>
        </p:nvSpPr>
        <p:spPr>
          <a:xfrm>
            <a:off x="442800" y="1628640"/>
            <a:ext cx="8363160" cy="35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Definición Operacional: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Intervenciones que realiza el personal de salud de los EESS, con el objetivo de vigilar e identificar a la madre gestante chagásica, para tomar muestra del RN y el seguimiento correspondiente: detección de los signos que pueden ser de aparición precoz en el período neonatal o tardío después de los 30 días. Para realizar los exámenes de laboratorio por serología, promedio 3 por RN</a:t>
            </a:r>
            <a:r>
              <a:rPr b="0" lang="es-ES" sz="2000" spc="-1" strike="noStrike">
                <a:solidFill>
                  <a:srgbClr val="000000"/>
                </a:solidFill>
                <a:latin typeface="Verdana"/>
              </a:rPr>
              <a: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Verdana"/>
              </a:rPr>
              <a:t>Criterios de programación: </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Verdana"/>
              </a:rPr>
              <a:t>El 100% de mujeres gestantes de área chagásica y/o procedentes de área chagásica</a:t>
            </a:r>
            <a:r>
              <a:rPr b="0" lang="es-ES" sz="1600" spc="-1" strike="noStrike">
                <a:solidFill>
                  <a:srgbClr val="000000"/>
                </a:solidFill>
                <a:latin typeface="Verdana"/>
              </a:rPr>
              <a: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1 Título"/>
          <p:cNvSpPr/>
          <p:nvPr/>
        </p:nvSpPr>
        <p:spPr>
          <a:xfrm>
            <a:off x="425520" y="503280"/>
            <a:ext cx="8229600" cy="914400"/>
          </a:xfrm>
          <a:prstGeom prst="rect">
            <a:avLst/>
          </a:prstGeom>
          <a:noFill/>
          <a:ln w="0">
            <a:noFill/>
          </a:ln>
        </p:spPr>
        <p:style>
          <a:lnRef idx="0"/>
          <a:fillRef idx="0"/>
          <a:effectRef idx="0"/>
          <a:fontRef idx="minor"/>
        </p:style>
        <p:txBody>
          <a:bodyPr lIns="90000" rIns="90000" tIns="46800" bIns="46800" anchor="ctr">
            <a:normAutofit fontScale="83000"/>
          </a:bodyPr>
          <a:p>
            <a:pPr marL="284400" indent="-28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a1f28"/>
                </a:solidFill>
                <a:latin typeface="Lucida Sans Unicode"/>
              </a:rPr>
              <a:t>Vigilancia en serológica </a:t>
            </a:r>
            <a:r>
              <a:rPr b="1" lang="es-ES" sz="2000" spc="-1" strike="noStrike">
                <a:solidFill>
                  <a:srgbClr val="da1f28"/>
                </a:solidFill>
                <a:latin typeface="Calibri"/>
              </a:rPr>
              <a:t>en</a:t>
            </a:r>
            <a:r>
              <a:rPr b="1" lang="es-ES" sz="2000" spc="-1" strike="noStrike">
                <a:solidFill>
                  <a:srgbClr val="da1f28"/>
                </a:solidFill>
                <a:latin typeface="Lucida Sans Unicode"/>
              </a:rPr>
              <a:t> gestantes de área endémica de Chagas (4398319</a:t>
            </a:r>
            <a:r>
              <a:rPr b="0" lang="es-ES" sz="2000" spc="-1" strike="noStrike">
                <a:solidFill>
                  <a:srgbClr val="da1f28"/>
                </a:solidFill>
                <a:latin typeface="Lucida Sans Unicode"/>
              </a:rPr>
              <a:t>)</a:t>
            </a:r>
            <a:r>
              <a:rPr b="1" lang="es-MX" sz="2000" spc="-1" strike="noStrike">
                <a:solidFill>
                  <a:srgbClr val="da1f28"/>
                </a:solidFill>
                <a:latin typeface="Lucida Sans Unicode"/>
                <a:ea typeface="Arial"/>
              </a:rPr>
              <a:t>:</a:t>
            </a:r>
            <a:br>
              <a:rPr sz="28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1 Rectángulo"/>
          <p:cNvSpPr/>
          <p:nvPr/>
        </p:nvSpPr>
        <p:spPr>
          <a:xfrm>
            <a:off x="250920" y="836640"/>
            <a:ext cx="8713800" cy="71852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92d050"/>
                </a:solidFill>
                <a:latin typeface="Calibri"/>
              </a:rPr>
              <a:t>Junta vecinal comunal capacitada que promueve acciones de promoción de la salud para la prevención y control de las enfermedades metaxénicas y zoonosis</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alibri"/>
              </a:rPr>
              <a:t> </a:t>
            </a:r>
            <a:r>
              <a:rPr b="1" lang="es-ES" sz="1800" spc="-1" strike="noStrike" u="sng">
                <a:solidFill>
                  <a:srgbClr val="000000"/>
                </a:solidFill>
                <a:uFillTx/>
                <a:latin typeface="Calibri"/>
                <a:ea typeface="SimSun-ExtB"/>
              </a:rPr>
              <a:t>Definición Operacional</a:t>
            </a:r>
            <a:r>
              <a:rPr b="1" lang="es-ES" sz="2400" spc="-1" strike="noStrike" u="sng">
                <a:solidFill>
                  <a:srgbClr val="000000"/>
                </a:solidFill>
                <a:uFillTx/>
                <a:latin typeface="Calibri"/>
              </a:rPr>
              <a:t>: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 </a:t>
            </a:r>
            <a:r>
              <a:rPr b="0" lang="es-PE" sz="1600" spc="-1" strike="noStrike">
                <a:solidFill>
                  <a:srgbClr val="000000"/>
                </a:solidFill>
                <a:latin typeface="Calibri"/>
              </a:rPr>
              <a:t>Esta actividad está dirigida a los representantes de Junta Vecinal Comunal y/o organizaciones sociales, líderes comunales y agentes comunitarios de salud que representa a la comunidad, la cual consiste en realizar reuniones de abogacía para informar, motivar y despertar interés en el tema; y realizar talleres de capacitación en vigilancia comunitaria y otras intervenciones efectivas de salud pública orientado a promover prácticas saludables como: Lavar, tapar y escobillar los recipientes, almacenamiento adecuado de agua, recojo  y disposición final de residuos sólidos,  limpieza y refacción de viviendas, Higiene personal, Higiene de los alimentos, uso de floreros con arena en lugar de agua, uso de mosquiteros, uso de repelentes, y promover entornos saludables para la prevención y control de las enfermedades metaxénicas, tenencia responsable  de animales de compañía,  crianza adecuada de animales de producción, control de roedores, limpieza y refacción de las viviendas, almacenamiento adecuado de granos, vacunación de animales,  recojo de residuos sólidos, eliminación de excretas, uso de mosquiteros, ordenamiento de la vivienda,  generando las condiciones necesarias para contribuir con la prevención y control de enfermedades metaxénicas y  zoonosis. Es realizada por el personal de salud capacitado, en el local comunal u otro espacio definido</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ff"/>
                </a:solidFill>
                <a:uFillTx/>
                <a:latin typeface="Calibri"/>
              </a:rPr>
              <a:t>Criterio de programación:</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ff"/>
                </a:solidFill>
                <a:latin typeface="Calibri"/>
              </a:rPr>
              <a:t>100% de las juntas vecinales  comunales  (comunidades) de los sectores  prioritarios (mapa de sectorización) de los distritos de riesgo de enfermedades metaxénicas y zoonosis (de acuerdo a la priorización que realice las instancias correspondientes de la Dirección Regional de Salud o quien haga sus veces</a:t>
            </a:r>
            <a:r>
              <a:rPr b="0" lang="es-PE" sz="1600" spc="-1" strike="noStrike">
                <a:solidFill>
                  <a:srgbClr val="0000ff"/>
                </a:solidFill>
                <a:latin typeface="Verdana"/>
              </a:rPr>
              <a:t>).</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ff"/>
                </a:solidFill>
                <a:latin typeface="Verdana"/>
              </a:rPr>
              <a:t> </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0" name="1 Título"/>
          <p:cNvSpPr/>
          <p:nvPr/>
        </p:nvSpPr>
        <p:spPr>
          <a:xfrm>
            <a:off x="457200" y="115920"/>
            <a:ext cx="8229600" cy="720720"/>
          </a:xfrm>
          <a:prstGeom prst="rect">
            <a:avLst/>
          </a:prstGeom>
          <a:noFill/>
          <a:ln w="0">
            <a:noFill/>
          </a:ln>
        </p:spPr>
        <p:style>
          <a:lnRef idx="0"/>
          <a:fillRef idx="0"/>
          <a:effectRef idx="0"/>
          <a:fontRef idx="minor"/>
        </p:style>
        <p:txBody>
          <a:bodyPr lIns="90000" rIns="90000" tIns="46800" bIns="46800" anchor="ctr">
            <a:normAutofit fontScale="88000"/>
          </a:bodyPr>
          <a:p>
            <a:pPr lvl="1" marL="40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1faecd"/>
                </a:solidFill>
                <a:latin typeface="Calibri"/>
              </a:rPr>
              <a:t>COMUNIDAD CON FACTORES DE RIESGO CONTROLADOS (3044119</a:t>
            </a:r>
            <a:r>
              <a:rPr b="1" lang="es-PE" sz="2000" spc="-1" strike="noStrike">
                <a:solidFill>
                  <a:srgbClr val="1faecd"/>
                </a:solidFill>
                <a:latin typeface="Arial"/>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1 Rectángulo"/>
          <p:cNvSpPr/>
          <p:nvPr/>
        </p:nvSpPr>
        <p:spPr>
          <a:xfrm>
            <a:off x="179280" y="260280"/>
            <a:ext cx="8785440" cy="54478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92d050"/>
                </a:solidFill>
                <a:latin typeface="Verdana"/>
              </a:rPr>
              <a:t>Agentes comunitarios de salud capacitados que promueve acciones de promoción de la salud para la prevención y control de las enfermedades metaxénicas y zoonosis</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Verdana"/>
              </a:rPr>
              <a:t>Definición operacional.-</a:t>
            </a:r>
            <a:r>
              <a:rPr b="0" lang="es-PE" sz="1600" spc="-1" strike="noStrike">
                <a:solidFill>
                  <a:srgbClr val="000000"/>
                </a:solidFill>
                <a:latin typeface="Verdana"/>
              </a:rPr>
              <a:t> Esta actividad está dirigida a  los Agentes comunitarios de Salud y consiste en realizar talleres de capacitación para  fortalecer la organización comunal e implementar la vigilancia comunitaria  orientada a la realización de prácticas saludables  como: Lavar, tapar y escobillar los recipientes, almacenamiento adecuado de agua, recojo  y disposición final de residuos sólidos,  limpieza y refacción de viviendas, Higiene personal, Higiene de los alimentos, uso de floreros con arena en lugar de agua, uso de mosquiteros, uso de repelentes,  y promover entornos saludables para la prevención y control de las enfermedades metaxénicas. Tenencia responsable  de animales de compañía,  crianza adecuada de animales de producción, control de roedores, limpieza y refacción de las viviendas, almacenamiento adecuado de granos, vacunación de animales,  recojo de residuos sólidos, eliminación de excretas, uso de mosquiteros, ordenamiento de la vivienda  generando las condiciones necesarias para contribuir con la prevención y control de enfermedades metaxénicas y zoonnosis..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ff"/>
                </a:solidFill>
                <a:uFillTx/>
                <a:latin typeface="Verdana"/>
              </a:rPr>
              <a:t>Criterio de programación:</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ff"/>
                </a:solidFill>
                <a:latin typeface="Verdana"/>
              </a:rPr>
              <a:t>100% de los agentes comunitarios de salud  de los sectores  prioritarios (mapa de sectorización) de los distritos de riesgo de  enfermedades metaxénicas y zoonosis (de acuerdo a la priorización que realice las instancias correspondientes de la Dirección Regional de Salud o quien haga sus vec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2 Título" descr=""/>
          <p:cNvPicPr/>
          <p:nvPr/>
        </p:nvPicPr>
        <p:blipFill>
          <a:blip r:embed="rId1"/>
          <a:stretch/>
        </p:blipFill>
        <p:spPr>
          <a:xfrm>
            <a:off x="334800" y="274680"/>
            <a:ext cx="8352000" cy="1146240"/>
          </a:xfrm>
          <a:prstGeom prst="rect">
            <a:avLst/>
          </a:prstGeom>
          <a:ln w="0">
            <a:noFill/>
          </a:ln>
        </p:spPr>
      </p:pic>
      <p:pic>
        <p:nvPicPr>
          <p:cNvPr id="377" name="Picture 2" descr=""/>
          <p:cNvPicPr/>
          <p:nvPr/>
        </p:nvPicPr>
        <p:blipFill>
          <a:blip r:embed="rId2"/>
          <a:stretch/>
        </p:blipFill>
        <p:spPr>
          <a:xfrm>
            <a:off x="250920" y="1268280"/>
            <a:ext cx="8497800" cy="5113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1 Rectángulo" descr=""/>
          <p:cNvPicPr/>
          <p:nvPr/>
        </p:nvPicPr>
        <p:blipFill>
          <a:blip r:embed="rId1"/>
          <a:stretch/>
        </p:blipFill>
        <p:spPr>
          <a:xfrm>
            <a:off x="2468520" y="2762280"/>
            <a:ext cx="4206960" cy="187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2 Título" descr=""/>
          <p:cNvPicPr/>
          <p:nvPr/>
        </p:nvPicPr>
        <p:blipFill>
          <a:blip r:embed="rId1"/>
          <a:stretch/>
        </p:blipFill>
        <p:spPr>
          <a:xfrm>
            <a:off x="334800" y="274680"/>
            <a:ext cx="8352000" cy="706320"/>
          </a:xfrm>
          <a:prstGeom prst="rect">
            <a:avLst/>
          </a:prstGeom>
          <a:ln w="0">
            <a:noFill/>
          </a:ln>
        </p:spPr>
      </p:pic>
      <p:pic>
        <p:nvPicPr>
          <p:cNvPr id="379" name="Picture 2" descr=""/>
          <p:cNvPicPr/>
          <p:nvPr/>
        </p:nvPicPr>
        <p:blipFill>
          <a:blip r:embed="rId2"/>
          <a:stretch/>
        </p:blipFill>
        <p:spPr>
          <a:xfrm>
            <a:off x="611280" y="907920"/>
            <a:ext cx="8137440" cy="568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2 Título" descr=""/>
          <p:cNvPicPr/>
          <p:nvPr/>
        </p:nvPicPr>
        <p:blipFill>
          <a:blip r:embed="rId1"/>
          <a:stretch/>
        </p:blipFill>
        <p:spPr>
          <a:xfrm>
            <a:off x="487440" y="274680"/>
            <a:ext cx="8199360" cy="993600"/>
          </a:xfrm>
          <a:prstGeom prst="rect">
            <a:avLst/>
          </a:prstGeom>
          <a:ln w="0">
            <a:noFill/>
          </a:ln>
        </p:spPr>
      </p:pic>
      <p:graphicFrame>
        <p:nvGraphicFramePr>
          <p:cNvPr id="381" name=""/>
          <p:cNvGraphicFramePr/>
          <p:nvPr/>
        </p:nvGraphicFramePr>
        <p:xfrm>
          <a:off x="611280" y="1484280"/>
          <a:ext cx="7848360" cy="3673440"/>
        </p:xfrm>
        <a:graphic>
          <a:graphicData uri="http://schemas.openxmlformats.org/drawingml/2006/table">
            <a:tbl>
              <a:tblPr/>
              <a:tblGrid>
                <a:gridCol w="3924360"/>
                <a:gridCol w="3924000"/>
              </a:tblGrid>
              <a:tr h="51768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Calibri"/>
                        </a:rPr>
                        <a:t>PRODUCTO</a:t>
                      </a:r>
                      <a:endParaRPr b="0" lang="en-US" sz="12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33cc3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Calibri"/>
                        </a:rPr>
                        <a:t>SUB PRODUCTO</a:t>
                      </a:r>
                      <a:endParaRPr b="0" lang="en-US" sz="12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33cc33"/>
                    </a:solidFill>
                  </a:tcPr>
                </a:tc>
              </a:tr>
              <a:tr h="492120">
                <a:tc rowSpan="2">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3043982. VACUNACION DE ANIMALES DOMESTICOS</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CANES VACUNADO CONTRA LA RABIA  </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872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GANADO DE IMPORTANCIA ECONÓMICA (VACUNOS, CAPRINOS, OTROS) DE AÉREAS DE RIESGO DE BRUCELA, CARBUNCO, RABIA SILVESTRE SON VACUNADOS</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87680">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3044119. COMUNIDAD CON FACTORES DE RIESGO CONTROLADOS</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COMUNIDAD ORGANIZADA PROMUEVE PRÁCTICAS PARA LA PREVENCIÓN Y CONTROL DE ENFERMEDADES METAXÉNICAS</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r>
              <a:tr h="7887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COMUNIDAD ORGANIZADA PROMUEVE PRÁCTICAS PARA LA PREVENCIÓN Y CONTROL DE ENFERMEDADES ZOONÓTICAS</a:t>
                      </a:r>
                      <a:endParaRPr b="0" lang="en-US" sz="900" spc="-1" strike="noStrike">
                        <a:solidFill>
                          <a:srgbClr val="000000"/>
                        </a:solidFill>
                        <a:latin typeface="Verdana"/>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1 Rectángulo"/>
          <p:cNvSpPr/>
          <p:nvPr/>
        </p:nvSpPr>
        <p:spPr>
          <a:xfrm>
            <a:off x="1332000" y="3105000"/>
            <a:ext cx="633564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PE" sz="2400" spc="-1" strike="noStrike">
                <a:solidFill>
                  <a:srgbClr val="000000"/>
                </a:solidFill>
                <a:latin typeface="Verdana"/>
                <a:ea typeface="Arial"/>
              </a:rPr>
              <a:t>CARTERA DE SERVICIOS POR PRODUCTOS Y SUB PRODUCTOS</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
          <p:cNvPicPr/>
          <p:nvPr/>
        </p:nvPicPr>
        <p:blipFill>
          <a:blip r:embed="rId1"/>
          <a:stretch/>
        </p:blipFill>
        <p:spPr>
          <a:xfrm>
            <a:off x="457200" y="333360"/>
            <a:ext cx="8229600" cy="561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
          <p:cNvPicPr/>
          <p:nvPr/>
        </p:nvPicPr>
        <p:blipFill>
          <a:blip r:embed="rId1"/>
          <a:stretch/>
        </p:blipFill>
        <p:spPr>
          <a:xfrm>
            <a:off x="395280" y="620640"/>
            <a:ext cx="84247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14:29:35Z</dcterms:created>
  <dc:creator>OFFICE2003</dc:creator>
  <dc:description/>
  <dc:language>en-US</dc:language>
  <cp:lastModifiedBy>dhuaman</cp:lastModifiedBy>
  <cp:lastPrinted>2014-06-20T13:42:36Z</cp:lastPrinted>
  <dcterms:modified xsi:type="dcterms:W3CDTF">2014-06-20T13:43:53Z</dcterms:modified>
  <cp:revision>161</cp:revision>
  <dc:subject/>
  <dc:title>CRITERIOS DE PROGRAMACION</dc:title>
</cp:coreProperties>
</file>